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14E9-C758-4DA2-A945-1A43C76F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C314-553D-4133-98B3-B9C96124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0250-2728-41E0-88D4-1E887E292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9038-E362-4EBC-87C7-C0C63957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6099-7D39-48B4-A7BE-6573BD8F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8782-0B69-4B66-B1FE-8D6C69F4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EBFC-D748-4107-88F2-8C5E7E0F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207F-2BFD-400A-A198-D09815DE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A282-154E-4DAF-9E15-6AFD3EE8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DB96-5832-422C-AA5E-6CC09862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7147-9A32-4161-BD97-33304775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5678-C09F-484C-81D8-253E66B3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D8F7-02B2-46C6-9416-93D5D57F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9DA1-7A8B-4BAE-BE1A-820C39A9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02E3-99A3-468B-B14D-8426DAA2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06C3-2E4C-4119-AF60-06635847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5305-CB25-4F9D-8505-6C412A26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BF23-EB98-4883-9663-5BBB0D76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040F-6634-445B-B14B-EE72A264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4DDD-0111-4CF5-B5FE-220E9FD1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4BCA-BC6B-4ACA-9865-AE2C12D6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14D-EA91-416C-97E4-28922209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7A72-23B2-466E-8094-4850B2A2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F9D5-27D8-4B69-83B5-6C408375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DE3F-54A5-44D1-91FF-16AA16486105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60BF-4E61-4804-A7AB-032F5790000D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9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5.pct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482400"/>
                </a:solidFill>
                <a:latin typeface="Times New Roman"/>
              </a:rPr>
              <a:t>Métodos estadísticos de exploración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CP: Análisis de componentes princip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fesor: Rodrigo Assar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482400"/>
                </a:solidFill>
                <a:latin typeface="Times New Roman"/>
              </a:rPr>
              <a:t>Dato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triz de da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triz de covarianzas (emp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ricas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105520" y="1523880"/>
                <a:ext cx="304308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p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p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⋮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  <m:e>
                          <m:r>
                            <m:t xml:space="preserve">⋱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np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313240" y="3359160"/>
                <a:ext cx="31654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p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p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⋮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  <m:e>
                          <m:r>
                            <m:t xml:space="preserve">⋱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p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066680" y="5105520"/>
                <a:ext cx="22860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i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  <m:limUpp>
                      <m:e/>
                      <m:lim>
                        <m:r>
                          <m:t xml:space="preserve">2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495680" y="5105520"/>
                <a:ext cx="35053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i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482400"/>
                </a:solidFill>
                <a:latin typeface="Times New Roman"/>
              </a:rPr>
              <a:t>Las componentes principales 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s variables: combinaciones lineales de origin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eficientes elegidos para maximizar la varianza empírica, con norma igual a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varianza entre ejes principales distintos es c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370320" y="2030400"/>
                <a:ext cx="47498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658880" y="4246560"/>
                <a:ext cx="622944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¹</m:t>
                                </m:r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</m:e>
                            </m:acc>
                          </m:e>
                        </m:nary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00200" y="5334120"/>
                <a:ext cx="4114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acc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482400"/>
                </a:solidFill>
                <a:latin typeface="Times New Roman"/>
              </a:rPr>
              <a:t>Elección de coeficiente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0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alores propios de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ectores propios asoci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legidos ortonorm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ara i de 1 a 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ar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v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e denominan componentes principales a las proyecciones de los datos en los ejes princip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888160" y="2236680"/>
                <a:ext cx="16556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886200" y="3200400"/>
                <a:ext cx="12222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09560" y="1828800"/>
                <a:ext cx="2857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…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82400"/>
                </a:solidFill>
                <a:latin typeface="Times New Roman"/>
              </a:rPr>
              <a:t>Información aportada por componentes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rción de la varianza total explicada por la j-ésima compon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rción explicada por las primeras m compon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675320" y="2743200"/>
                <a:ext cx="3525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429000" y="5029200"/>
                <a:ext cx="3657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ι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82400"/>
                </a:solidFill>
                <a:latin typeface="Times New Roman"/>
              </a:rPr>
              <a:t>Relación: variables nuevas, originales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22860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ualmente, antes de realizar el ACP se modifica X restando a cada valor en la j-ésima columna el promedio en dicha columna y dividiendo por         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 este modo var(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=1,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írculo de correlacion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505320" y="1371600"/>
                <a:ext cx="3276360" cy="14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κ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r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κ</m:t>
                                </m:r>
                              </m:sub>
                            </m:sSub>
                          </m:e>
                        </m:rad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j</m:t>
                                </m:r>
                              </m:sub>
                            </m:sSub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791320" y="3429000"/>
                <a:ext cx="6094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j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447920" y="4419720"/>
                <a:ext cx="2743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r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κ</m:t>
                            </m:r>
                          </m:sub>
                        </m:sSub>
                      </m:e>
                    </m:rad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Círculo de correlaciones: Ejemplo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88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eje horizontal corresponde al valor de la correlación con la primera componente principal, el vertical respecto a la segunda compo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observa por ejemplo que corr(e,F1) es cercana a 1, corr(e,F2) es positiva pero cercana a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66680" y="1905120"/>
          <a:ext cx="4038840" cy="38829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1905120"/>
                    <a:ext cx="403884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P Milenio</cp:lastModifiedBy>
  <cp:lastPrinted>2009-04-22T19:24:48Z</cp:lastPrinted>
  <dcterms:modified xsi:type="dcterms:W3CDTF">2007-06-11T17:14:47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