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embeddings/oleObject3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D256-6A3A-4267-8225-6549EFA33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D1D2-E5C0-4C19-8D4E-4E57CCDE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2AF2-5EE0-4785-8CA8-08C271ED1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5FAF-C9D5-40B6-86BD-C4B1DF25B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6128-E378-42F2-95B5-53214F427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8675-4B2B-4319-A65C-D0F1CB22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20FE-504F-4DBB-8F06-64744BC6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16B5-EA76-48F7-A60C-DB9B8972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6D4C-5DEE-452C-A7C7-11623BDC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5DC2-5BF0-4152-B53C-C6DB9369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9FC7-1142-42A2-BE5D-F1AC1A66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0BA7-AD9F-4CD6-A752-855D1C76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6815-6A9E-427A-A6AE-0606D9DD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FE50-4CA3-4C17-81CA-F2E405F1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351B-9DF7-4C5F-8763-29E8388E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29BC-9FA1-4A88-B78C-61B88143A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635A-DCA0-4353-84BE-8602BE584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034C-FC86-4BDF-81BD-FF100F86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1783-A3A1-44CA-8D74-6F10F4C6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DCBE-F134-4C17-8D74-B752FC98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D45D-62E1-457C-9B64-2FEAF7FC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725B-17E3-419C-A1FD-DCA658E6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FDDE-3B2E-4564-8D03-071F75F4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B251-E119-42AB-A13D-20E72EDC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5CB7-D9E3-4F2A-9B4B-7B7FF91A9532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8B69-FE2E-4D58-9211-12275E77D168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82760" y="4691160"/>
            <a:ext cx="2829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ncy Lacourl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3863880" y="570852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junio 200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332000" y="1219320"/>
            <a:ext cx="7049880" cy="27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SOCIACIÓN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NTRE DOS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ARIABLES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6A63-0633-46A2-8F41-CB01E12E7B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611280" y="1557360"/>
          <a:ext cx="8129520" cy="502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557360"/>
                    <a:ext cx="8129520" cy="50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79280" y="44280"/>
            <a:ext cx="905040" cy="905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67360" y="189000"/>
            <a:ext cx="1881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4c2b"/>
                </a:solidFill>
                <a:latin typeface="Times New Roman"/>
              </a:rPr>
              <a:t>¡OJO!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8313-CC84-4DD7-BDDB-4435CB8C53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141560" y="1484280"/>
          <a:ext cx="688644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1560" y="1484280"/>
                    <a:ext cx="688644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179280" y="44280"/>
            <a:ext cx="905040" cy="9050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867360" y="189000"/>
            <a:ext cx="1881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4c2b"/>
                </a:solidFill>
                <a:latin typeface="Times New Roman"/>
              </a:rPr>
              <a:t>¡OJO!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A4FA-3D74-4193-AE3C-1824FFEB05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1090440" y="1197000"/>
          <a:ext cx="7010640" cy="538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1197000"/>
                    <a:ext cx="7010640" cy="53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79280" y="44280"/>
            <a:ext cx="905040" cy="9050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867360" y="189000"/>
            <a:ext cx="1881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4c2b"/>
                </a:solidFill>
                <a:latin typeface="Times New Roman"/>
              </a:rPr>
              <a:t>¡OJO!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A4D1-ED69-4D69-9475-B2DCBEDF1D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95640" y="-27360"/>
            <a:ext cx="532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1" i="1" lang="es-ES" sz="4800" spc="-1" strike="noStrike">
                <a:solidFill>
                  <a:srgbClr val="ffffff"/>
                </a:solidFill>
                <a:latin typeface="Times New Roman"/>
              </a:rPr>
              <a:t>2 de Contingencia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68360" y="3932640"/>
            <a:ext cx="47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nij es el efectivo de Ai</a:t>
            </a:r>
            <a:r>
              <a:rPr b="1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Bj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ni</a:t>
            </a:r>
            <a:r>
              <a:rPr b="1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  es el efectivo de Ai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j  es el efectivo de Bj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4600" y="1729440"/>
            <a:ext cx="526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x e y dos variables cualitativa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x con q grupos: A1, A2,…, Aq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y con r grupos: B1, B2,…, 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3920" y="5709240"/>
            <a:ext cx="348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n es el efectivo tot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C3A0-F8BD-4311-804A-57C7085120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835280" y="1125360"/>
                <a:ext cx="5181480" cy="238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⋅</m:t>
                                    </m:r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sub>
                                </m:sSub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⋅</m:t>
                                    </m:r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sub>
                                </m:sSub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1942200" y="4332240"/>
            <a:ext cx="526176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Q tiene una distribución asintótic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2 a (q-1)(r-1) grados de liberta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Q </a:t>
            </a:r>
            <a:r>
              <a:rPr b="1" i="1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 [ 0, n (min(q,r)-1) ]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5CF3-33AD-4AEB-B74F-A5D1218050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14280" y="1057680"/>
            <a:ext cx="86954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Suponiendo que q </a:t>
            </a: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 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Si Q = 0 =&gt; independenci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Si Q = 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n (q-1)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=&gt; relación funcional de y hacia x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116000" y="3301920"/>
                <a:ext cx="61927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alo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&gt;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BF37-1A42-45F4-A996-3E5FE70C3E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1619280" y="907920"/>
          <a:ext cx="6124680" cy="2765520"/>
        </p:xfrm>
        <a:graphic>
          <a:graphicData uri="http://schemas.openxmlformats.org/drawingml/2006/table">
            <a:tbl>
              <a:tblPr/>
              <a:tblGrid>
                <a:gridCol w="874800"/>
                <a:gridCol w="874800"/>
                <a:gridCol w="874800"/>
                <a:gridCol w="876240"/>
                <a:gridCol w="874800"/>
                <a:gridCol w="874440"/>
                <a:gridCol w="87480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CL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CL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CL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CL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CL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CL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CL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CL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CL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2761560" y="4365000"/>
            <a:ext cx="36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q=4; r=5; (q-1)(r-1)=1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87560" y="5028840"/>
            <a:ext cx="341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Q = 315 = 105</a:t>
            </a: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3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El p-valor es igual a 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9C46-C33B-4D69-8FAA-B1EB321893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1828800" y="620640"/>
          <a:ext cx="5622840" cy="2652840"/>
        </p:xfrm>
        <a:graphic>
          <a:graphicData uri="http://schemas.openxmlformats.org/drawingml/2006/table">
            <a:tbl>
              <a:tblPr/>
              <a:tblGrid>
                <a:gridCol w="803160"/>
                <a:gridCol w="803520"/>
                <a:gridCol w="803160"/>
                <a:gridCol w="803160"/>
                <a:gridCol w="803520"/>
                <a:gridCol w="803160"/>
                <a:gridCol w="803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CL" sz="22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CL" sz="22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CL" sz="22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CL" sz="22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CL" sz="22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CL" sz="22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9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CL" sz="22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CL" sz="22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CL" sz="22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4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2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3069000" y="3859560"/>
            <a:ext cx="31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q=4; r=5; (q-1)(r-1)=1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64480" y="4804560"/>
            <a:ext cx="264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Q = 1.5563 </a:t>
            </a:r>
            <a:r>
              <a:rPr b="1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 0;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55640" y="5711040"/>
            <a:ext cx="40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El p-valor es igual a 0.999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A9BD-A10D-471F-9C69-1E7B5591EA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1692360" y="260280"/>
          <a:ext cx="6264360" cy="2652840"/>
        </p:xfrm>
        <a:graphic>
          <a:graphicData uri="http://schemas.openxmlformats.org/drawingml/2006/table">
            <a:tbl>
              <a:tblPr/>
              <a:tblGrid>
                <a:gridCol w="728640"/>
                <a:gridCol w="730080"/>
                <a:gridCol w="728640"/>
                <a:gridCol w="728640"/>
                <a:gridCol w="728640"/>
                <a:gridCol w="730440"/>
                <a:gridCol w="728640"/>
                <a:gridCol w="1160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CL" sz="22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CL" sz="22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CL" sz="22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CL" sz="22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CL" sz="22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CL" sz="22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CL" sz="22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9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CL" sz="22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CL" sz="22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CL" sz="22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4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8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2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714240" y="3211920"/>
            <a:ext cx="76028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743200"/>
                <a:tab algn="r" pos="459108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as columnas B5 y B6 provienen de la división de la columna B5 de la tabla anterior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2743200"/>
                <a:tab algn="r" pos="459108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q=4; r=6; (q-1)(r-1)=15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71400" y="4858920"/>
            <a:ext cx="403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Q = 1.55 </a:t>
            </a:r>
            <a:r>
              <a:rPr b="1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 0;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El p-valor es igual a 0.999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4120" y="5986440"/>
            <a:ext cx="801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r" pos="44928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Times New Roman"/>
              </a:rPr>
              <a:t>NO CAMBIA EL VALOR DE Q CUANDO SE AGREGAN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44928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Times New Roman"/>
              </a:rPr>
              <a:t>DOS COLUMNAS (O FILAS) PROPORCIONAL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8C14-C887-49FB-9D0F-F86021EAF2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580040" y="421920"/>
            <a:ext cx="58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Times New Roman"/>
              </a:rPr>
              <a:t>RAZÓN DE CORRELACIÓ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2840" y="1696680"/>
            <a:ext cx="812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Y  una variable cuantitativ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X una variable cualitativa     (q grupos, G1, G2,…,Gq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790800" y="2997360"/>
                <a:ext cx="19335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nary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787920" y="4076640"/>
                <a:ext cx="21524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q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nary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925920" y="3169440"/>
            <a:ext cx="270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Varianza Total =</a:t>
            </a:r>
            <a:r>
              <a:rPr b="0" lang="es-ES" sz="1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71640" y="420624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Varianza Inter =</a:t>
            </a:r>
            <a:r>
              <a:rPr b="0" lang="es-ES" sz="1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42920" y="5379480"/>
            <a:ext cx="26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Varianza Intra =</a:t>
            </a:r>
            <a:r>
              <a:rPr b="0" lang="es-ES" sz="1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780000" y="5229360"/>
                <a:ext cx="215244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q</m:t>
                        </m:r>
                      </m:sup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6080040" y="5289480"/>
                <a:ext cx="16956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q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1056-22FD-47E4-8365-038BE97C07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63640" y="1340640"/>
            <a:ext cx="5834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</a:rPr>
              <a:t>EL COEFICIENTE DE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</a:rPr>
              <a:t>CORRELACIÓN LINEA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4C91-4636-473F-8E4E-EC76ECC145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042920" y="907920"/>
                <a:ext cx="698508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arianza</m:t>
                        </m:r>
                        <m:r>
                          <m:rPr>
                            <m:lit/>
                            <m:nor/>
                          </m:rPr>
                          <m:t xml:space="preserve">Inte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arianza</m:t>
                        </m:r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132000" y="3429000"/>
                <a:ext cx="33051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81A7-A6BA-4BD9-9B7C-4165A25CB8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1038240" y="639720"/>
          <a:ext cx="7278840" cy="495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8240" y="639720"/>
                    <a:ext cx="7278840" cy="49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D46A-BF6E-44B2-8E2F-A6B402E32B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1187280" y="1341360"/>
          <a:ext cx="6913800" cy="43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341360"/>
                    <a:ext cx="69138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1E62-36D7-4B50-A1E5-2C0CD0257D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2195640" y="404640"/>
          <a:ext cx="5257800" cy="394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404640"/>
                    <a:ext cx="5257800" cy="39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3211920" y="5299560"/>
            <a:ext cx="32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articionando el abscis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C418-C918-4CCE-A771-6520B8529E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1187280" y="907920"/>
          <a:ext cx="6697800" cy="482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907920"/>
                    <a:ext cx="669780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5596-B019-4CF1-AE4C-CD03C52DE11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6360" y="301680"/>
            <a:ext cx="319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muestra bivariad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995640" y="189000"/>
                <a:ext cx="4905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0" y="6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403280" y="1268280"/>
                <a:ext cx="2610000" cy="131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1800" y="19436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756320" y="1197000"/>
                <a:ext cx="269532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0" y="370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903320" y="2835360"/>
                <a:ext cx="4829400" cy="13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,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0" y="502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68360" y="4221000"/>
                <a:ext cx="5800680" cy="20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0" y="709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588000" y="4869000"/>
                <a:ext cx="251460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8A07-9BBF-4393-9D83-75E65C065F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79280" y="1317600"/>
          <a:ext cx="4321440" cy="37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317600"/>
                    <a:ext cx="4321440" cy="37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572000" y="1244520"/>
          <a:ext cx="4464000" cy="384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44520"/>
                    <a:ext cx="4464000" cy="38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B2A5-AA20-4F5E-B6ED-12A76C30EC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4920" y="822240"/>
          <a:ext cx="4537080" cy="40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822240"/>
                    <a:ext cx="4537080" cy="40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643280" y="836640"/>
          <a:ext cx="4538880" cy="402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836640"/>
                    <a:ext cx="4538880" cy="40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E012-F9D3-40E7-96D1-23FC0F05F6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-36360" y="1006560"/>
          <a:ext cx="467964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360" y="1006560"/>
                    <a:ext cx="467964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788000" y="981000"/>
          <a:ext cx="4321080" cy="394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981000"/>
                    <a:ext cx="4321080" cy="39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3A44-A238-4457-B92A-0A099E7939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04840" y="189000"/>
            <a:ext cx="2819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4c2b"/>
                </a:solidFill>
                <a:latin typeface="Times New Roman"/>
              </a:rPr>
              <a:t>¡OJO!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11280" y="2276640"/>
          <a:ext cx="4037040" cy="298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76640"/>
                    <a:ext cx="4037040" cy="29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5508720" y="1484280"/>
          <a:ext cx="2678040" cy="1981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8720" y="1484280"/>
                    <a:ext cx="26780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1403280" y="98100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Relación lineal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51640" y="69228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Cierta relación lineal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04000" y="981000"/>
            <a:ext cx="0" cy="287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508720" y="3716280"/>
          <a:ext cx="2678040" cy="19810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08720" y="3716280"/>
                    <a:ext cx="26780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5219640" y="6237360"/>
            <a:ext cx="309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No existe relación lineal: hay una relación no lineal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732720" y="5734080"/>
            <a:ext cx="0" cy="504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66920" y="1341360"/>
            <a:ext cx="0" cy="719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179280" y="44280"/>
            <a:ext cx="905040" cy="90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11E3-B64D-46F1-9BA7-B3BA81F82F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1187280" y="1700280"/>
          <a:ext cx="741708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741708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79280" y="44280"/>
            <a:ext cx="905040" cy="9050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67360" y="189000"/>
            <a:ext cx="1881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4c2b"/>
                </a:solidFill>
                <a:latin typeface="Times New Roman"/>
              </a:rPr>
              <a:t>¡OJO!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E596-88D0-46CD-9AB6-FAF3EA1AEE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905040" cy="9050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867360" y="189000"/>
            <a:ext cx="1881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4c2b"/>
                </a:solidFill>
                <a:latin typeface="Times New Roman"/>
              </a:rPr>
              <a:t>¡OJO!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042920" y="1557360"/>
          <a:ext cx="7345440" cy="48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557360"/>
                    <a:ext cx="734544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E29B-AEFF-46C1-9C11-F1BA7A6E27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8T15:55:10Z</dcterms:created>
  <dc:creator>Juan Muñoz</dc:creator>
  <dc:description/>
  <dc:language>en-US</dc:language>
  <cp:lastModifiedBy>Nancy Lacourly</cp:lastModifiedBy>
  <dcterms:modified xsi:type="dcterms:W3CDTF">2004-05-31T21:50:34Z</dcterms:modified>
  <cp:revision>142</cp:revision>
  <dc:subject/>
  <dc:title>Sin título de diapositiva</dc:title>
</cp:coreProperties>
</file>