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CC6-814D-44A7-91D6-A94D2FC3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0C1-57DD-4E14-897E-8435ECC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302-832D-4D57-B815-A58C0D91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959-B5D0-4722-BF4B-173BD9E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F8A-42BF-4E10-9723-61506C80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369-EA6C-40EE-B06D-A71BE79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26B-1DC3-4965-845B-7A09410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6BE-2C35-44D3-81ED-00EB2879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3A2-7C18-4B7C-8BB6-223E004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5B6-7F52-480A-A1CE-293CE906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D2D-C86F-4C41-BE35-E5BC8AA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7FD-3659-42C3-A1BF-794B5DE8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3180-2572-48BC-B05C-0A5BBC88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6684-0645-4257-B8BE-A66980A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C74-3F3A-48BD-9145-46D7731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0571-E837-4549-9E30-3BAD418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634-F287-4430-A4F7-EA2AF2DB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92D-EBB5-47AE-8378-41F03A1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5C5-510C-45BF-9803-74355BDF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5AC-1E0B-451A-9733-94EC82F2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5F7-60CA-4B31-A8D1-37ED839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87F-8336-4E72-882E-38C8384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259-EB6A-426F-A806-436B120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F94-AE54-4044-B03C-D7032AE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E30-06AB-4F36-A542-E2D3EF30E2F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205D-A3EE-4F18-AB6B-7A13286878D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82760" y="4691160"/>
            <a:ext cx="2829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708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1219320"/>
            <a:ext cx="704988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OCIACIÓN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TRE DOS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RIAB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44F-73F4-432B-A90D-62BA44A987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11280" y="1557360"/>
          <a:ext cx="812952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812952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7C6-9D18-4E77-9BB4-8874197A8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1560" y="1484280"/>
          <a:ext cx="6886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1484280"/>
                    <a:ext cx="6886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5F7-06BD-4DA3-8BEC-782CF0734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90440" y="1197000"/>
          <a:ext cx="701064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197000"/>
                    <a:ext cx="701064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DFB-4645-46A3-8814-51E3BF305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95640" y="-27360"/>
            <a:ext cx="532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2 de Contingencia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932640"/>
            <a:ext cx="47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ij es el efectivo de Ai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B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 es el efectivo de A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j  es el efectivo de B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4600" y="1729440"/>
            <a:ext cx="526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x e y dos variables cualitativ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x con q grupos: A1, A2,…, A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y con r grupos: B1, B2,…, 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920" y="5709240"/>
            <a:ext cx="34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 es el efectivo tot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563-8B57-41B4-A001-50555ACBA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835280" y="1125360"/>
                <a:ext cx="5181480" cy="23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942200" y="4332240"/>
            <a:ext cx="52617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Q tiene una distribución asintó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 a (q-1)(r-1) grados de libert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i="1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[ 0, n (min(q,r)-1)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65F-387A-4866-AF86-CFFC26864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4280" y="1057680"/>
            <a:ext cx="8695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poniendo que q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 Q = 0 =&gt; independenc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 Q =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n (q-1)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=&gt; relación funcional de y hacia x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16000" y="3301920"/>
                <a:ext cx="6192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04B-70B1-48BE-B10B-C9704B18E3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619280" y="907920"/>
          <a:ext cx="6124680" cy="2765520"/>
        </p:xfrm>
        <a:graphic>
          <a:graphicData uri="http://schemas.openxmlformats.org/drawingml/2006/table">
            <a:tbl>
              <a:tblPr/>
              <a:tblGrid>
                <a:gridCol w="874800"/>
                <a:gridCol w="874800"/>
                <a:gridCol w="874800"/>
                <a:gridCol w="876240"/>
                <a:gridCol w="874800"/>
                <a:gridCol w="874440"/>
                <a:gridCol w="8748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761560" y="436500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=4; r=5; (q-1)(r-1)=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5028840"/>
            <a:ext cx="34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315 = 105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DEB-7AD6-4F03-BA4A-F880291D98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828800" y="620640"/>
          <a:ext cx="5622840" cy="2652840"/>
        </p:xfrm>
        <a:graphic>
          <a:graphicData uri="http://schemas.openxmlformats.org/drawingml/2006/table">
            <a:tbl>
              <a:tblPr/>
              <a:tblGrid>
                <a:gridCol w="803160"/>
                <a:gridCol w="803520"/>
                <a:gridCol w="803160"/>
                <a:gridCol w="803160"/>
                <a:gridCol w="803520"/>
                <a:gridCol w="803160"/>
                <a:gridCol w="80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069000" y="385956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=4; r=5; (q-1)(r-1)=1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4480" y="480456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1.5563 </a:t>
            </a: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0;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5640" y="571104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.99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3E1-429D-4350-9565-83394EEC11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692360" y="260280"/>
          <a:ext cx="6264360" cy="2652840"/>
        </p:xfrm>
        <a:graphic>
          <a:graphicData uri="http://schemas.openxmlformats.org/drawingml/2006/table">
            <a:tbl>
              <a:tblPr/>
              <a:tblGrid>
                <a:gridCol w="728640"/>
                <a:gridCol w="730080"/>
                <a:gridCol w="728640"/>
                <a:gridCol w="728640"/>
                <a:gridCol w="728640"/>
                <a:gridCol w="730440"/>
                <a:gridCol w="728640"/>
                <a:gridCol w="116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CL" sz="2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0</a:t>
                      </a:r>
                      <a:endParaRPr b="0" lang="en-US" sz="2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14240" y="3211920"/>
            <a:ext cx="760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743200"/>
                <a:tab algn="r" pos="459108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columnas B5 y B6 provienen de la división de la columna B5 de la tabla anterio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743200"/>
                <a:tab algn="r" pos="459108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=4; r=6; (q-1)(r-1)=1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71400" y="4858920"/>
            <a:ext cx="40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Q = 1.55 </a:t>
            </a: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0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l p-valor es igual a 0.99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4120" y="598644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NO CAMBIA EL VALOR DE Q CUANDO SE AGREGA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DOS COLUMNAS (O FILAS) PROPORCION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51D-CE3D-4313-9817-1593B3E9A4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80040" y="42192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RAZÓN DE CORREL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840" y="1696680"/>
            <a:ext cx="812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Y  una variable cuantitati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X una variable cualitativa     (q grupos, G1, G2,…,Gq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90800" y="2997360"/>
                <a:ext cx="1933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87920" y="4076640"/>
                <a:ext cx="215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925920" y="316944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Total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062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Inter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537948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Varianza Intra =</a:t>
            </a: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5229360"/>
                <a:ext cx="2152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080040" y="5289480"/>
                <a:ext cx="169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BF-DEFD-4A25-BD96-524CE52DAD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3640" y="1340640"/>
            <a:ext cx="58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EL COEFICIENTE DE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ORRELACIÓN LINE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6F8-0CE4-48F2-8AC8-45EB4734D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907920"/>
                <a:ext cx="6985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rPr>
                            <m:lit/>
                            <m:nor/>
                          </m:rPr>
                          <m:t xml:space="preserve">Int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32000" y="3429000"/>
                <a:ext cx="3305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788-8A41-4B28-962B-0BCBEA1F3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038240" y="639720"/>
          <a:ext cx="727884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639720"/>
                    <a:ext cx="72788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F72-63DF-4E43-BEB8-BA45191627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187280" y="1341360"/>
          <a:ext cx="69138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91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919-DA36-47D4-B929-81BD61A998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195640" y="404640"/>
          <a:ext cx="525780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04640"/>
                    <a:ext cx="52578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211920" y="52995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ticionando el absci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75C-BBC0-4DCD-8C51-CF85AAE809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187280" y="907920"/>
          <a:ext cx="66978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66978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4F4-9448-456F-B9FA-2AAACBD34D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6360" y="301680"/>
            <a:ext cx="319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muestra bivari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95640" y="189000"/>
                <a:ext cx="49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6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1268280"/>
                <a:ext cx="26100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00" y="1943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56320" y="1197000"/>
                <a:ext cx="26953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70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3320" y="2835360"/>
                <a:ext cx="4829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502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68360" y="4221000"/>
                <a:ext cx="580068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709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88000" y="4869000"/>
                <a:ext cx="2514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288-3823-4C3D-A725-B4B7FB1F2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317600"/>
          <a:ext cx="432144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17600"/>
                    <a:ext cx="432144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0" y="1244520"/>
          <a:ext cx="4464000" cy="38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44520"/>
                    <a:ext cx="446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67A-0B1C-4823-B405-06B52B5F1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822240"/>
          <a:ext cx="453708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822240"/>
                    <a:ext cx="45370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43280" y="836640"/>
          <a:ext cx="4538880" cy="40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36640"/>
                    <a:ext cx="45388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73D-193B-4717-8142-D288654D7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-36360" y="1006560"/>
          <a:ext cx="46796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06560"/>
                    <a:ext cx="4679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981000"/>
          <a:ext cx="4321080" cy="394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981000"/>
                    <a:ext cx="432108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221-76D7-4E39-BC82-09E1E05B5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4840" y="18900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2276640"/>
          <a:ext cx="4037040" cy="298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403704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08720" y="1484280"/>
          <a:ext cx="2678040" cy="19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484280"/>
                    <a:ext cx="267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403280" y="981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Relación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692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Cierta relación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981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08720" y="3716280"/>
          <a:ext cx="26780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16280"/>
                    <a:ext cx="267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219640" y="6237360"/>
            <a:ext cx="30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No existe relación lineal: hay una relación no line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32720" y="5734080"/>
            <a:ext cx="0" cy="5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6920" y="1341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642-DAEB-4897-87C7-8B27D4F3E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87280" y="1700280"/>
          <a:ext cx="7417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417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9FB-A2FD-4A2B-A771-60A6B0830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905040" cy="90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67360" y="189000"/>
            <a:ext cx="1881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4c2b"/>
                </a:solidFill>
                <a:latin typeface="Times New Roman"/>
              </a:rPr>
              <a:t>¡OJO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42920" y="1557360"/>
          <a:ext cx="734544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55736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92F-D636-4B88-93F1-09253D775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5-31T21:50:34Z</dcterms:modified>
  <cp:revision>142</cp:revision>
  <dc:subject/>
  <dc:title>Sin título de diapositiva</dc:title>
</cp:coreProperties>
</file>