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5C7-2EF1-4C1C-8E54-E503D335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F27-ADA4-4DBD-A7A6-7E11C532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CFA-4FF2-4434-954E-0BFEF867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D7E-1E3C-49A1-B728-5A4CD197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447-1CB1-4F32-82A4-24AA9CCD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1B3-45DD-4C41-B749-E3742940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4E7B-BB24-4A95-9679-A21CC7D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E290-87F2-4B9C-B7B5-F682686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7575-D5B5-479C-952C-28D3B7F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15FC-1CEE-4512-9723-C8586CC8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9267-11A6-4F38-B572-870AC7C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E51-89F9-4EFE-B077-83FA276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FFFA-04A2-4AC8-9161-444C0F6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CAD6-67BC-4D55-81D3-44A33DA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77D-37E7-456F-BA79-02A01A33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81D-6A48-4C22-9D8A-6A45000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B58-A45D-402B-86F4-B2376884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21B-8DBA-4906-A7A0-D98F5FBF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DCC-FD19-4025-BB4D-CC9AF0F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968-5DD0-4E21-8903-6ADCD8F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A3A-6CCC-4065-B9FE-C129D472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2E7-C540-4CF4-89B6-F3028E8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DEA-4434-4BAD-9876-FBB80BE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9CC-7CE3-4863-B7E7-38E9E56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B0DD-8A71-4438-9544-6FEEE398E3A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7E2-225F-4646-B769-3E4994EEB6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9560" y="19080"/>
            <a:ext cx="8212320" cy="5698440"/>
            <a:chOff x="169560" y="19080"/>
            <a:chExt cx="8212320" cy="5698440"/>
          </a:xfrm>
        </p:grpSpPr>
        <p:sp>
          <p:nvSpPr>
            <p:cNvPr id="83" name=""/>
            <p:cNvSpPr txBox="1"/>
            <p:nvPr/>
          </p:nvSpPr>
          <p:spPr>
            <a:xfrm>
              <a:off x="3048120" y="4191120"/>
              <a:ext cx="2828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ancy Lacourl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3880" y="52578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junio 200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34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38080" y="1219320"/>
              <a:ext cx="7543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álisis en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ponentes Principales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ADB-4B20-458A-AF43-F06785F6AA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11280" y="299880"/>
            <a:ext cx="8145000" cy="6251760"/>
            <a:chOff x="611280" y="299880"/>
            <a:chExt cx="8145000" cy="6251760"/>
          </a:xfrm>
        </p:grpSpPr>
        <p:sp>
          <p:nvSpPr>
            <p:cNvPr id="648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8376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649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383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28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59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924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837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30564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672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6672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6672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672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940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940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72280" y="609480"/>
              <a:ext cx="666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40200" y="1544760"/>
              <a:ext cx="576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3680" y="4670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1840" y="3125880"/>
              <a:ext cx="594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75720" y="209700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7720" y="401472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65840" y="468936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52200" y="2583000"/>
              <a:ext cx="576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54800" y="2789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6680" y="381960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9440" y="5138640"/>
              <a:ext cx="576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2740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00760" y="43624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73280" y="333216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93960" y="313524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10200" y="4614840"/>
              <a:ext cx="590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81120" y="452124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83240" y="315432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7320" y="24526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45360" y="284652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81120" y="354816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2280" y="5522760"/>
              <a:ext cx="666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7722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388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196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3208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4388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819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7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60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444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9052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33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652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5796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4152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604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3496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1556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074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664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220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34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BE1-5C92-475A-A243-76E31792A3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9E5-18D7-4DE2-BD59-DC1BA8D7A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866880" y="11592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00080" y="1015920"/>
            <a:ext cx="5181480" cy="2365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505240" y="167472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16000" y="397980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980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144880" y="462924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.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.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87640" y="1988640"/>
            <a:ext cx="4321080" cy="25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39" idx="6"/>
            <a:endCxn id="743" idx="3"/>
          </p:cNvCxnSpPr>
          <p:nvPr/>
        </p:nvCxnSpPr>
        <p:spPr>
          <a:xfrm flipV="1">
            <a:off x="3433680" y="1733040"/>
            <a:ext cx="5392080" cy="121680"/>
          </a:xfrm>
          <a:prstGeom prst="curvedConnector5">
            <a:avLst>
              <a:gd name="adj1" fmla="val 25759"/>
              <a:gd name="adj2" fmla="val -139465"/>
              <a:gd name="adj3" fmla="val 25759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85-11D9-46F6-A13D-70C613036A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971640" y="37893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866880" y="18900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748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979560" y="1135080"/>
            <a:ext cx="5181480" cy="236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484360" y="179388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,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,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01800" y="2035080"/>
            <a:ext cx="1521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s-MX" sz="2400" spc="-1" strike="noStrike" u="sng">
                <a:solidFill>
                  <a:srgbClr val="333333"/>
                </a:solidFill>
                <a:uFillTx/>
                <a:latin typeface="Times New Roman"/>
              </a:rPr>
              <a:t>-0,88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132000" y="2565360"/>
            <a:ext cx="4104000" cy="194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E93-F0E1-42C6-BF9A-37FB9AE043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773280" y="20541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0541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19320" y="6681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orrelaciones entre variables antiguas y componente princip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2D5-B39A-4A65-974F-8D882CC72F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7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898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FB0-FE9F-43CB-8E2B-1F4DE8EE0E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3119400" y="2602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</a:rPr>
              <a:t>Otro cas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D91-96A0-4749-B889-1F59C5B0B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EC5-4207-4567-AD10-9E223B57D0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409-C1E4-42D8-B71B-20DB2DB48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C0B-6C55-4C93-827B-263A758B70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2760" y="228600"/>
            <a:ext cx="8751240" cy="6585120"/>
            <a:chOff x="392760" y="228600"/>
            <a:chExt cx="8751240" cy="6585120"/>
          </a:xfrm>
        </p:grpSpPr>
        <p:sp>
          <p:nvSpPr>
            <p:cNvPr id="89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1098720"/>
              <a:ext cx="7451640" cy="5715000"/>
              <a:chOff x="1692360" y="1098720"/>
              <a:chExt cx="7451640" cy="571500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061240"/>
                <a:ext cx="685800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1098720"/>
                <a:ext cx="7451640" cy="40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29F-1321-4872-8905-4BAA22A51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917800" y="260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Jugadores de Ten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480" y="1531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12000" y="1125360"/>
          <a:ext cx="1728720" cy="50245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v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e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uelta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mash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Pier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ort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ssing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gulari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oquePelot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Do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809280" y="20098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35 jugadores y sus cual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196-BBCA-4388-808B-593B752542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2773440" y="404640"/>
            <a:ext cx="6119640" cy="576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4" name=""/>
          <p:cNvGraphicFramePr/>
          <p:nvPr/>
        </p:nvGraphicFramePr>
        <p:xfrm>
          <a:off x="468360" y="836640"/>
          <a:ext cx="1871640" cy="4551480"/>
        </p:xfrm>
        <a:graphic>
          <a:graphicData uri="http://schemas.openxmlformats.org/drawingml/2006/table">
            <a:tbl>
              <a:tblPr/>
              <a:tblGrid>
                <a:gridCol w="960480"/>
                <a:gridCol w="911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propi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acumulad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,26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,7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52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9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,2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54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4,8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,0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7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0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,4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23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0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13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9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8,5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0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4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ED8-9A57-4F9B-89F8-C55E13D379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D1B-4F5E-42FC-8AC8-85EB43571A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441360" y="258840"/>
            <a:ext cx="8163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F6F-7630-4F97-9B8C-1F5C1C639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324000" y="692280"/>
          <a:ext cx="4014720" cy="5486400"/>
        </p:xfrm>
        <a:graphic>
          <a:graphicData uri="http://schemas.openxmlformats.org/drawingml/2006/table">
            <a:tbl>
              <a:tblPr/>
              <a:tblGrid>
                <a:gridCol w="1271520"/>
                <a:gridCol w="762120"/>
                <a:gridCol w="1320840"/>
                <a:gridCol w="660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8,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951120" y="39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Puntaje promed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5614920" y="685800"/>
          <a:ext cx="262908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13338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5506560" y="189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Orden de la 1era C.P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0B9-24B9-4A2B-A02D-F2C8B3424A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5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621-E9EB-456C-B2D3-A8DF0D28A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1A9-48CD-4FB5-A6C7-1B15A8D2A1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6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39B-B292-46EA-BB56-F705519AF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FC5-8E08-4432-978C-885F45EE98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990720"/>
            <a:ext cx="8425080" cy="4876560"/>
            <a:chOff x="380880" y="990720"/>
            <a:chExt cx="8425080" cy="4876560"/>
          </a:xfrm>
        </p:grpSpPr>
        <p:sp>
          <p:nvSpPr>
            <p:cNvPr id="434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5440" y="33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Arial"/>
              </a:rPr>
              <a:t>Matriz 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77B-3516-48A4-9C2A-624F7BD89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87480" y="335268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335268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D65-9546-4CBB-A243-047E8D992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95280" y="404640"/>
            <a:ext cx="8481600" cy="6216480"/>
            <a:chOff x="395280" y="404640"/>
            <a:chExt cx="8481600" cy="6216480"/>
          </a:xfrm>
        </p:grpSpPr>
        <p:sp>
          <p:nvSpPr>
            <p:cNvPr id="560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35960" y="620532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6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9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0276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860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332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416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200000">
              <a:off x="-59760" y="201132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2    (1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97880" y="60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97880" y="157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97880" y="255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7880" y="353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7680" y="451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7680" y="5389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25"/>
                  </a:lnTo>
                  <a:lnTo>
                    <a:pt x="2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lnTo>
                    <a:pt x="43" y="0"/>
                  </a:lnTo>
                  <a:lnTo>
                    <a:pt x="4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727560"/>
              <a:ext cx="6925320" cy="488124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4174" y="2898"/>
                  </a:moveTo>
                  <a:lnTo>
                    <a:pt x="0" y="0"/>
                  </a:lnTo>
                  <a:lnTo>
                    <a:pt x="0" y="2898"/>
                  </a:lnTo>
                  <a:lnTo>
                    <a:pt x="4174" y="2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2800" y="714240"/>
              <a:ext cx="6926040" cy="488088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0" y="0"/>
                  </a:moveTo>
                  <a:lnTo>
                    <a:pt x="4174" y="0"/>
                  </a:lnTo>
                  <a:lnTo>
                    <a:pt x="4174" y="2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2800" y="714240"/>
              <a:ext cx="6926040" cy="4880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2240" y="394848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55520" y="15850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1120" y="375264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1960" y="2832840"/>
              <a:ext cx="6984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5680" y="447876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6080" y="4536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01800" y="447876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7604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4040" y="438120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63520" y="211572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1560" y="45108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612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40160" y="378648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47240" y="34110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1480" y="3206880"/>
              <a:ext cx="6984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8560" y="5400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0960" y="3752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5240" y="2807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9320" y="25956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6840" y="235116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2800" y="5595480"/>
              <a:ext cx="692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2800" y="714240"/>
              <a:ext cx="1800" cy="488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5680" y="3880800"/>
              <a:ext cx="105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6720" y="132372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RUGUY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4760" y="34920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. DOMINIC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93840" y="25722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94000" y="45277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RAG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446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6520" y="45277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NIC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85920" y="412308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2160" y="412308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1680" y="1854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2040" y="4608360"/>
              <a:ext cx="10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3880" y="412308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7320" y="371916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1840" y="31500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720" y="294588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30320" y="513720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355752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94760" y="2547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3920" y="2334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58040" y="20818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59E-43F5-4ADC-901A-06665BB102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7T03:27:16Z</dcterms:modified>
  <cp:revision>141</cp:revision>
  <dc:subject/>
  <dc:title>Sin título de diapositiva</dc:title>
</cp:coreProperties>
</file>