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58A-3D18-46ED-96E6-EFBEB0DE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6FB-ADDB-4D6D-9838-BF3B2824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FE6-908E-4C52-B4B7-F3DBD6B7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59E-4C37-4B12-B869-7F96C3ED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3842-070C-42CF-87C8-BEDA6645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9288-4C57-4742-8770-1EE131C6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DD32-FC58-427A-86DE-D509488C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E3A8-7C2D-4109-8785-58909119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1D2B-E515-426B-B896-07F55A5E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F813-C316-4C9C-A834-0EDF8C1C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4E34-B343-4720-8B28-F4F985D1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447-E3F6-451D-8616-63C4251B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493F-D9DB-4F5A-979B-F13B448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5FDE-1EBE-4B16-BE0F-681B37BA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8B9D-D5C6-4D8E-A356-7890611D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E9A3-1474-4C70-89BA-B73D043A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DDBA-8F2C-4CA0-8C94-C23B1850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CD3-0123-4CAD-A49C-A2A3B329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F39-3FFD-43C5-85F5-9EF4A19F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BE4-D448-43CB-9301-C9F19D62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7C7-52DF-4F74-8146-33C79C21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971-B3FC-428F-9496-D3BC6E8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B30-1586-479A-8438-DFC4207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2AC-2A3A-46F0-B990-942756F5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BBE5-6B75-4C5D-B2E1-183E255B90A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C66A-6B88-4DA3-AC90-14B1D2FB7F6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69560" y="19080"/>
            <a:ext cx="8212320" cy="5698440"/>
            <a:chOff x="169560" y="19080"/>
            <a:chExt cx="8212320" cy="5698440"/>
          </a:xfrm>
        </p:grpSpPr>
        <p:sp>
          <p:nvSpPr>
            <p:cNvPr id="83" name=""/>
            <p:cNvSpPr txBox="1"/>
            <p:nvPr/>
          </p:nvSpPr>
          <p:spPr>
            <a:xfrm>
              <a:off x="3048120" y="4191120"/>
              <a:ext cx="282888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ancy Lacourl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63880" y="525780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Times New Roman"/>
                </a:rPr>
                <a:t>junio 200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34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38080" y="1219320"/>
              <a:ext cx="754380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álisis en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omponentes Principales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488-4750-47A0-8F74-2C0558B899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611280" y="299880"/>
            <a:ext cx="8145000" cy="6251760"/>
            <a:chOff x="611280" y="299880"/>
            <a:chExt cx="8145000" cy="6251760"/>
          </a:xfrm>
        </p:grpSpPr>
        <p:sp>
          <p:nvSpPr>
            <p:cNvPr id="648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8376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649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383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28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59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0924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837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30564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6672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6672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6672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672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9940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9940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72280" y="609480"/>
              <a:ext cx="666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40200" y="1544760"/>
              <a:ext cx="576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3680" y="4670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21840" y="3125880"/>
              <a:ext cx="594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75720" y="209700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57720" y="401472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65840" y="468936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52200" y="2583000"/>
              <a:ext cx="576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54800" y="2789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96680" y="381960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79440" y="5138640"/>
              <a:ext cx="576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412740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00760" y="43624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73280" y="333216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93960" y="313524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10200" y="4614840"/>
              <a:ext cx="590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81120" y="452124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83240" y="315432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17320" y="24526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45360" y="284652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81120" y="354816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72280" y="5522760"/>
              <a:ext cx="666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17722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388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6196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3208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4388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819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07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1760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9444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9052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533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3652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5796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4152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6604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3496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1556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074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0664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9220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334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06C-4878-4E05-821B-41C732DC2A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8610480" cy="645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431-82A2-4546-8C59-8DCAF9FB3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866880" y="11592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00080" y="1015920"/>
            <a:ext cx="5181480" cy="23655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2505240" y="167472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116000" y="397980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97980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144880" y="462924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.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.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87640" y="1988640"/>
            <a:ext cx="4321080" cy="25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39" idx="6"/>
            <a:endCxn id="743" idx="3"/>
          </p:cNvCxnSpPr>
          <p:nvPr/>
        </p:nvCxnSpPr>
        <p:spPr>
          <a:xfrm flipV="1">
            <a:off x="3433680" y="1733040"/>
            <a:ext cx="5392080" cy="121680"/>
          </a:xfrm>
          <a:prstGeom prst="curvedConnector5">
            <a:avLst>
              <a:gd name="adj1" fmla="val 25759"/>
              <a:gd name="adj2" fmla="val -139465"/>
              <a:gd name="adj3" fmla="val 25759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BC4-2081-4F64-807F-66CB892DB8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971640" y="37893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7893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866880" y="18900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449748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979560" y="1135080"/>
            <a:ext cx="5181480" cy="236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2484360" y="179388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,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,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01800" y="2035080"/>
            <a:ext cx="15217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s-MX" sz="2400" spc="-1" strike="noStrike" u="sng">
                <a:solidFill>
                  <a:srgbClr val="333333"/>
                </a:solidFill>
                <a:uFillTx/>
                <a:latin typeface="Times New Roman"/>
              </a:rPr>
              <a:t>-0,88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132000" y="2565360"/>
            <a:ext cx="4104000" cy="1943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3AD-CC7E-47B2-9AC9-583A819E57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"/>
          <p:cNvGraphicFramePr/>
          <p:nvPr/>
        </p:nvGraphicFramePr>
        <p:xfrm>
          <a:off x="773280" y="20541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20541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319320" y="6681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Correlaciones entre variables antiguas y componente princip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D3D-AD16-4772-8B62-077F95740D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7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898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F52-E602-403E-B10C-4CA5D805C3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>
            <a:off x="3119400" y="26028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Arial"/>
              </a:rPr>
              <a:t>Otro cas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14C-84EA-443D-932F-448886207F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7B2-B66D-4446-8DD7-964DAE5B3F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A0D-65A0-45D7-A700-0D127B5422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E2F-99DC-4F10-832A-BF8A563F14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92760" y="228600"/>
            <a:ext cx="8751240" cy="6585120"/>
            <a:chOff x="392760" y="228600"/>
            <a:chExt cx="8751240" cy="6585120"/>
          </a:xfrm>
        </p:grpSpPr>
        <p:sp>
          <p:nvSpPr>
            <p:cNvPr id="89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92360" y="1098720"/>
              <a:ext cx="7451640" cy="5715000"/>
              <a:chOff x="1692360" y="1098720"/>
              <a:chExt cx="7451640" cy="5715000"/>
            </a:xfrm>
          </p:grpSpPr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5061240"/>
                <a:ext cx="6858000" cy="17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1098720"/>
                <a:ext cx="7451640" cy="406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AC8-23C7-4B4D-BE47-18EB56734A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917800" y="2602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Jugadores de Ten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3480" y="1531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6012000" y="1125360"/>
          <a:ext cx="1728720" cy="502452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erech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ve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ole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uelta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mash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Piern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morti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assing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gularida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ToquePelot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i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Dobl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"/>
          <p:cNvSpPr/>
          <p:nvPr/>
        </p:nvSpPr>
        <p:spPr>
          <a:xfrm>
            <a:off x="809280" y="20098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35 jugadores y sus cualida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0BB-E795-4300-8BC7-D282714727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2773440" y="404640"/>
            <a:ext cx="6119640" cy="576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4" name=""/>
          <p:cNvGraphicFramePr/>
          <p:nvPr/>
        </p:nvGraphicFramePr>
        <p:xfrm>
          <a:off x="468360" y="836640"/>
          <a:ext cx="1871640" cy="4551480"/>
        </p:xfrm>
        <a:graphic>
          <a:graphicData uri="http://schemas.openxmlformats.org/drawingml/2006/table">
            <a:tbl>
              <a:tblPr/>
              <a:tblGrid>
                <a:gridCol w="960480"/>
                <a:gridCol w="9111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propi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acumulad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,26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,7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,52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1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39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1,2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54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4,8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,0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7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3,4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0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,4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23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0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13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9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8,5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0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4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0A4-A4A5-4FE8-B88B-E53FE53DD8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128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189-3A5B-4C13-B68B-C76836F72F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441360" y="258840"/>
            <a:ext cx="8163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489-C4D7-44B3-BBDF-5DBDE05E21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7" name=""/>
          <p:cNvGraphicFramePr/>
          <p:nvPr/>
        </p:nvGraphicFramePr>
        <p:xfrm>
          <a:off x="324000" y="692280"/>
          <a:ext cx="4014720" cy="5486400"/>
        </p:xfrm>
        <a:graphic>
          <a:graphicData uri="http://schemas.openxmlformats.org/drawingml/2006/table">
            <a:tbl>
              <a:tblPr/>
              <a:tblGrid>
                <a:gridCol w="1271520"/>
                <a:gridCol w="762120"/>
                <a:gridCol w="1320840"/>
                <a:gridCol w="6602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8,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951120" y="3960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Puntaje promed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5614920" y="685800"/>
          <a:ext cx="2629080" cy="5486400"/>
        </p:xfrm>
        <a:graphic>
          <a:graphicData uri="http://schemas.openxmlformats.org/drawingml/2006/table">
            <a:tbl>
              <a:tblPr/>
              <a:tblGrid>
                <a:gridCol w="1295280"/>
                <a:gridCol w="13338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"/>
          <p:cNvSpPr/>
          <p:nvPr/>
        </p:nvSpPr>
        <p:spPr>
          <a:xfrm>
            <a:off x="5506560" y="1890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Arial"/>
              </a:rPr>
              <a:t>Orden de la 1era C.P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0F2-F892-4536-B2FB-05ED209C4E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5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6E7-410D-4500-92D2-B09DAE9FDF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F54-B91B-4047-A933-F927DC3A99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6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C14-53DF-4CD6-AD0B-991B789A84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FFB-A985-48DE-8921-8E9C209FE1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80880" y="990720"/>
            <a:ext cx="8425080" cy="4876560"/>
            <a:chOff x="380880" y="990720"/>
            <a:chExt cx="8425080" cy="4876560"/>
          </a:xfrm>
        </p:grpSpPr>
        <p:sp>
          <p:nvSpPr>
            <p:cNvPr id="434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565440" y="333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Arial"/>
              </a:rPr>
              <a:t>Matriz 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BA9-2AAB-453E-95A8-318052CA47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7" name=""/>
          <p:cNvGraphicFramePr/>
          <p:nvPr/>
        </p:nvGraphicFramePr>
        <p:xfrm>
          <a:off x="987480" y="335268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335268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B69-82CA-4CFB-97C5-870E3BB55E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395280" y="404640"/>
            <a:ext cx="8481600" cy="6216480"/>
            <a:chOff x="395280" y="404640"/>
            <a:chExt cx="8481600" cy="6216480"/>
          </a:xfrm>
        </p:grpSpPr>
        <p:sp>
          <p:nvSpPr>
            <p:cNvPr id="560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35960" y="6205320"/>
              <a:ext cx="178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6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9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0276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7860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9332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1416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6200000">
              <a:off x="-59760" y="201132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2    (1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97880" y="60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97880" y="157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97880" y="255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97880" y="3532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27680" y="45108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27680" y="53899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25"/>
                  </a:lnTo>
                  <a:lnTo>
                    <a:pt x="2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25"/>
                  </a:lnTo>
                  <a:lnTo>
                    <a:pt x="1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0"/>
                  </a:moveTo>
                  <a:lnTo>
                    <a:pt x="43" y="0"/>
                  </a:lnTo>
                  <a:lnTo>
                    <a:pt x="4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727560"/>
              <a:ext cx="6925320" cy="488124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4174" y="2898"/>
                  </a:moveTo>
                  <a:lnTo>
                    <a:pt x="0" y="0"/>
                  </a:lnTo>
                  <a:lnTo>
                    <a:pt x="0" y="2898"/>
                  </a:lnTo>
                  <a:lnTo>
                    <a:pt x="4174" y="28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2800" y="714240"/>
              <a:ext cx="6926040" cy="488088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0" y="0"/>
                  </a:moveTo>
                  <a:lnTo>
                    <a:pt x="4174" y="0"/>
                  </a:lnTo>
                  <a:lnTo>
                    <a:pt x="4174" y="28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12800" y="714240"/>
              <a:ext cx="6926040" cy="4880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72240" y="394848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55520" y="15850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21120" y="375264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51960" y="2832840"/>
              <a:ext cx="6984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25680" y="447876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96080" y="4536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01800" y="447876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7604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34040" y="438120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63520" y="211572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11560" y="45108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612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40160" y="378648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47240" y="34110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1480" y="3206880"/>
              <a:ext cx="6984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8560" y="5400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10960" y="3752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5240" y="2807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59320" y="25956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26840" y="235116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12800" y="5595480"/>
              <a:ext cx="6926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612800" y="714240"/>
              <a:ext cx="1800" cy="4880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25680" y="3880800"/>
              <a:ext cx="105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6720" y="132372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URUGUY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24760" y="349200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. DOMINIC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93840" y="257220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94000" y="452772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RAG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05600" y="4446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6520" y="45277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NICA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85920" y="412308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22160" y="412308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31680" y="18543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2040" y="4608360"/>
              <a:ext cx="109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53880" y="4123080"/>
              <a:ext cx="12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97320" y="371916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71840" y="31500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32720" y="294588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30320" y="513720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05640" y="355752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94760" y="25470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3920" y="233460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58040" y="20818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711-1DBA-4932-8117-5699E8BEEA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7T03:27:16Z</dcterms:modified>
  <cp:revision>141</cp:revision>
  <dc:subject/>
  <dc:title>Sin título de diapositiva</dc:title>
</cp:coreProperties>
</file>