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2B2-19AB-446E-B791-DB049394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983-92D3-4F89-A327-BC53B2A4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A80-088E-4D44-BD0C-D0DC9A8D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D18-C71F-4384-8E74-646E4740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CE73-07D8-41A9-BE23-320CA5FC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DD68-822E-44BF-A258-2FA1DCAE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6103-82F5-46A2-BD7F-464B6B9D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104A-2E62-43C7-B218-E9C441C0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38EB-1383-48C0-A976-68C49C5C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A1CB-52FF-49B9-9105-4EA61673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8481-DB39-4934-875E-1678056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C27-1504-4DD3-91FE-9B9E5CAF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D185-0AE0-4C2D-B61E-55E2A8E9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1EFC-75D7-4632-BF9D-CB00C9F2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51AB-2B28-4C48-8013-A771AF61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06C6-F078-4149-98D9-2A3F94B8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701A-69F2-42FC-B657-CA8213D8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CF2-02BC-4BAB-80A6-0DA3B843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BF8-F2BA-4DBA-A187-B72D0EA7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BE3-8B03-4840-A02B-6A16EFDC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34F-155F-4D74-A52F-7EBE6275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3B6-7606-4BD8-A5E8-2546DE3F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D6D-4185-4986-BF58-729EF71D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143-C52E-493B-AD24-05ED9A4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61C0-DFC5-44DB-855D-C131CC69E96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5FF3-978E-4BC2-B0ED-AD3563D09B0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8120" y="4191120"/>
            <a:ext cx="2828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2578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838080" y="121932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álisis e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onentes Principa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E98-53AF-4075-9205-C560D15712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1014480" y="299880"/>
            <a:ext cx="7815240" cy="6251760"/>
            <a:chOff x="1014480" y="299880"/>
            <a:chExt cx="7815240" cy="6251760"/>
          </a:xfrm>
        </p:grpSpPr>
        <p:sp>
          <p:nvSpPr>
            <p:cNvPr id="671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072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5460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816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097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982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1560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40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69408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3176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3176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3176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176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6624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624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28680" y="609480"/>
              <a:ext cx="639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9320" y="15447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35800" y="4670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18040" y="31258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4240" y="209700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6960" y="401472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9920" y="46893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95920" y="258300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21480" y="2789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6520" y="38196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2920" y="5138640"/>
              <a:ext cx="554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30880" y="412740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26120" y="43624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7840" y="3332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440" y="313524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21800" y="4614840"/>
              <a:ext cx="5688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26200" y="452124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31543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05600" y="24526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25800" y="284652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26200" y="3548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28680" y="5522760"/>
              <a:ext cx="639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1286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9460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1172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600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7140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61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6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8328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7552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6160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65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576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168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784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9132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4980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8404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676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716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8704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720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194-2E73-481C-AEB4-6EE6AF1678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9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3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3B5-AC75-4E28-B62D-2361B8FC1F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304920" y="9684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827-24B0-4ABF-83C4-C162E838B9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9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FE7-C36D-4284-B340-DA03F4AE53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2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6F3-60A6-40E9-8B33-9A5267771C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6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0D7-40AD-4F84-B039-E0E0585D5E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F20-8DDF-47F1-848F-F9C2823949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973080" y="1773360"/>
          <a:ext cx="7559640" cy="3259080"/>
        </p:xfrm>
        <a:graphic>
          <a:graphicData uri="http://schemas.openxmlformats.org/drawingml/2006/table">
            <a:tbl>
              <a:tblPr/>
              <a:tblGrid>
                <a:gridCol w="2016000"/>
                <a:gridCol w="1001520"/>
                <a:gridCol w="1230480"/>
                <a:gridCol w="1041480"/>
                <a:gridCol w="1135080"/>
                <a:gridCol w="1135080"/>
              </a:tblGrid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2988720" y="59040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Matriz de correl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ED3-A347-4EB9-BB79-D22DAA80E9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"/>
          <p:cNvGraphicFramePr/>
          <p:nvPr/>
        </p:nvGraphicFramePr>
        <p:xfrm>
          <a:off x="1279440" y="1628640"/>
          <a:ext cx="6964560" cy="3338640"/>
        </p:xfrm>
        <a:graphic>
          <a:graphicData uri="http://schemas.openxmlformats.org/drawingml/2006/table">
            <a:tbl>
              <a:tblPr/>
              <a:tblGrid>
                <a:gridCol w="1706760"/>
                <a:gridCol w="1022400"/>
                <a:gridCol w="1184040"/>
                <a:gridCol w="1017720"/>
                <a:gridCol w="1015920"/>
                <a:gridCol w="10177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14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74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6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19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506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65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79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55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29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6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20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8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8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490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84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7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7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3" name=""/>
          <p:cNvSpPr/>
          <p:nvPr/>
        </p:nvSpPr>
        <p:spPr>
          <a:xfrm>
            <a:off x="2342160" y="60660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Valores y vectores propios de 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C93-A60B-4EC5-A8AF-58D0609E48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1136520" y="2251080"/>
          <a:ext cx="6870600" cy="2355840"/>
        </p:xfrm>
        <a:graphic>
          <a:graphicData uri="http://schemas.openxmlformats.org/drawingml/2006/table">
            <a:tbl>
              <a:tblPr/>
              <a:tblGrid>
                <a:gridCol w="1689120"/>
                <a:gridCol w="1003320"/>
                <a:gridCol w="1168200"/>
                <a:gridCol w="1003320"/>
                <a:gridCol w="1003320"/>
                <a:gridCol w="100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98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69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34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5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0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5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22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4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62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1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58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17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01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1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36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66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71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6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3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78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1764000" y="404640"/>
            <a:ext cx="637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rrelaciones entre variables antiguas 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mponentes principales (facto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987-1A61-491E-9EFB-B0801009D0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9560" y="19080"/>
            <a:ext cx="8974440" cy="6838920"/>
            <a:chOff x="169560" y="19080"/>
            <a:chExt cx="8974440" cy="6838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981080" y="5105520"/>
              <a:ext cx="6858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92360" y="1143000"/>
              <a:ext cx="7451640" cy="40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CFB-E0E0-4E46-8EF8-A5DD1F9795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232-35EF-4EEF-A44D-51F8B3CD68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91D-8F26-4793-9DA7-32B5161C2B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D8B-04EC-453E-A38B-01FD31225D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D4E-4300-4562-8009-13E8645924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77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3B3-B11C-49A2-9318-BCA380CC67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44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3DD-3F57-418F-B366-BB5A4151EC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9560" y="19080"/>
            <a:ext cx="8636400" cy="5848200"/>
            <a:chOff x="169560" y="19080"/>
            <a:chExt cx="8636400" cy="5848200"/>
          </a:xfrm>
        </p:grpSpPr>
        <p:sp>
          <p:nvSpPr>
            <p:cNvPr id="448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5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261-9312-4CF5-8707-D73F9E14CF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576" name=""/>
          <p:cNvGraphicFramePr/>
          <p:nvPr/>
        </p:nvGraphicFramePr>
        <p:xfrm>
          <a:off x="990720" y="3352680"/>
          <a:ext cx="7543800" cy="25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35268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1B5-E85C-4027-9E7D-83B3079680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9560" y="19080"/>
            <a:ext cx="8707680" cy="6602400"/>
            <a:chOff x="169560" y="19080"/>
            <a:chExt cx="8707680" cy="6602400"/>
          </a:xfrm>
        </p:grpSpPr>
        <p:grpSp>
          <p:nvGrpSpPr>
            <p:cNvPr id="579" name=""/>
            <p:cNvGrpSpPr/>
            <p:nvPr/>
          </p:nvGrpSpPr>
          <p:grpSpPr>
            <a:xfrm>
              <a:off x="762120" y="762120"/>
              <a:ext cx="8115120" cy="5859360"/>
              <a:chOff x="762120" y="762120"/>
              <a:chExt cx="8115120" cy="5859360"/>
            </a:xfrm>
          </p:grpSpPr>
          <p:sp>
            <p:nvSpPr>
              <p:cNvPr id="580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28120" y="6229440"/>
                <a:ext cx="1788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1   (6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844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68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3992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7732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5180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276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293040" y="2214720"/>
                <a:ext cx="185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2    (1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721880" y="954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21880" y="1866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21880" y="278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21880" y="371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54920" y="463248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54920" y="546084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25"/>
                    </a:lnTo>
                    <a:lnTo>
                      <a:pt x="2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25"/>
                    </a:lnTo>
                    <a:lnTo>
                      <a:pt x="1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33720" y="1066680"/>
                <a:ext cx="6626160" cy="460080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4174" y="2898"/>
                    </a:moveTo>
                    <a:lnTo>
                      <a:pt x="0" y="0"/>
                    </a:lnTo>
                    <a:lnTo>
                      <a:pt x="0" y="2898"/>
                    </a:lnTo>
                    <a:lnTo>
                      <a:pt x="4174" y="28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27080" y="1054080"/>
                <a:ext cx="6626520" cy="460044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0" y="0"/>
                    </a:moveTo>
                    <a:lnTo>
                      <a:pt x="4174" y="0"/>
                    </a:lnTo>
                    <a:lnTo>
                      <a:pt x="4174" y="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7080" y="1054080"/>
                <a:ext cx="6626520" cy="460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7640" y="410220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21400" y="1874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57920" y="391788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13240" y="3051000"/>
                <a:ext cx="6696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88040" y="460224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86440" y="465624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91160" y="460224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8008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30600" y="451008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19480" y="23749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317840" y="46324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2604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397480" y="394956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35956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924680" y="3403440"/>
                <a:ext cx="6696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9200" y="547056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13560" y="3917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53040" y="30272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89360" y="28274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07120" y="25970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27080" y="5654520"/>
                <a:ext cx="6626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927080" y="1053720"/>
                <a:ext cx="1800" cy="4600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10640" y="4038480"/>
                <a:ext cx="1058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VENEZUE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63480" y="162864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URUGUY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8480" y="3672000"/>
                <a:ext cx="100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R. DOMINIC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65920" y="280512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ERU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257800" y="4648320"/>
                <a:ext cx="62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RAG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86600" y="4572000"/>
                <a:ext cx="75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NAM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0" y="46483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NICA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80960" y="4267080"/>
                <a:ext cx="703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58320" y="4267080"/>
                <a:ext cx="1017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ONDURAS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7720" y="2128680"/>
                <a:ext cx="45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AITI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69800" y="4724280"/>
                <a:ext cx="109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GUATEMA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28480" y="4267080"/>
                <a:ext cx="1238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L SALV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496400" y="388620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CU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49600" y="33498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HILE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87080" y="315756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UB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36520" y="5222880"/>
                <a:ext cx="1089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STA RIC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04280" y="373392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LOMB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36600" y="278136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40160" y="258120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OLIV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62800" y="2343240"/>
                <a:ext cx="103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ARGENTIN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F53-3D16-48F7-A300-E40DAC85E4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3T20:55:39Z</dcterms:modified>
  <cp:revision>114</cp:revision>
  <dc:subject/>
  <dc:title>Sin título de diapositiva</dc:title>
</cp:coreProperties>
</file>