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746-E482-4BDF-A028-34949D5D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0A0-501B-4FC4-B10A-6DB9C389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918-5E8F-4917-B5DB-6C77E03C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141-2F29-4D2A-AEA4-B2237D56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44AF-C507-4861-BF79-ACE73B65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1A7C-1651-4575-8AFB-7E8AEEB9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E1F1-B268-41B3-95B4-940FFBBA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5B83-0057-43C1-9E7E-86EC69C7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390C-BD38-4C41-8550-9790D40E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59D0-397D-4F61-A729-B762726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EDBF-C3F0-4C27-B3E4-DE5E80B6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0DE-9B78-4B97-83BB-D556B50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065-1A41-4184-82BF-F2CD8B6C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5723-D569-4211-AA03-430FCF7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AC09-98FA-4040-A4D4-AF9B7D15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C06C-D7A6-4988-9DB8-41F7788E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7414-801A-42A2-BFE7-D3C95A19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7A6-7CB0-4E68-9545-D64A1D4A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567-C3C4-4B46-81E0-77FE8665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833-0D83-4A3D-B594-33A80927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6E2-16C1-4402-AFAC-B65D1605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BDB-F0E5-4A68-932D-26ED840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9B1-90EE-456D-8ED5-3F316CFC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F00-5308-4F19-A9D8-9A04311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BAC4-B74A-4897-B1C6-BE729733D94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BC6D-487C-4760-ACED-7D0CAF9C3D1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69560" y="19080"/>
            <a:ext cx="8212320" cy="5698440"/>
            <a:chOff x="169560" y="19080"/>
            <a:chExt cx="8212320" cy="5698440"/>
          </a:xfrm>
        </p:grpSpPr>
        <p:sp>
          <p:nvSpPr>
            <p:cNvPr id="83" name=""/>
            <p:cNvSpPr txBox="1"/>
            <p:nvPr/>
          </p:nvSpPr>
          <p:spPr>
            <a:xfrm>
              <a:off x="3048120" y="4191120"/>
              <a:ext cx="282888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Nancy Lacourl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63880" y="525780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Times New Roman"/>
                </a:rPr>
                <a:t>junio 200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34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38080" y="1219320"/>
              <a:ext cx="7543800" cy="22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álisis en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 </a:t>
              </a: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omponentes Principales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3C8-5C81-4808-85CB-F40620486F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611280" y="299880"/>
            <a:ext cx="8145000" cy="6251760"/>
            <a:chOff x="611280" y="299880"/>
            <a:chExt cx="8145000" cy="6251760"/>
          </a:xfrm>
        </p:grpSpPr>
        <p:sp>
          <p:nvSpPr>
            <p:cNvPr id="648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8376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649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383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28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59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0924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837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30564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6672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6672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6672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672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9940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9940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72280" y="609480"/>
              <a:ext cx="666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40200" y="1544760"/>
              <a:ext cx="576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3680" y="4670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21840" y="3125880"/>
              <a:ext cx="594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75720" y="209700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57720" y="401472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65840" y="468936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52200" y="2583000"/>
              <a:ext cx="576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54800" y="2789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96680" y="381960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79440" y="5138640"/>
              <a:ext cx="576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1680" y="412740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00760" y="43624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73280" y="333216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93960" y="313524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10200" y="4614840"/>
              <a:ext cx="590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81120" y="452124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83240" y="315432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17320" y="24526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45360" y="284652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81120" y="354816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72280" y="5522760"/>
              <a:ext cx="666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17722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1388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6196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3208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4388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819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07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1760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9444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9052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533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3652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5796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4152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6604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3496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1556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074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0664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9220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334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7EF-2843-4C8E-98FE-32DBFDEC5A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8610480" cy="645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E6A-B19D-4B52-85D8-0826711DA5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866880" y="11592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00080" y="1015920"/>
            <a:ext cx="5181480" cy="23655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2505240" y="167472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116000" y="397980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97980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144880" y="462924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.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.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87640" y="1988640"/>
            <a:ext cx="4321080" cy="25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39" idx="6"/>
            <a:endCxn id="743" idx="3"/>
          </p:cNvCxnSpPr>
          <p:nvPr/>
        </p:nvCxnSpPr>
        <p:spPr>
          <a:xfrm flipV="1">
            <a:off x="3433680" y="1733040"/>
            <a:ext cx="5392080" cy="121680"/>
          </a:xfrm>
          <a:prstGeom prst="curvedConnector5">
            <a:avLst>
              <a:gd name="adj1" fmla="val 25759"/>
              <a:gd name="adj2" fmla="val -139465"/>
              <a:gd name="adj3" fmla="val 25759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6E4-856C-4B46-96F9-8DC7AB7239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971640" y="37893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7893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866880" y="18900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362320" y="449748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979560" y="1135080"/>
            <a:ext cx="5181480" cy="236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2484360" y="179388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,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,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01800" y="2035080"/>
            <a:ext cx="15217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s-MX" sz="2400" spc="-1" strike="noStrike" u="sng">
                <a:solidFill>
                  <a:srgbClr val="333333"/>
                </a:solidFill>
                <a:uFillTx/>
                <a:latin typeface="Times New Roman"/>
              </a:rPr>
              <a:t>-0,88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132000" y="2565360"/>
            <a:ext cx="4104000" cy="1943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239-DEC6-4B72-9703-66074C7819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6" name=""/>
          <p:cNvGraphicFramePr/>
          <p:nvPr/>
        </p:nvGraphicFramePr>
        <p:xfrm>
          <a:off x="773280" y="20541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20541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319320" y="6681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Correlaciones entre variables antiguas y componente princip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218-DF22-48A6-9E01-59295DDCCF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7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898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295-30B1-4863-A8DA-57C009F9A6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"/>
          <p:cNvSpPr/>
          <p:nvPr/>
        </p:nvSpPr>
        <p:spPr>
          <a:xfrm>
            <a:off x="3119400" y="26028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ff"/>
                </a:solidFill>
                <a:latin typeface="Arial"/>
              </a:rPr>
              <a:t>Otro cas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FAA-22AA-4C0B-B3D9-2063F7C914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929-4EFB-45E9-A289-2D34523B6F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0FA-7CA7-4AA5-842C-C63657761E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A57-B6C2-492B-B397-5C2A71266A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92760" y="228600"/>
            <a:ext cx="8751240" cy="6585120"/>
            <a:chOff x="392760" y="228600"/>
            <a:chExt cx="8751240" cy="6585120"/>
          </a:xfrm>
        </p:grpSpPr>
        <p:sp>
          <p:nvSpPr>
            <p:cNvPr id="89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692360" y="1098720"/>
              <a:ext cx="7451640" cy="5715000"/>
              <a:chOff x="1692360" y="1098720"/>
              <a:chExt cx="7451640" cy="5715000"/>
            </a:xfrm>
          </p:grpSpPr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5061240"/>
                <a:ext cx="6858000" cy="17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1098720"/>
                <a:ext cx="7451640" cy="406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24D-1616-4F52-AA9A-17EF2FE48E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917800" y="2602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Jugadores de Ten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3480" y="1531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6012000" y="1125360"/>
          <a:ext cx="1728720" cy="502452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erech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ve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ole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uelta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mash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Piern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o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morti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assing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gularidad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ToquePelot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i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Dobl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2" name=""/>
          <p:cNvSpPr/>
          <p:nvPr/>
        </p:nvSpPr>
        <p:spPr>
          <a:xfrm>
            <a:off x="809280" y="20098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35 jugadores y sus cualida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C99-E4CD-4E7E-BE28-53D73CC61B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2773440" y="404640"/>
            <a:ext cx="6119640" cy="576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4" name=""/>
          <p:cNvGraphicFramePr/>
          <p:nvPr/>
        </p:nvGraphicFramePr>
        <p:xfrm>
          <a:off x="468360" y="836640"/>
          <a:ext cx="1871640" cy="4551480"/>
        </p:xfrm>
        <a:graphic>
          <a:graphicData uri="http://schemas.openxmlformats.org/drawingml/2006/table">
            <a:tbl>
              <a:tblPr/>
              <a:tblGrid>
                <a:gridCol w="960480"/>
                <a:gridCol w="9111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propi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acumulad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,26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,7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,52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1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39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1,2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54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4,8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8,0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7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3,4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0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,4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23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0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13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9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8,5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0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4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5DB-4AE5-4BE5-82E2-9AEEA77D48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128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152-8214-4646-B6DF-EE84EE15C7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441360" y="258840"/>
            <a:ext cx="8163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599-2469-4AD2-AF89-0AD97FD5C0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7" name=""/>
          <p:cNvGraphicFramePr/>
          <p:nvPr/>
        </p:nvGraphicFramePr>
        <p:xfrm>
          <a:off x="324000" y="692280"/>
          <a:ext cx="4014720" cy="5486400"/>
        </p:xfrm>
        <a:graphic>
          <a:graphicData uri="http://schemas.openxmlformats.org/drawingml/2006/table">
            <a:tbl>
              <a:tblPr/>
              <a:tblGrid>
                <a:gridCol w="1271520"/>
                <a:gridCol w="762120"/>
                <a:gridCol w="1320840"/>
                <a:gridCol w="6602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8,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951120" y="3960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Puntaje promed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5614920" y="685800"/>
          <a:ext cx="2629080" cy="5486400"/>
        </p:xfrm>
        <a:graphic>
          <a:graphicData uri="http://schemas.openxmlformats.org/drawingml/2006/table">
            <a:tbl>
              <a:tblPr/>
              <a:tblGrid>
                <a:gridCol w="1295280"/>
                <a:gridCol w="13338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"/>
          <p:cNvSpPr/>
          <p:nvPr/>
        </p:nvSpPr>
        <p:spPr>
          <a:xfrm>
            <a:off x="5506560" y="1890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Arial"/>
              </a:rPr>
              <a:t>Orden de la 1era C.P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25B-9164-4645-8428-FC0FB6629E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5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CDC-79A3-411C-881E-7E619A82A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567-DF50-47D4-B611-BF61D66F32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6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042-8842-4373-9E89-F58F08C4FD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244-BF58-49E3-AF73-ECE3318E78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80880" y="990720"/>
            <a:ext cx="8425080" cy="4876560"/>
            <a:chOff x="380880" y="990720"/>
            <a:chExt cx="8425080" cy="4876560"/>
          </a:xfrm>
        </p:grpSpPr>
        <p:sp>
          <p:nvSpPr>
            <p:cNvPr id="434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565440" y="333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Arial"/>
              </a:rPr>
              <a:t>Matriz 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F36-D21E-4B0D-A7B4-66204C3C46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7" name=""/>
          <p:cNvGraphicFramePr/>
          <p:nvPr/>
        </p:nvGraphicFramePr>
        <p:xfrm>
          <a:off x="987480" y="335268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335268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A9E-FCB6-47F8-A328-F04B523BD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395280" y="404640"/>
            <a:ext cx="8481600" cy="6216480"/>
            <a:chOff x="395280" y="404640"/>
            <a:chExt cx="8481600" cy="6216480"/>
          </a:xfrm>
        </p:grpSpPr>
        <p:sp>
          <p:nvSpPr>
            <p:cNvPr id="560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35960" y="6205320"/>
              <a:ext cx="178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6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89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0276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7860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9332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1416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6200000">
              <a:off x="-59760" y="201132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2    (1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97880" y="60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97880" y="157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97880" y="255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97880" y="3532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27680" y="45108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27680" y="53899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25"/>
                  </a:lnTo>
                  <a:lnTo>
                    <a:pt x="22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25"/>
                  </a:lnTo>
                  <a:lnTo>
                    <a:pt x="1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0"/>
                  </a:moveTo>
                  <a:lnTo>
                    <a:pt x="43" y="0"/>
                  </a:lnTo>
                  <a:lnTo>
                    <a:pt x="4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727560"/>
              <a:ext cx="6925320" cy="488124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4174" y="2898"/>
                  </a:moveTo>
                  <a:lnTo>
                    <a:pt x="0" y="0"/>
                  </a:lnTo>
                  <a:lnTo>
                    <a:pt x="0" y="2898"/>
                  </a:lnTo>
                  <a:lnTo>
                    <a:pt x="4174" y="28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12800" y="714240"/>
              <a:ext cx="6926040" cy="488088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0" y="0"/>
                  </a:moveTo>
                  <a:lnTo>
                    <a:pt x="4174" y="0"/>
                  </a:lnTo>
                  <a:lnTo>
                    <a:pt x="4174" y="28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12800" y="714240"/>
              <a:ext cx="6926040" cy="4880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72240" y="394848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55520" y="15850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21120" y="375264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51960" y="2832840"/>
              <a:ext cx="6984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25680" y="447876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96080" y="4536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01800" y="447876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7604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34040" y="438120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63520" y="211572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11560" y="45108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612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40160" y="378648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47240" y="34110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81480" y="3206880"/>
              <a:ext cx="6984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18560" y="5400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10960" y="3752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5240" y="2807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59320" y="25956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26840" y="235116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12800" y="5595480"/>
              <a:ext cx="6926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612800" y="714240"/>
              <a:ext cx="1800" cy="4880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25680" y="3880800"/>
              <a:ext cx="105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6720" y="132372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URUGUY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24760" y="349200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. DOMINIC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93840" y="257220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94000" y="452772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RAG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05600" y="4446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6520" y="4527720"/>
              <a:ext cx="55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NICA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85920" y="412308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22160" y="4123080"/>
              <a:ext cx="101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31680" y="18543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2040" y="4608360"/>
              <a:ext cx="109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53880" y="4123080"/>
              <a:ext cx="12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97320" y="371916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71840" y="31500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32720" y="294588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30320" y="513720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05640" y="355752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94760" y="25470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3920" y="233460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58040" y="20818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99A-CFAA-4EA2-A98C-6C4E02C39A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7T03:27:16Z</dcterms:modified>
  <cp:revision>141</cp:revision>
  <dc:subject/>
  <dc:title>Sin título de diapositiva</dc:title>
</cp:coreProperties>
</file>