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C65-7687-4E86-86D2-0AD0202D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6B8-F9A0-447C-AD93-18443DE0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E1B-50FE-4B0A-85C9-1A3BD72F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A5C8-6756-40AE-BA68-6BA0A5A9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5FC5-A60F-47B7-993F-C98780F8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383D-ED0A-4FC2-9C56-632EE0CE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041D-E93D-41D3-B82B-76B037CD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99BE-53E2-461D-A09E-C21BB0C8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FC99-5AC4-4FBD-8CDA-55AD55BE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B52B-1E84-4EB0-9555-2A2B572D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E5B8-FD00-4FE4-B8DF-F0E05CBC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958-6809-42E8-A77C-4654A99E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9472-9B2D-4973-8DB5-611442FE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82F8-14AE-4CF1-B925-9FCDC10C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FB44-6372-4F5C-9683-4B8E0D8A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A3EC-FC7E-4C4B-8FFD-335CCBF72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7790-914F-486E-9F57-0DC25B12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BE6-8E72-440D-AC4C-02CF9A2D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5ED-1CA0-4F55-94EC-B1451138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CEDA-0E70-4163-9E9F-66D0D9D8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95F-0F9A-4B06-AB6E-F90335A9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AE58-F169-4835-A4B3-4E4E7A41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EA5-188D-4A4D-BDC7-853B2F02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949-D946-470C-85D7-B3883413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01CF-3392-46EE-A0B0-512B2B5FF86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7625-E980-40D0-8418-47625398989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69560" y="19080"/>
            <a:ext cx="8212320" cy="5698440"/>
            <a:chOff x="169560" y="19080"/>
            <a:chExt cx="8212320" cy="5698440"/>
          </a:xfrm>
        </p:grpSpPr>
        <p:sp>
          <p:nvSpPr>
            <p:cNvPr id="83" name=""/>
            <p:cNvSpPr txBox="1"/>
            <p:nvPr/>
          </p:nvSpPr>
          <p:spPr>
            <a:xfrm>
              <a:off x="3048120" y="4191120"/>
              <a:ext cx="282888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Nancy Lacourly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863880" y="525780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Times New Roman"/>
                </a:rPr>
                <a:t>junio 200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560" y="190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34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838080" y="1219320"/>
              <a:ext cx="7543800" cy="22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Análisis en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 </a:t>
              </a: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Componentes Principales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A62-DD78-434F-BB04-C4FA78003C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611280" y="299880"/>
            <a:ext cx="8145000" cy="6251760"/>
            <a:chOff x="611280" y="299880"/>
            <a:chExt cx="8145000" cy="6251760"/>
          </a:xfrm>
        </p:grpSpPr>
        <p:sp>
          <p:nvSpPr>
            <p:cNvPr id="648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1280" y="299880"/>
              <a:ext cx="814500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83760" y="614988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649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0383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1284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592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0924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8372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16200000">
              <a:off x="305640" y="1586520"/>
              <a:ext cx="166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3   (7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566720" y="495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66720" y="147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66720" y="2460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66720" y="3443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99400" y="44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99400" y="531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415360" y="5532480"/>
              <a:ext cx="381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415360" y="5532480"/>
              <a:ext cx="381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8876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8876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5172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51720" y="5532480"/>
              <a:ext cx="2952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24760" y="5532480"/>
              <a:ext cx="2988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424760" y="5532480"/>
              <a:ext cx="2988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8988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08988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6256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62560" y="5532480"/>
              <a:ext cx="2808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22960" y="60012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722960" y="60012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722960" y="15825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22960" y="15825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22960" y="25653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22960" y="25653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22960" y="35481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22960" y="354816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722960" y="45306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22960" y="45306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22960" y="55134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22960" y="5513400"/>
              <a:ext cx="6768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72280" y="609480"/>
              <a:ext cx="666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4027" y="3095"/>
                  </a:moveTo>
                  <a:lnTo>
                    <a:pt x="0" y="0"/>
                  </a:lnTo>
                  <a:lnTo>
                    <a:pt x="0" y="3095"/>
                  </a:lnTo>
                  <a:lnTo>
                    <a:pt x="4027" y="30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72280" y="609480"/>
              <a:ext cx="666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0" y="0"/>
                  </a:moveTo>
                  <a:lnTo>
                    <a:pt x="4027" y="0"/>
                  </a:lnTo>
                  <a:lnTo>
                    <a:pt x="4027" y="30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72280" y="609480"/>
              <a:ext cx="6662880" cy="491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40200" y="1544760"/>
              <a:ext cx="576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3680" y="467028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21840" y="3125880"/>
              <a:ext cx="5940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175720" y="2097000"/>
              <a:ext cx="594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157720" y="401472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65840" y="4689360"/>
              <a:ext cx="594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52200" y="2583000"/>
              <a:ext cx="5760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454800" y="278928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96680" y="381960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079440" y="5138640"/>
              <a:ext cx="576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71680" y="412740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00760" y="436248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73280" y="333216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93960" y="3135240"/>
              <a:ext cx="576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810200" y="4614840"/>
              <a:ext cx="590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81120" y="452124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483240" y="315432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917320" y="2452680"/>
              <a:ext cx="594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645360" y="284652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81120" y="3548160"/>
              <a:ext cx="5796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72280" y="5522760"/>
              <a:ext cx="666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1772280" y="609480"/>
              <a:ext cx="1800" cy="49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113880" y="127332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861960" y="4724280"/>
              <a:ext cx="69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URUG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032080" y="2819520"/>
              <a:ext cx="68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R. DOM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943880" y="182556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81920" y="3809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907960" y="4648320"/>
              <a:ext cx="80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017600" y="231156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NICARAGU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094440" y="251784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90520" y="354636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853360" y="4875120"/>
              <a:ext cx="48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936520" y="4038480"/>
              <a:ext cx="117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57960" y="4419720"/>
              <a:ext cx="132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241520" y="3200400"/>
              <a:ext cx="95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466040" y="3048120"/>
              <a:ext cx="56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734960" y="472428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15560" y="424800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607440" y="2971800"/>
              <a:ext cx="39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606640" y="2181240"/>
              <a:ext cx="67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292200" y="257328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33400" y="3505320"/>
              <a:ext cx="110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4AC-774B-4A4D-8DF5-273F160AD3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304920" y="141120"/>
            <a:ext cx="8610480" cy="645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B81-FD84-42B3-A507-DEB6D6BC90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>
            <a:off x="866880" y="115920"/>
            <a:ext cx="72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La correlación entre la primera componente principal y 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TASA NAT. se obtiene como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00080" y="1015920"/>
            <a:ext cx="5181480" cy="236556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2505240" y="1674720"/>
            <a:ext cx="91440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1116000" y="3979800"/>
          <a:ext cx="7510320" cy="232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979800"/>
                    <a:ext cx="751032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"/>
          <p:cNvSpPr/>
          <p:nvPr/>
        </p:nvSpPr>
        <p:spPr>
          <a:xfrm>
            <a:off x="2144880" y="4629240"/>
            <a:ext cx="91440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228720" y="150480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= -0.4365*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√4.15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987640" y="1988640"/>
            <a:ext cx="4321080" cy="2592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39" idx="6"/>
            <a:endCxn id="743" idx="3"/>
          </p:cNvCxnSpPr>
          <p:nvPr/>
        </p:nvCxnSpPr>
        <p:spPr>
          <a:xfrm flipV="1">
            <a:off x="3433680" y="1733040"/>
            <a:ext cx="5392080" cy="121680"/>
          </a:xfrm>
          <a:prstGeom prst="curvedConnector5">
            <a:avLst>
              <a:gd name="adj1" fmla="val 25759"/>
              <a:gd name="adj2" fmla="val -139465"/>
              <a:gd name="adj3" fmla="val 25759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6B0-5A87-4F85-A625-EC43C46E03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"/>
          <p:cNvGraphicFramePr/>
          <p:nvPr/>
        </p:nvGraphicFramePr>
        <p:xfrm>
          <a:off x="971640" y="3789360"/>
          <a:ext cx="7543800" cy="259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78936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866880" y="189000"/>
            <a:ext cx="729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La correlación entre la primera componente principal y 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TASA NAT. se obtiene como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362320" y="4497480"/>
            <a:ext cx="91440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3"/>
          <a:stretch/>
        </p:blipFill>
        <p:spPr>
          <a:xfrm>
            <a:off x="979560" y="1135080"/>
            <a:ext cx="5181480" cy="236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2484360" y="1793880"/>
            <a:ext cx="91440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228720" y="150480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= -0,4365*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√4,15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01800" y="2035080"/>
            <a:ext cx="15217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1" lang="es-MX" sz="2400" spc="-1" strike="noStrike" u="sng">
                <a:solidFill>
                  <a:srgbClr val="333333"/>
                </a:solidFill>
                <a:uFillTx/>
                <a:latin typeface="Times New Roman"/>
              </a:rPr>
              <a:t>-0,8898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3132000" y="2565360"/>
            <a:ext cx="4104000" cy="1943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134-B8C8-407A-BE7F-5FE3D68036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6" name=""/>
          <p:cNvGraphicFramePr/>
          <p:nvPr/>
        </p:nvGraphicFramePr>
        <p:xfrm>
          <a:off x="773280" y="2054160"/>
          <a:ext cx="7543800" cy="259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280" y="205416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>
            <a:off x="319320" y="66816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Correlaciones entre variables antiguas y componente principa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B39-1EE1-4029-A11F-F7AA3FA6C4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52280" y="2057400"/>
            <a:ext cx="3505320" cy="3505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05120" y="2057400"/>
            <a:ext cx="0" cy="3505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52280" y="3809880"/>
            <a:ext cx="3505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3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08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572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4290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193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742480" y="304812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% Pob. urba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95840" y="419112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Esperanz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Vid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86360" y="30481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. Inf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70000" y="23623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4920" y="3962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Fecund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84200" y="43434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Na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659040" y="37339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62120" y="173664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4114800" y="304920"/>
            <a:ext cx="5028840" cy="3805200"/>
            <a:chOff x="4114800" y="304920"/>
            <a:chExt cx="5028840" cy="3805200"/>
          </a:xfrm>
        </p:grpSpPr>
        <p:sp>
          <p:nvSpPr>
            <p:cNvPr id="777" name=""/>
            <p:cNvSpPr/>
            <p:nvPr/>
          </p:nvSpPr>
          <p:spPr>
            <a:xfrm>
              <a:off x="7781760" y="305604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463600" y="342432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187520" y="495360"/>
              <a:ext cx="488304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797080" y="426960"/>
              <a:ext cx="2286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143320" y="146700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45960" y="1467000"/>
              <a:ext cx="6613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9072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076880" y="1467000"/>
              <a:ext cx="6458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0760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393760" y="1467000"/>
              <a:ext cx="676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07680" y="186840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94800" y="187812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45960" y="186840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9072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076880" y="186840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70760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393760" y="186840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07680" y="227016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207040" y="228600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745960" y="227016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887800" y="23083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0,10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39072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76880" y="227016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0760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93760" y="227016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07680" y="267336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251680" y="2727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45960" y="267336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4352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9072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52644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76880" y="2681280"/>
              <a:ext cx="6458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70760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393760" y="267336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07680" y="307512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3008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745960" y="307512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888160" y="3108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39072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569640" y="297180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6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70400" y="3070080"/>
              <a:ext cx="64584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0720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70760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93760" y="307512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07680" y="347508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0704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745960" y="347508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84316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390720" y="34416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93680" y="339876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53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76880" y="347508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0720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70760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4332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393760" y="347508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881240" y="1066680"/>
              <a:ext cx="2415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881240" y="1467000"/>
              <a:ext cx="2415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81240" y="186840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81240" y="227016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81240" y="267336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240" y="307512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81240" y="347508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9508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277160" y="18874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252320" y="1595520"/>
              <a:ext cx="893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9508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2320" y="20257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9508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17840" y="238140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9508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42680" y="281160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508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2040" y="317988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508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347000" y="35481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07680" y="1066680"/>
              <a:ext cx="6537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72240" y="1066680"/>
              <a:ext cx="6613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9072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76880" y="1066680"/>
              <a:ext cx="6458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70760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393760" y="1066680"/>
              <a:ext cx="67680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81240" y="1868400"/>
              <a:ext cx="4173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81240" y="227016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1240" y="2673360"/>
              <a:ext cx="4173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81240" y="307512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1240" y="347508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195080" y="1868400"/>
              <a:ext cx="486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195080" y="227016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5080" y="2673360"/>
              <a:ext cx="48600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5080" y="307512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95080" y="347508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459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39072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07688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70760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3937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114800" y="387684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055440" y="3855960"/>
              <a:ext cx="882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9136080" y="1044720"/>
              <a:ext cx="7560" cy="30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195080" y="1023840"/>
              <a:ext cx="49485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055440" y="304920"/>
              <a:ext cx="88200" cy="78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055440" y="304920"/>
              <a:ext cx="882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14800" y="3876840"/>
              <a:ext cx="502128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202640" y="1087560"/>
              <a:ext cx="108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047520" y="1087560"/>
              <a:ext cx="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02640" y="1087560"/>
              <a:ext cx="484452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02640" y="3855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02640" y="1488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15240" y="1087560"/>
              <a:ext cx="144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078480" y="304920"/>
              <a:ext cx="576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14800" y="3941640"/>
              <a:ext cx="50212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97440" y="12272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10520" y="122724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162560" y="122724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44400" y="121284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434800" y="122724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115240" y="1212840"/>
              <a:ext cx="619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898" name=""/>
          <p:cNvGraphicFramePr/>
          <p:nvPr/>
        </p:nvGraphicFramePr>
        <p:xfrm>
          <a:off x="3419640" y="4724280"/>
          <a:ext cx="5690880" cy="19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724280"/>
                    <a:ext cx="5690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2D2-C54D-409E-9B91-B38F4542C9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0" name=""/>
          <p:cNvGraphicFramePr/>
          <p:nvPr/>
        </p:nvGraphicFramePr>
        <p:xfrm>
          <a:off x="41400" y="1246320"/>
          <a:ext cx="9063000" cy="436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246320"/>
                    <a:ext cx="9063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2" name=""/>
          <p:cNvSpPr/>
          <p:nvPr/>
        </p:nvSpPr>
        <p:spPr>
          <a:xfrm>
            <a:off x="3119400" y="260280"/>
            <a:ext cx="23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ff"/>
                </a:solidFill>
                <a:latin typeface="Arial"/>
              </a:rPr>
              <a:t>Otro caso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DF4-4535-430E-BB27-1C38E61B93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5694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70F-D85A-4430-87B1-F37553DB8A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46760" cy="573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E47-F043-4CA6-8447-E5A7771866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228600" y="138240"/>
            <a:ext cx="86868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BAC-69FC-4542-A465-F27390F7F3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92760" y="228600"/>
            <a:ext cx="8751240" cy="6585120"/>
            <a:chOff x="392760" y="228600"/>
            <a:chExt cx="8751240" cy="6585120"/>
          </a:xfrm>
        </p:grpSpPr>
        <p:sp>
          <p:nvSpPr>
            <p:cNvPr id="89" name=""/>
            <p:cNvSpPr txBox="1"/>
            <p:nvPr/>
          </p:nvSpPr>
          <p:spPr>
            <a:xfrm>
              <a:off x="3398760" y="228600"/>
              <a:ext cx="3251160" cy="70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Garamond"/>
                </a:rPr>
                <a:t>EJEMPLO</a:t>
              </a:r>
              <a:endPara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  <a:ea typeface="Garamond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2760" y="274320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PNUD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199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692360" y="1098720"/>
              <a:ext cx="7451640" cy="5715000"/>
              <a:chOff x="1692360" y="1098720"/>
              <a:chExt cx="7451640" cy="5715000"/>
            </a:xfrm>
          </p:grpSpPr>
          <p:pic>
            <p:nvPicPr>
              <p:cNvPr id="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5061240"/>
                <a:ext cx="6858000" cy="175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2360" y="1098720"/>
                <a:ext cx="7451640" cy="406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85AA-ECB2-42AE-A7A6-38DD82D251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2917800" y="26028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Jugadores de Teni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3480" y="153180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6012000" y="1125360"/>
          <a:ext cx="1728720" cy="5024520"/>
        </p:xfrm>
        <a:graphic>
          <a:graphicData uri="http://schemas.openxmlformats.org/drawingml/2006/table">
            <a:tbl>
              <a:tblPr/>
              <a:tblGrid>
                <a:gridCol w="1728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Derech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ves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ervic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ole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ueltaServic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mash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JuegoPiern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ob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morti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assing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gularidad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ToquePelota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Psic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isic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JuegoDoble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2" name=""/>
          <p:cNvSpPr/>
          <p:nvPr/>
        </p:nvSpPr>
        <p:spPr>
          <a:xfrm>
            <a:off x="809280" y="200988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imes New Roman"/>
              </a:rPr>
              <a:t>35 jugadores y sus cualidad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32C-0AEA-45E4-A126-A12AF5EC9B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2773440" y="404640"/>
            <a:ext cx="6119640" cy="576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4" name=""/>
          <p:cNvGraphicFramePr/>
          <p:nvPr/>
        </p:nvGraphicFramePr>
        <p:xfrm>
          <a:off x="468360" y="836640"/>
          <a:ext cx="1871640" cy="4551480"/>
        </p:xfrm>
        <a:graphic>
          <a:graphicData uri="http://schemas.openxmlformats.org/drawingml/2006/table">
            <a:tbl>
              <a:tblPr/>
              <a:tblGrid>
                <a:gridCol w="960480"/>
                <a:gridCol w="9111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alor propi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%acumulado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,26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1,7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,52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1,9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,39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1,2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54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4,8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47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8,0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43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0,9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37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3,44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30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5,4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23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7,03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13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7,95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92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8,5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7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08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57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46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5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9,79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,031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22D-3B9F-45B9-8890-1B8C33F3CC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1280" y="228600"/>
            <a:ext cx="896472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5E3-E552-4039-B351-6F1638ADF8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441360" y="258840"/>
            <a:ext cx="8163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AF75-4EE7-4F26-B2DA-B2972E5167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7" name=""/>
          <p:cNvGraphicFramePr/>
          <p:nvPr/>
        </p:nvGraphicFramePr>
        <p:xfrm>
          <a:off x="324000" y="692280"/>
          <a:ext cx="4014720" cy="5486400"/>
        </p:xfrm>
        <a:graphic>
          <a:graphicData uri="http://schemas.openxmlformats.org/drawingml/2006/table">
            <a:tbl>
              <a:tblPr/>
              <a:tblGrid>
                <a:gridCol w="1271520"/>
                <a:gridCol w="762120"/>
                <a:gridCol w="1320840"/>
                <a:gridCol w="66024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CENRO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8,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YOT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O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7,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RRY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ONN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7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CCI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ND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URRE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ECK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7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FORGET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OA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7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M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WILAND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ZIVOJINOVI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ERULAITI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2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EK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7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TTFRIE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2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LER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EDBE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HIGUER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VIL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6,0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CKSTEI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3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YSTROEM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ELTSCH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3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ANN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ANCH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3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ECI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ARI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4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CON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I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RNF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RLSS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S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ULASN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3,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OLOM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5,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 </a:t>
                      </a:r>
                      <a:endParaRPr b="0" lang="en-US" sz="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 </a:t>
                      </a:r>
                      <a:endParaRPr b="0" lang="en-US" sz="8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8" name=""/>
          <p:cNvSpPr/>
          <p:nvPr/>
        </p:nvSpPr>
        <p:spPr>
          <a:xfrm>
            <a:off x="951120" y="3960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Arial"/>
              </a:rPr>
              <a:t>Puntaje promedi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5614920" y="685800"/>
          <a:ext cx="2629080" cy="5486400"/>
        </p:xfrm>
        <a:graphic>
          <a:graphicData uri="http://schemas.openxmlformats.org/drawingml/2006/table">
            <a:tbl>
              <a:tblPr/>
              <a:tblGrid>
                <a:gridCol w="1295280"/>
                <a:gridCol w="13338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O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CON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ONN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RLSS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LEND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ELTSCH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CENRO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CKSTEI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VIL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ANN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WILAND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I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YSTROEM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M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OLOM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SANCHEZ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BECKE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KRIEK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RNFOR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AS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HIGUER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TULASN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ECIR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JARRY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OTTFRIE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FORGET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LER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MAYOTTE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NOAH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PECCI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EDBERG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CURRE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ARIA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ZIVOJINOVIC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'GERULAITIS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33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0" name=""/>
          <p:cNvSpPr/>
          <p:nvPr/>
        </p:nvSpPr>
        <p:spPr>
          <a:xfrm>
            <a:off x="5506560" y="189000"/>
            <a:ext cx="26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Arial"/>
              </a:rPr>
              <a:t>Orden de la 1era C.P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B69-FBAC-4D3C-88C0-83E0EC31B4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136520" y="754200"/>
            <a:ext cx="6861240" cy="5494320"/>
            <a:chOff x="1136520" y="754200"/>
            <a:chExt cx="6861240" cy="5494320"/>
          </a:xfrm>
        </p:grpSpPr>
        <p:sp>
          <p:nvSpPr>
            <p:cNvPr id="95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5880" y="5884920"/>
              <a:ext cx="209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2336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7080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0708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5452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77360" y="4087800"/>
              <a:ext cx="225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ASA DE MORTAL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76680" y="922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76680" y="1782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69920" y="264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69920" y="3505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69920" y="4367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69920" y="5143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3514" y="2718"/>
                  </a:moveTo>
                  <a:lnTo>
                    <a:pt x="0" y="0"/>
                  </a:lnTo>
                  <a:lnTo>
                    <a:pt x="0" y="2718"/>
                  </a:lnTo>
                  <a:lnTo>
                    <a:pt x="3514" y="2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0" y="0"/>
                  </a:moveTo>
                  <a:lnTo>
                    <a:pt x="3514" y="0"/>
                  </a:lnTo>
                  <a:lnTo>
                    <a:pt x="3514" y="2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7760" y="1025640"/>
              <a:ext cx="5578560" cy="43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3560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46720" y="172728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27560" y="34974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33840" y="28972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02080" y="3413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84880" y="39276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1880" y="319716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8016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89520" y="306540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76640" y="10447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10160" y="289728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97360" y="311292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95800" y="31971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2200" y="3413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46840" y="32814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53240" y="45831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11680" y="3627360"/>
              <a:ext cx="558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21280" y="293544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52720" y="21574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22800" y="246708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47760" y="5340240"/>
              <a:ext cx="557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2147760" y="1025280"/>
              <a:ext cx="1800" cy="43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3560" y="360828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35840" y="1494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78360" y="3308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1120" y="28512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29360" y="31258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62840" y="36925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3156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4480" y="3613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4640" y="28321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78760" y="265428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30034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49720" y="29527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68880" y="3168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15440" y="30463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21480" y="4338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08720" y="3384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08600" y="26686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59120" y="192420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19840" y="22240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34080" y="1090440"/>
              <a:ext cx="427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333333"/>
                  </a:solidFill>
                  <a:latin typeface="Arial"/>
                </a:rPr>
                <a:t>Ha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243400" y="574344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6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AC3E-69D7-491A-886E-5084132FD4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29560" y="624852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_VID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22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168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36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334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1034280" y="494352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_URB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48680" y="866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1455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204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0920" y="262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3211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3800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437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496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5460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2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21"/>
                </a:lnTo>
                <a:lnTo>
                  <a:pt x="1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39" y="11"/>
                </a:moveTo>
                <a:lnTo>
                  <a:pt x="0" y="0"/>
                </a:lnTo>
                <a:lnTo>
                  <a:pt x="0" y="11"/>
                </a:lnTo>
                <a:lnTo>
                  <a:pt x="3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0" y="0"/>
                </a:moveTo>
                <a:lnTo>
                  <a:pt x="39" y="0"/>
                </a:lnTo>
                <a:lnTo>
                  <a:pt x="3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3779" y="2948"/>
                </a:moveTo>
                <a:lnTo>
                  <a:pt x="0" y="0"/>
                </a:lnTo>
                <a:lnTo>
                  <a:pt x="0" y="2948"/>
                </a:lnTo>
                <a:lnTo>
                  <a:pt x="3779" y="29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0" y="0"/>
                </a:moveTo>
                <a:lnTo>
                  <a:pt x="3779" y="0"/>
                </a:lnTo>
                <a:lnTo>
                  <a:pt x="3779" y="29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98600" y="988920"/>
            <a:ext cx="59994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72280" y="15159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8600" y="1811160"/>
            <a:ext cx="52560" cy="51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08800" y="328140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5120" y="270972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695920" y="4033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51800" y="361008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32240" y="33163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10360" y="256392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49880" y="42591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16400" y="503712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35456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54480" y="42163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68760" y="347976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629400" y="1801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54800" y="24336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50040" y="36799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35760" y="270180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89560" y="231300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71960" y="380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72080" y="176688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98600" y="5668920"/>
            <a:ext cx="59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298600" y="988920"/>
            <a:ext cx="180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56480" y="12574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360" y="175248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37960" y="30481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3480" y="24415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10360" y="377352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85040" y="33498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840" y="3124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54400" y="23036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800" y="411480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79240" y="47782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320" y="441972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120" y="403848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720" y="342900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703560" y="1539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94960" y="21733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7280" y="37339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3040" y="2590920"/>
            <a:ext cx="65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64200" y="205272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19240" y="354960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16765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43400" y="60102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5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5B3-E1EE-4D36-8EC7-2196A540F8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900000" y="982800"/>
            <a:ext cx="7992720" cy="5541480"/>
            <a:chOff x="900000" y="982800"/>
            <a:chExt cx="7992720" cy="5541480"/>
          </a:xfrm>
        </p:grpSpPr>
        <p:sp>
          <p:nvSpPr>
            <p:cNvPr id="269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87640" y="6156720"/>
              <a:ext cx="19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4560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924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3892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7496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57560" y="4514040"/>
              <a:ext cx="193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TASA DE NATA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0200" y="116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80200" y="2251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0200" y="3329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0200" y="441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80200" y="542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18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3154" y="2441"/>
                  </a:moveTo>
                  <a:lnTo>
                    <a:pt x="0" y="0"/>
                  </a:lnTo>
                  <a:lnTo>
                    <a:pt x="0" y="2441"/>
                  </a:lnTo>
                  <a:lnTo>
                    <a:pt x="3154" y="2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0" y="0"/>
                  </a:moveTo>
                  <a:lnTo>
                    <a:pt x="3154" y="0"/>
                  </a:lnTo>
                  <a:lnTo>
                    <a:pt x="3154" y="24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97360" y="1265040"/>
              <a:ext cx="6468480" cy="433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90360" y="3601440"/>
              <a:ext cx="468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61960" y="481680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76480" y="3601440"/>
              <a:ext cx="4716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78720" y="351792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60720" y="308772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96880" y="396756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64280" y="227088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16560" y="364392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89120" y="2649240"/>
              <a:ext cx="486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05520" y="283716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62960" y="2469960"/>
              <a:ext cx="486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80400" y="303624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18800" y="3318840"/>
              <a:ext cx="486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75920" y="4230720"/>
              <a:ext cx="489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551360" y="4773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42640" y="3810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23600" y="386280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34560" y="3832560"/>
              <a:ext cx="468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41280" y="293148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607800" y="4461480"/>
              <a:ext cx="471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97360" y="5601960"/>
              <a:ext cx="646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097360" y="1264680"/>
              <a:ext cx="2160" cy="43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88920" y="329436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27680" y="45766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17720" y="33613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45520" y="32763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26080" y="28483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50720" y="37278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42960" y="20307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73480" y="3430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31800" y="24073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71240" y="25959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03480" y="22298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058360" y="2795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71920" y="30772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42000" y="39888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2240" y="4545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83880" y="35715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1920" y="363348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01360" y="359064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01440" y="2833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74240" y="42307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564160" y="579132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7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ADD-26A5-4300-AAB7-1B00210AA7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10200" y="6294600"/>
            <a:ext cx="118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N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595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9424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289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557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1065600" y="4835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MO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60280" y="87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06028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63960" y="2763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63960" y="3708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63960" y="4653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63960" y="5504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2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44" y="16"/>
                </a:moveTo>
                <a:lnTo>
                  <a:pt x="0" y="0"/>
                </a:lnTo>
                <a:lnTo>
                  <a:pt x="0" y="16"/>
                </a:lnTo>
                <a:lnTo>
                  <a:pt x="4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lnTo>
                  <a:pt x="44" y="0"/>
                </a:lnTo>
                <a:lnTo>
                  <a:pt x="44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17"/>
                </a:moveTo>
                <a:lnTo>
                  <a:pt x="0" y="0"/>
                </a:lnTo>
                <a:lnTo>
                  <a:pt x="0" y="17"/>
                </a:lnTo>
                <a:lnTo>
                  <a:pt x="4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0" y="0"/>
                </a:moveTo>
                <a:lnTo>
                  <a:pt x="44" y="0"/>
                </a:lnTo>
                <a:lnTo>
                  <a:pt x="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44" y="10"/>
                </a:moveTo>
                <a:lnTo>
                  <a:pt x="0" y="0"/>
                </a:lnTo>
                <a:lnTo>
                  <a:pt x="0" y="10"/>
                </a:lnTo>
                <a:lnTo>
                  <a:pt x="4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0" y="0"/>
                </a:moveTo>
                <a:lnTo>
                  <a:pt x="44" y="0"/>
                </a:lnTo>
                <a:lnTo>
                  <a:pt x="44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3954" y="2976"/>
                </a:moveTo>
                <a:lnTo>
                  <a:pt x="0" y="0"/>
                </a:lnTo>
                <a:lnTo>
                  <a:pt x="0" y="2976"/>
                </a:lnTo>
                <a:lnTo>
                  <a:pt x="3954" y="2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0" y="0"/>
                </a:moveTo>
                <a:lnTo>
                  <a:pt x="3954" y="0"/>
                </a:lnTo>
                <a:lnTo>
                  <a:pt x="3954" y="29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19480" y="985680"/>
            <a:ext cx="62769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6744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06680" y="175896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67440" y="37004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7220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00760" y="360504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627440" y="417348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7724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0552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45160" y="322740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62560" y="100332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9284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79960" y="32702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7388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55920" y="36050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51320" y="34686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48120" y="48769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68920" y="383868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21120" y="308124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21440" y="22320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11760" y="256716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19480" y="5710320"/>
            <a:ext cx="62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319480" y="985680"/>
            <a:ext cx="144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57800" y="39783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76560" y="150192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GUY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180760" y="37339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14520" y="278136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7640" y="365760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33920" y="4038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342900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080" y="42069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30120" y="313992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781320" y="274320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75960" y="301320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91400" y="33526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77720" y="33480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301560" y="32018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18640" y="46195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08720" y="373392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0" y="289548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71240" y="19731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16120" y="2308320"/>
            <a:ext cx="103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564160" y="60976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80760" y="1066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33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B91-1654-4B99-9719-18B77455C0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"/>
          <p:cNvGrpSpPr/>
          <p:nvPr/>
        </p:nvGrpSpPr>
        <p:grpSpPr>
          <a:xfrm>
            <a:off x="380880" y="990720"/>
            <a:ext cx="8425080" cy="4876560"/>
            <a:chOff x="380880" y="990720"/>
            <a:chExt cx="8425080" cy="4876560"/>
          </a:xfrm>
        </p:grpSpPr>
        <p:sp>
          <p:nvSpPr>
            <p:cNvPr id="434" name=""/>
            <p:cNvSpPr/>
            <p:nvPr/>
          </p:nvSpPr>
          <p:spPr>
            <a:xfrm>
              <a:off x="6524640" y="4516560"/>
              <a:ext cx="1095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67640" y="498780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3280" y="1235160"/>
              <a:ext cx="81802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00400" y="126540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04920" y="247968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12920" y="247968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94000" y="247968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43480" y="247968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99360" y="247968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548480" y="247968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44800" y="299556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89880" y="300672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12920" y="299556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9400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43480" y="299556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99360" y="299556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48480" y="299556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44800" y="351000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08960" y="34797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2920" y="351000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51960" y="355752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10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9400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43480" y="351000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99360" y="351000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351000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44800" y="402588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85280" y="40305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12920" y="402588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76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9400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19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43480" y="402588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99360" y="402588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48480" y="402588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44800" y="4540320"/>
              <a:ext cx="1095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0896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12920" y="4540320"/>
              <a:ext cx="1108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51960" y="44546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9400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94960" y="45338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26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4120" y="4533840"/>
              <a:ext cx="1082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6200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99360" y="4540320"/>
              <a:ext cx="1176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48480" y="4540320"/>
              <a:ext cx="1135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44800" y="505296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08960" y="50846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12920" y="505296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76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9400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19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3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43480" y="505296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62000" y="50529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99360" y="505296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2868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48480" y="505296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65360" y="1967040"/>
              <a:ext cx="40644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65360" y="247968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65360" y="299556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65360" y="351000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65360" y="402588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65360" y="4540320"/>
              <a:ext cx="40644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65360" y="505296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588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52320" y="301932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8760" y="2644920"/>
              <a:ext cx="1430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588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9120" y="3195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588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3960" y="365112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588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61040" y="42022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588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2800" y="4675320"/>
              <a:ext cx="134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588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1480" y="514656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4800" y="1967040"/>
              <a:ext cx="1095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59000" y="1967040"/>
              <a:ext cx="1108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9400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343480" y="1967040"/>
              <a:ext cx="10828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99360" y="1967040"/>
              <a:ext cx="1176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48480" y="1967040"/>
              <a:ext cx="1135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65360" y="2995560"/>
              <a:ext cx="6991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65360" y="351000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65360" y="402588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65360" y="454032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65360" y="5052960"/>
              <a:ext cx="69912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5880" y="2995560"/>
              <a:ext cx="8140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5880" y="351000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5880" y="402588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5880" y="454032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5880" y="5052960"/>
              <a:ext cx="81406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1292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9400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43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99360" y="1967040"/>
              <a:ext cx="144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48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0880" y="5568840"/>
              <a:ext cx="841212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656560" y="5541840"/>
              <a:ext cx="14940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793000" y="1938240"/>
              <a:ext cx="12960" cy="39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5880" y="1913040"/>
              <a:ext cx="82900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656560" y="990720"/>
              <a:ext cx="149400" cy="10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656560" y="990720"/>
              <a:ext cx="1494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0880" y="5568840"/>
              <a:ext cx="8412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028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64396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0280" y="19922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0280" y="55418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0280" y="250812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5740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697960" y="990720"/>
              <a:ext cx="9504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0880" y="5651640"/>
              <a:ext cx="841212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200760" y="217188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29280" y="217188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85320" y="2171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28680" y="215568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21560" y="21718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57760" y="2155680"/>
              <a:ext cx="991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565440" y="33336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Arial"/>
              </a:rPr>
              <a:t>Matriz 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FB8-199C-4265-B3F3-3FC1018EA0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181480" cy="236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7" name=""/>
          <p:cNvGraphicFramePr/>
          <p:nvPr/>
        </p:nvGraphicFramePr>
        <p:xfrm>
          <a:off x="987480" y="3352680"/>
          <a:ext cx="7510320" cy="232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7480" y="3352680"/>
                    <a:ext cx="751032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0A6-E6B6-40F3-9BB4-88B2E9FB77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395280" y="404640"/>
            <a:ext cx="8481600" cy="6216480"/>
            <a:chOff x="395280" y="404640"/>
            <a:chExt cx="8481600" cy="6216480"/>
          </a:xfrm>
        </p:grpSpPr>
        <p:sp>
          <p:nvSpPr>
            <p:cNvPr id="560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5112" y="3691"/>
                  </a:moveTo>
                  <a:lnTo>
                    <a:pt x="0" y="0"/>
                  </a:lnTo>
                  <a:lnTo>
                    <a:pt x="0" y="3691"/>
                  </a:lnTo>
                  <a:lnTo>
                    <a:pt x="5112" y="3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0" y="0"/>
                  </a:moveTo>
                  <a:lnTo>
                    <a:pt x="5112" y="0"/>
                  </a:lnTo>
                  <a:lnTo>
                    <a:pt x="5112" y="36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5112" y="3691"/>
                  </a:moveTo>
                  <a:lnTo>
                    <a:pt x="0" y="0"/>
                  </a:lnTo>
                  <a:lnTo>
                    <a:pt x="0" y="3691"/>
                  </a:lnTo>
                  <a:lnTo>
                    <a:pt x="5112" y="369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5280" y="404640"/>
              <a:ext cx="8481600" cy="6216480"/>
            </a:xfrm>
            <a:custGeom>
              <a:avLst/>
              <a:gdLst/>
              <a:ahLst/>
              <a:rect l="l" t="t" r="r" b="b"/>
              <a:pathLst>
                <a:path w="5112" h="3691">
                  <a:moveTo>
                    <a:pt x="0" y="0"/>
                  </a:moveTo>
                  <a:lnTo>
                    <a:pt x="5112" y="0"/>
                  </a:lnTo>
                  <a:lnTo>
                    <a:pt x="5112" y="36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35960" y="6205320"/>
              <a:ext cx="178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466120" y="5659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089120" y="5659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702760" y="5659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78600" y="5659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893320" y="5659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514160" y="565956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6200000">
              <a:off x="-59760" y="201132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2    (1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97880" y="608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97880" y="1576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397880" y="2555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397880" y="3532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27680" y="451080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27680" y="538992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20480" y="5602320"/>
              <a:ext cx="36360" cy="417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25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520480" y="5602320"/>
              <a:ext cx="36360" cy="417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0" y="25"/>
                  </a:moveTo>
                  <a:lnTo>
                    <a:pt x="22" y="25"/>
                  </a:lnTo>
                  <a:lnTo>
                    <a:pt x="22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431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1431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75604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5604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36896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36896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9815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81520" y="5602320"/>
              <a:ext cx="26640" cy="417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5"/>
                  </a:moveTo>
                  <a:lnTo>
                    <a:pt x="16" y="25"/>
                  </a:lnTo>
                  <a:lnTo>
                    <a:pt x="16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604520" y="5602320"/>
              <a:ext cx="16200" cy="4176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25"/>
                  </a:moveTo>
                  <a:lnTo>
                    <a:pt x="10" y="0"/>
                  </a:lnTo>
                  <a:lnTo>
                    <a:pt x="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04520" y="5602320"/>
              <a:ext cx="16200" cy="41760"/>
            </a:xfrm>
            <a:custGeom>
              <a:avLst/>
              <a:gdLst/>
              <a:ahLst/>
              <a:rect l="l" t="t" r="r" b="b"/>
              <a:pathLst>
                <a:path w="10" h="25">
                  <a:moveTo>
                    <a:pt x="0" y="25"/>
                  </a:moveTo>
                  <a:lnTo>
                    <a:pt x="10" y="25"/>
                  </a:lnTo>
                  <a:lnTo>
                    <a:pt x="10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59520" y="697320"/>
              <a:ext cx="71280" cy="334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43" y="20"/>
                  </a:moveTo>
                  <a:lnTo>
                    <a:pt x="0" y="0"/>
                  </a:lnTo>
                  <a:lnTo>
                    <a:pt x="0" y="20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59520" y="697320"/>
              <a:ext cx="71280" cy="3348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0" y="0"/>
                  </a:moveTo>
                  <a:lnTo>
                    <a:pt x="43" y="0"/>
                  </a:lnTo>
                  <a:lnTo>
                    <a:pt x="43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59520" y="16761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9520" y="16761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0" y="0"/>
                  </a:moveTo>
                  <a:lnTo>
                    <a:pt x="43" y="0"/>
                  </a:lnTo>
                  <a:lnTo>
                    <a:pt x="4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59520" y="265320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3" y="15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9520" y="265320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0" y="0"/>
                  </a:moveTo>
                  <a:lnTo>
                    <a:pt x="43" y="0"/>
                  </a:lnTo>
                  <a:lnTo>
                    <a:pt x="4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59520" y="3631680"/>
              <a:ext cx="71280" cy="2304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59520" y="3631680"/>
              <a:ext cx="71280" cy="2304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0" y="0"/>
                  </a:moveTo>
                  <a:lnTo>
                    <a:pt x="43" y="0"/>
                  </a:lnTo>
                  <a:lnTo>
                    <a:pt x="4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59520" y="460836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3" y="15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4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59520" y="4608360"/>
              <a:ext cx="71280" cy="2520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0" y="0"/>
                  </a:moveTo>
                  <a:lnTo>
                    <a:pt x="43" y="0"/>
                  </a:lnTo>
                  <a:lnTo>
                    <a:pt x="43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59520" y="55785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43" y="14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59520" y="5578560"/>
              <a:ext cx="71280" cy="23400"/>
            </a:xfrm>
            <a:custGeom>
              <a:avLst/>
              <a:gdLst/>
              <a:ahLst/>
              <a:rect l="l" t="t" r="r" b="b"/>
              <a:pathLst>
                <a:path w="43" h="14">
                  <a:moveTo>
                    <a:pt x="0" y="0"/>
                  </a:moveTo>
                  <a:lnTo>
                    <a:pt x="43" y="0"/>
                  </a:lnTo>
                  <a:lnTo>
                    <a:pt x="4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28800" y="727560"/>
              <a:ext cx="6925320" cy="4881240"/>
            </a:xfrm>
            <a:custGeom>
              <a:avLst/>
              <a:gdLst/>
              <a:ahLst/>
              <a:rect l="l" t="t" r="r" b="b"/>
              <a:pathLst>
                <a:path w="4174" h="2898">
                  <a:moveTo>
                    <a:pt x="4174" y="2898"/>
                  </a:moveTo>
                  <a:lnTo>
                    <a:pt x="0" y="0"/>
                  </a:lnTo>
                  <a:lnTo>
                    <a:pt x="0" y="2898"/>
                  </a:lnTo>
                  <a:lnTo>
                    <a:pt x="4174" y="28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12800" y="714240"/>
              <a:ext cx="6926040" cy="4880880"/>
            </a:xfrm>
            <a:custGeom>
              <a:avLst/>
              <a:gdLst/>
              <a:ahLst/>
              <a:rect l="l" t="t" r="r" b="b"/>
              <a:pathLst>
                <a:path w="4174" h="2898">
                  <a:moveTo>
                    <a:pt x="0" y="0"/>
                  </a:moveTo>
                  <a:lnTo>
                    <a:pt x="4174" y="0"/>
                  </a:lnTo>
                  <a:lnTo>
                    <a:pt x="4174" y="28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12800" y="714240"/>
              <a:ext cx="6926040" cy="4880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72240" y="3948480"/>
              <a:ext cx="7092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55520" y="158508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21120" y="3752640"/>
              <a:ext cx="694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51960" y="2832840"/>
              <a:ext cx="69840" cy="6408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25680" y="4478760"/>
              <a:ext cx="694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96080" y="4536000"/>
              <a:ext cx="71280" cy="637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01800" y="4478760"/>
              <a:ext cx="7092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76040" y="412848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34040" y="4381200"/>
              <a:ext cx="71280" cy="6408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63520" y="211572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11560" y="451080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56120" y="412848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40160" y="3786480"/>
              <a:ext cx="71280" cy="6408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347240" y="341100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81480" y="3206880"/>
              <a:ext cx="6984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18560" y="5400000"/>
              <a:ext cx="71280" cy="637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10960" y="375264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25240" y="280764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59320" y="259560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026840" y="2351160"/>
              <a:ext cx="71280" cy="65520"/>
            </a:xfrm>
            <a:prstGeom prst="rect">
              <a:avLst/>
            </a:prstGeom>
            <a:noFill/>
            <a:ln w="7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12800" y="5595480"/>
              <a:ext cx="6926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612800" y="714240"/>
              <a:ext cx="1800" cy="4880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925680" y="3880800"/>
              <a:ext cx="1058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76720" y="1323720"/>
              <a:ext cx="88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URUGUY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24760" y="349200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. DOMINIC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93840" y="257220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094000" y="4527720"/>
              <a:ext cx="6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ARAG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05600" y="444672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76520" y="4527720"/>
              <a:ext cx="55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NICA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685920" y="412308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22160" y="4123080"/>
              <a:ext cx="101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731680" y="18543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912040" y="4608360"/>
              <a:ext cx="109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53880" y="4123080"/>
              <a:ext cx="123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97320" y="3719160"/>
              <a:ext cx="88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71840" y="3150000"/>
              <a:ext cx="52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32720" y="294588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430320" y="5137200"/>
              <a:ext cx="108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05640" y="3557520"/>
              <a:ext cx="94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94760" y="254700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93920" y="2334600"/>
              <a:ext cx="69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58040" y="20818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DB6-85AD-40CF-823B-9F1FA60EA2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6-27T03:27:16Z</dcterms:modified>
  <cp:revision>141</cp:revision>
  <dc:subject/>
  <dc:title>Sin título de diapositiva</dc:title>
</cp:coreProperties>
</file>