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F209-EE29-4081-AAA3-AFB73FC7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2332-8FDD-4114-BAF2-13C960A4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92CE-B68F-4DD4-95B3-EE6E1D35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5361-A0BD-41F7-A7C3-8A809099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4D5D-50F0-4A5B-8514-B196D9A8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F975-BD2D-42DF-A953-75A09494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4426-F0B4-4E6B-85E6-C79186BE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B561-C3B5-4040-9CE6-F3025452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309E-4515-48E2-A26B-75D73468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99CE-E6A3-4DBF-8217-8C547FDB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83A1-2527-4C4F-940E-380C69AD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F499-B4F5-418F-99DE-FBB64B97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66EE-9CC7-4523-A608-7F2E1A5C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F41D-76DC-4CFA-9649-63D19267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DDAF-14E3-4BAC-8CF8-1C3DD870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36AE-F9FF-4EB6-93AB-0A7A04091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0D4D-24AE-43F9-90E5-9A0A3513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8F43-7E8B-428D-BFA5-9D2BF699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2368-58C2-438F-926A-C78D6BDF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A837-50DA-4E1A-AB2E-D2D41D93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A218-CB0A-419B-83D8-8A81F3B4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DBE9-6836-4AA5-8391-EF71D3EC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BC7A-A30B-41B0-A1E5-F90463BB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B168-BEFA-45A6-8A24-7B20C417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1932-B886-425B-9150-0503154CF5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D093-170C-4AF0-B825-EBA4BB7CCA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eec94"/>
                </a:solidFill>
                <a:latin typeface="Impact"/>
              </a:rPr>
              <a:t>Auxiliar 4 IQ753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828800" y="41907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TLAB 6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Clase 4: Análisis Numérico en MATLAB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81280" y="2133720"/>
            <a:ext cx="2590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Times New Roman"/>
              </a:rPr>
              <a:t>Polinomios (1/2)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MATLAB, los polinomios se representan por vectores filas en orden descendente, en los cuales se deben representar los términos nulos. Por ejempl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3x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2x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-9 se representa [1 3 2 0 9]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mo convención, MATLAB identifica a las raíces del polinomio como vectores colum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Times New Roman"/>
              </a:rPr>
              <a:t>Polinomios (2/2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68360" y="1341360"/>
          <a:ext cx="8229600" cy="5072040"/>
        </p:xfrm>
        <a:graphic>
          <a:graphicData uri="http://schemas.openxmlformats.org/drawingml/2006/table">
            <a:tbl>
              <a:tblPr/>
              <a:tblGrid>
                <a:gridCol w="1954080"/>
                <a:gridCol w="6275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un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p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ots(p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trega las raíces del polinomio p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ly(r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trega el polinomio que tiene como raíces los elementos de 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v(a,b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ltiplica los polinomios a y b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conv(a,b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vide el polinomio b en 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lyder(p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lcula la derivada del polinomio 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lyval(p,x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valúa el polinomio p para todos los valores de x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sidue(n,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lcula el desarrollo en fracciones parciales del cociente de n en 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lyder(n,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lcula la derivada del cociente de n en 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Times New Roman"/>
              </a:rPr>
              <a:t>Funcion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9640" y="2060640"/>
          <a:ext cx="8229600" cy="3863880"/>
        </p:xfrm>
        <a:graphic>
          <a:graphicData uri="http://schemas.openxmlformats.org/drawingml/2006/table">
            <a:tbl>
              <a:tblPr/>
              <a:tblGrid>
                <a:gridCol w="2952720"/>
                <a:gridCol w="5276880"/>
              </a:tblGrid>
              <a:tr h="73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unció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pció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plot(‘nombre’, [a b]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fica la función </a:t>
                      </a:r>
                      <a:r>
                        <a:rPr b="0" i="1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mbre</a:t>
                      </a: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en el intervalo </a:t>
                      </a:r>
                      <a:r>
                        <a:rPr b="0" i="1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a,b)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min(‘nombre’,a,b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cuentra mínimos de la función </a:t>
                      </a:r>
                      <a:r>
                        <a:rPr b="0" i="1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mbre</a:t>
                      </a: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unidimensional) en el intervalo </a:t>
                      </a:r>
                      <a:r>
                        <a:rPr b="0" i="1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a,b)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mins(‘nombre’,a,b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cuentra mínimos de la función </a:t>
                      </a:r>
                      <a:r>
                        <a:rPr b="0" i="1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mbre </a:t>
                      </a: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varias variables) en el intervalo </a:t>
                      </a:r>
                      <a:r>
                        <a:rPr b="0" i="1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a,b)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zero(‘nombre’,a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cuentra ceros de la función </a:t>
                      </a:r>
                      <a:r>
                        <a:rPr b="0" i="1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mbre </a:t>
                      </a: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iciando la búsqueda en el punto </a:t>
                      </a:r>
                      <a:r>
                        <a:rPr b="0" i="1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Times New Roman"/>
              </a:rPr>
              <a:t>Integración y Deriva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8360" y="1773360"/>
          <a:ext cx="8229600" cy="3924000"/>
        </p:xfrm>
        <a:graphic>
          <a:graphicData uri="http://schemas.openxmlformats.org/drawingml/2006/table">
            <a:tbl>
              <a:tblPr/>
              <a:tblGrid>
                <a:gridCol w="3467160"/>
                <a:gridCol w="4762440"/>
              </a:tblGrid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unci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apz(x,y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lcula la integral como la suma del área de los trapecios formados por los puntos </a:t>
                      </a:r>
                      <a:r>
                        <a:rPr b="0" i="1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e </a:t>
                      </a:r>
                      <a:r>
                        <a:rPr b="0" i="1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ad(‘nombre’,a,b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ad8(‘nombre’,a,b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lcula la integral entre los puntos </a:t>
                      </a:r>
                      <a:r>
                        <a:rPr b="0" i="1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y </a:t>
                      </a:r>
                      <a:r>
                        <a:rPr b="0" i="1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de la función</a:t>
                      </a:r>
                      <a:r>
                        <a:rPr b="0" i="1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nombre</a:t>
                      </a: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ff(a,b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lcula la derivada entre </a:t>
                      </a:r>
                      <a:r>
                        <a:rPr b="0" i="1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y </a:t>
                      </a:r>
                      <a:r>
                        <a:rPr b="0" i="1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como la pendiente de la recta que pasa por los punto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eec94"/>
                </a:solidFill>
                <a:latin typeface="Times New Roman"/>
              </a:rPr>
              <a:t>Ecuaciones Diferenciales Ordinaria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ara resolver EDO de primer orden con una condición inicial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var0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, se utiliza la herramienta </a:t>
            </a:r>
            <a:r>
              <a:rPr b="1" i="1" lang="es-ES_tradnl" sz="3200" spc="-1" strike="noStrike">
                <a:solidFill>
                  <a:srgbClr val="ffffff"/>
                </a:solidFill>
                <a:latin typeface="Times New Roman"/>
              </a:rPr>
              <a:t>ode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3200" spc="-1" strike="noStrike">
                <a:solidFill>
                  <a:srgbClr val="ffffff"/>
                </a:solidFill>
                <a:latin typeface="Times New Roman"/>
              </a:rPr>
              <a:t>ode23(function,[to tf],var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3200" spc="-1" strike="noStrike">
                <a:solidFill>
                  <a:srgbClr val="ffffff"/>
                </a:solidFill>
                <a:latin typeface="Times New Roman"/>
              </a:rPr>
              <a:t>ode45(function,[to tf],var0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[to tf]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es el intervalo de la solución de la EDO alojada en la función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fun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eec94"/>
                </a:solidFill>
                <a:latin typeface="Times New Roman"/>
              </a:rPr>
              <a:t>FI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RACIAS POR SU AT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15:31:41Z</dcterms:created>
  <dc:creator>Andrés Roque Vargas</dc:creator>
  <dc:description/>
  <dc:language>en-US</dc:language>
  <cp:lastModifiedBy>Andrés Roque Vargas</cp:lastModifiedBy>
  <dcterms:modified xsi:type="dcterms:W3CDTF">2007-04-18T16:27:07Z</dcterms:modified>
  <cp:revision>3</cp:revision>
  <dc:subject/>
  <dc:title>Auxiliar 4 IQ753</dc:title>
</cp:coreProperties>
</file>