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47B5-0A60-4E8F-8231-D6F57CBA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A015-DD7D-43FA-BE33-A4FC6D01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B8D-D9B0-459A-A7D8-3C6F8F73A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E6C2-1249-4B74-B21B-BBB7B409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9C73-1D88-42BC-BF1B-4BDA3DB5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4D17-2206-4C64-8390-5A36A199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E722-EDB8-4DEA-9990-9E6E7EE1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6E5D-F19C-4BBF-8878-558ABC26A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7B07-5A93-4877-BF75-F22551AE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C784-C17E-417A-85FF-DC2DA086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BF05-F2AF-4EAF-9AB6-B2F915FA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A28-0203-48F3-9AAB-C7D92C1E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AE53-3AA3-42A8-A7F0-948C8A1C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49E4-0877-400C-A0E9-A76954DD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0672-7B5F-41AE-983D-F0468E7F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4BCD-882A-4B8B-8D34-AFFE4137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1B18-1F4F-4F6B-8CD1-AFAED343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2027-7193-44FB-9C22-757889C8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4806-1B12-45A6-B296-A75E9A26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B49-86C1-47FF-B345-FA3A4241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F1A-EA9D-49F7-BF45-E06F3658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802-96D5-4E71-9527-BB807FA9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373-A0AA-40E7-BC08-6DB373E2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174-AA46-43A6-966C-1A5B2CB6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AB04-AEFB-47A6-9972-4EBEF3A7165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02C7-F652-4495-B931-371A533E31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0663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Impact"/>
              </a:rPr>
              <a:t>Auxiliar 5 IQ75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920" y="47242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 u="sng">
                <a:solidFill>
                  <a:srgbClr val="000000"/>
                </a:solidFill>
                <a:uFillTx/>
                <a:latin typeface="Verdana"/>
              </a:rPr>
              <a:t>MATLAB 6.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Verdana"/>
              </a:rPr>
              <a:t>Clase 5: Gráficos Bi y Tridimens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059280" y="2565360"/>
            <a:ext cx="25905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Gráficos 3-D: Generalidades (1/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comando para graficar en 3-D es </a:t>
            </a:r>
            <a:r>
              <a:rPr b="1" i="1" lang="es-ES_tradnl" sz="3000" spc="-1" strike="noStrike">
                <a:solidFill>
                  <a:srgbClr val="000000"/>
                </a:solidFill>
                <a:latin typeface="Verdana"/>
              </a:rPr>
              <a:t>plot3(x,y,z).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la sintaxis es similar a </a:t>
            </a:r>
            <a:r>
              <a:rPr b="1" i="1" lang="es-ES_tradnl" sz="3000" spc="-1" strike="noStrike">
                <a:solidFill>
                  <a:srgbClr val="000000"/>
                </a:solidFill>
                <a:latin typeface="Verdana"/>
              </a:rPr>
              <a:t>plot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. Sin embargo, este comando sólo se usa en gráficas de líne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ra graficar mallas de puntos se usa los comand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ES_tradnl" sz="3000" spc="-1" strike="noStrike">
                <a:solidFill>
                  <a:srgbClr val="000000"/>
                </a:solidFill>
                <a:latin typeface="Verdana"/>
              </a:rPr>
              <a:t>[X Y]=meshgrid(x,y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s-ES_tradnl" sz="3000" spc="-1" strike="noStrike">
                <a:solidFill>
                  <a:srgbClr val="000000"/>
                </a:solidFill>
                <a:latin typeface="Verdana"/>
              </a:rPr>
              <a:t>mesh(X,Y,Z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Gráficos 3-D: Generalidades (2/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generar una gráfica de superficie se usa el comando surf(X,Y,Z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s gráficas de contorno en 2 y 3-D se hacen con contour y contour3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función view(azimut,elevación) fija el ángulo de visión de la gráfica. Otra forma de esta función es view([x y z]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orden hidden esconde las líneas que se encuentran tras la gráfic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Gracias por su aten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Gráficos 2-D : La orden </a:t>
            </a:r>
            <a:r>
              <a:rPr b="1" i="1" lang="es-ES_tradnl" sz="3400" spc="-1" strike="noStrike">
                <a:solidFill>
                  <a:srgbClr val="000000"/>
                </a:solidFill>
                <a:latin typeface="Verdana"/>
              </a:rPr>
              <a:t>plot (1/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 pueden especificar algunas características adicionales al comando </a:t>
            </a:r>
            <a:r>
              <a:rPr b="1" i="1" lang="es-ES_tradnl" sz="3000" spc="-1" strike="noStrike">
                <a:solidFill>
                  <a:srgbClr val="000000"/>
                </a:solidFill>
                <a:latin typeface="Verdana"/>
              </a:rPr>
              <a:t>plot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e modo de mejorar la gráfic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tos comandos deben ser escritos como cadena de caracteres y a continuación del par x,y que genera la figur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ales comandos so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Gráficos 2-D : La orden </a:t>
            </a:r>
            <a:r>
              <a:rPr b="1" i="1" lang="es-ES_tradnl" sz="3400" spc="-1" strike="noStrike">
                <a:solidFill>
                  <a:srgbClr val="000000"/>
                </a:solidFill>
                <a:latin typeface="Verdana"/>
              </a:rPr>
              <a:t>plot (2/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66640" y="1773360"/>
          <a:ext cx="8001000" cy="4248000"/>
        </p:xfrm>
        <a:graphic>
          <a:graphicData uri="http://schemas.openxmlformats.org/drawingml/2006/table">
            <a:tbl>
              <a:tblPr/>
              <a:tblGrid>
                <a:gridCol w="1701720"/>
                <a:gridCol w="2298960"/>
                <a:gridCol w="1373040"/>
                <a:gridCol w="2627280"/>
              </a:tblGrid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or Lín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d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ilo Líne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aril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en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rcu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u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rell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z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ínea sól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an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ínea pun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g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-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ínea cort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Gráficos 2-D: Fijar ejes (1/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11280" y="1700280"/>
          <a:ext cx="8001000" cy="4392720"/>
        </p:xfrm>
        <a:graphic>
          <a:graphicData uri="http://schemas.openxmlformats.org/drawingml/2006/table">
            <a:tbl>
              <a:tblPr/>
              <a:tblGrid>
                <a:gridCol w="3068640"/>
                <a:gridCol w="4932360"/>
              </a:tblGrid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([xmin x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min ymax]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ja los valores de los ejes x e y de la gráf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 aut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(‘auto’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ja automáticamente los ej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(axi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ja los ejes fijos para futuras gráficas en la figura de trabaj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 x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(‘xy’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 coordenadas cartesianas (por defecto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 i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(‘ij’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 coordenadas de matriz, con el origen en el ángulo superior izquier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Gráficos 2-D: Fijar ejes (2/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1844640"/>
          <a:ext cx="8001000" cy="4208400"/>
        </p:xfrm>
        <a:graphic>
          <a:graphicData uri="http://schemas.openxmlformats.org/drawingml/2006/table">
            <a:tbl>
              <a:tblPr/>
              <a:tblGrid>
                <a:gridCol w="3068640"/>
                <a:gridCol w="493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a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 squ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 (‘square’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ja y encuadra los ej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 equ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(‘equal’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ja automáticamente los ejes con el mismo factor en amb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 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(‘normal’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activa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 equal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y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 square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(‘off’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activa todos los ejes. Sólo deja el título y los textos en la gráfi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xis(‘on’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a los ej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Gráficos 2-D: Otros tipos (1/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1280" y="1773360"/>
          <a:ext cx="8001000" cy="4249440"/>
        </p:xfrm>
        <a:graphic>
          <a:graphicData uri="http://schemas.openxmlformats.org/drawingml/2006/table">
            <a:tbl>
              <a:tblPr/>
              <a:tblGrid>
                <a:gridCol w="1873080"/>
                <a:gridCol w="6127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an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g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 mismo que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ot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pero en coordenadas logarítmicas en ambos ej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ilog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i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éntico a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lot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pero con un eje dispuesto en coordenadas logarítmicas (x o y respectivamente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ar(t,r,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 gráficos en coordenadas polares, donde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es el vector de ángulos,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el vector de radios y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una cadena de caracteres que describe color, tipo de líne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eran gráficos de barras y de escaler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Gráficos 2-D: Otros tipos (2/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9640" y="1844640"/>
          <a:ext cx="8064360" cy="4105080"/>
        </p:xfrm>
        <a:graphic>
          <a:graphicData uri="http://schemas.openxmlformats.org/drawingml/2006/table">
            <a:tbl>
              <a:tblPr/>
              <a:tblGrid>
                <a:gridCol w="2395440"/>
                <a:gridCol w="5668920"/>
              </a:tblGrid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an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t(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buja un histogra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st(y,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buja un histograma con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elementos.(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es un escalar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orbar(x,y,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resenta la gráfica de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versus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con barras de error descritas por el vector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buja un histograma pol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l(x,y,’e’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lena un polígono 2-D definido por los vectores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e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</a:t>
                      </a: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con el color </a:t>
                      </a:r>
                      <a:r>
                        <a:rPr b="1" i="1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‘e’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Gráficos 2-D: Adición de tex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orden </a:t>
            </a:r>
            <a:r>
              <a:rPr b="1" i="1" lang="es-ES_tradnl" sz="2600" spc="-1" strike="noStrike">
                <a:solidFill>
                  <a:srgbClr val="000000"/>
                </a:solidFill>
                <a:latin typeface="Verdana"/>
              </a:rPr>
              <a:t>grid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agrega una rejilla a la gráfica actu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s ejes horizontales y verticales se pueden nombrar con los comandos </a:t>
            </a:r>
            <a:r>
              <a:rPr b="1" i="1" lang="es-ES_tradnl" sz="2600" spc="-1" strike="noStrike">
                <a:solidFill>
                  <a:srgbClr val="000000"/>
                </a:solidFill>
                <a:latin typeface="Verdana"/>
              </a:rPr>
              <a:t>xlabel(‘texto’)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i="1" lang="es-ES_tradnl" sz="2600" spc="-1" strike="noStrike">
                <a:solidFill>
                  <a:srgbClr val="000000"/>
                </a:solidFill>
                <a:latin typeface="Verdana"/>
              </a:rPr>
              <a:t>ylabel(‘texto’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puede agregar un texto en cualquier zona x,y del gráfico con el comando </a:t>
            </a:r>
            <a:r>
              <a:rPr b="1" i="1" lang="es-ES_tradnl" sz="2600" spc="-1" strike="noStrike">
                <a:solidFill>
                  <a:srgbClr val="000000"/>
                </a:solidFill>
                <a:latin typeface="Verdana"/>
              </a:rPr>
              <a:t>text(x,y,’texto’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ambién se puede agregar texto con el click del mouse con el comando </a:t>
            </a:r>
            <a:r>
              <a:rPr b="1" i="1" lang="es-ES_tradnl" sz="2600" spc="-1" strike="noStrike">
                <a:solidFill>
                  <a:srgbClr val="000000"/>
                </a:solidFill>
                <a:latin typeface="Verdana"/>
              </a:rPr>
              <a:t>gtext(‘texto’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Gráficos 2-D: Manipulación de dat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añadir una línea en una gráfica existente se usa el comando </a:t>
            </a:r>
            <a:r>
              <a:rPr b="1" i="1" lang="es-ES_tradnl" sz="2600" spc="-1" strike="noStrike">
                <a:solidFill>
                  <a:srgbClr val="000000"/>
                </a:solidFill>
                <a:latin typeface="Verdana"/>
              </a:rPr>
              <a:t>hold on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; una vez finalizado se usa </a:t>
            </a:r>
            <a:r>
              <a:rPr b="1" i="1" lang="es-ES_tradnl" sz="2600" spc="-1" strike="noStrike">
                <a:solidFill>
                  <a:srgbClr val="000000"/>
                </a:solidFill>
                <a:latin typeface="Verdana"/>
              </a:rPr>
              <a:t>hold off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 comando </a:t>
            </a:r>
            <a:r>
              <a:rPr b="1" i="1" lang="es-ES_tradnl" sz="2600" spc="-1" strike="noStrike">
                <a:solidFill>
                  <a:srgbClr val="000000"/>
                </a:solidFill>
                <a:latin typeface="Verdana"/>
              </a:rPr>
              <a:t>figur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sirve para crear una nueva ventana gráfica; </a:t>
            </a:r>
            <a:r>
              <a:rPr b="1" i="1" lang="es-ES_tradnl" sz="2600" spc="-1" strike="noStrike">
                <a:solidFill>
                  <a:srgbClr val="000000"/>
                </a:solidFill>
                <a:latin typeface="Verdana"/>
              </a:rPr>
              <a:t>figure(n)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indica una figura específic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orden </a:t>
            </a:r>
            <a:r>
              <a:rPr b="1" i="1" lang="es-ES_tradnl" sz="2600" spc="-1" strike="noStrike">
                <a:solidFill>
                  <a:srgbClr val="000000"/>
                </a:solidFill>
                <a:latin typeface="Verdana"/>
              </a:rPr>
              <a:t>subplot(m,n,p)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divide la ventana gráfica en una matriz de m por n, eligiendo como activa la gráfica en el lugar p-ésim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6:12:55Z</dcterms:created>
  <dc:creator>Andrés Roque Vargas</dc:creator>
  <dc:description/>
  <dc:language>en-US</dc:language>
  <cp:lastModifiedBy>Andrés Roque Vargas</cp:lastModifiedBy>
  <dcterms:modified xsi:type="dcterms:W3CDTF">2007-04-26T01:26:38Z</dcterms:modified>
  <cp:revision>8</cp:revision>
  <dc:subject/>
  <dc:title>Auxiliar 5 IQ753</dc:title>
</cp:coreProperties>
</file>