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27D-940E-4AEE-9C61-B27D5A03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AEC-D89A-4AED-88C1-CBE09606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E19-7578-4771-9CF2-D03801BF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1A4-800E-4FE0-9E76-07A2A0AC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7F01-122D-4C3A-972E-49E9CD0B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9CCF-7CF5-4D7C-8C1E-7AFC11F4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D9BF-FCE0-43F7-A5E2-D5C676C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E729-98A5-48C3-BCE0-34D2F76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4132-61A8-4176-B74C-EC5288B1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A1DE-9129-4CF0-BD12-1703E8D5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F066-3EC3-48D2-A596-A186FCBF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11D-5FD3-456E-BC1B-78B5EB3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7E20-F99A-4D2A-83FC-F9B80224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52B8-E420-4C06-8592-BE3BC3F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267D-7083-4776-874E-D0622E30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CE81-E313-41BD-BADE-4B463422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10A7-FEB9-4070-B08E-2C034272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F4E-EB39-44BF-8C9B-185DA37F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F0F-8FA2-45D7-8A18-47A06CF4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707-1B0E-4E22-9CFE-FC7731B1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F7D-6DC9-44A7-B6D5-20EEF081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222-87D2-4F2E-8014-7C98ED5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E88-04BA-49EC-B9B4-5C1AFEEA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D7B-5FA9-4E33-9757-64EAB43A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3D03-F013-43D1-BEF4-692EF0F91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0826-C05E-4117-B4BA-3FA654ABB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Impact"/>
              </a:rPr>
              <a:t>Auxiliar 4 IQ753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828800" y="4190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TLAB 6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Clase 4: Análisis Numérico en MATLA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Polinomios (1/2)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MATLAB, los polinomios se representan por vectores filas en orden descendente, en los cuales se deben representar los términos nulos. Por ejemp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3x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2x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9 se representa [1 3 2 0 9]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mo convención, MATLAB identifica a las raíces del polinomio como vectores colum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Polinomios (2/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1341360"/>
          <a:ext cx="8229600" cy="5072040"/>
        </p:xfrm>
        <a:graphic>
          <a:graphicData uri="http://schemas.openxmlformats.org/drawingml/2006/table">
            <a:tbl>
              <a:tblPr/>
              <a:tblGrid>
                <a:gridCol w="1954080"/>
                <a:gridCol w="627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ots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trega las raíces del polinomio 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y(r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trega el polinomio que tiene como raíces los elementos de 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v(a,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ltiplica los polinomios a y 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conv(a,b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vide el polinomio b en 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yder(p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derivada del polinomio 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yval(p,x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valúa el polinomio p para todos los valores de x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idue(n,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el desarrollo en fracciones parciales del cociente de n en 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lyder(n,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derivada del cociente de n en 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Funcio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2060640"/>
          <a:ext cx="8229600" cy="3863880"/>
        </p:xfrm>
        <a:graphic>
          <a:graphicData uri="http://schemas.openxmlformats.org/drawingml/2006/table">
            <a:tbl>
              <a:tblPr/>
              <a:tblGrid>
                <a:gridCol w="2952720"/>
                <a:gridCol w="5276880"/>
              </a:tblGrid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ió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ció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plot(‘nombre’, [a b]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fica la función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n el intervalo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,b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min(‘nombre’,a,b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uentra mínimos de la función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unidimensional) en el intervalo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,b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mins(‘nombre’,a,b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uentra mínimos de la función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 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varias variables) en el intervalo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,b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zero(‘nombre’,a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ncuentra ceros de la función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bre 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iciando la búsqueda en el punto </a:t>
                      </a:r>
                      <a:r>
                        <a:rPr b="0" i="1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Times New Roman"/>
              </a:rPr>
              <a:t>Integración y Deriv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1773360"/>
          <a:ext cx="8229600" cy="3924000"/>
        </p:xfrm>
        <a:graphic>
          <a:graphicData uri="http://schemas.openxmlformats.org/drawingml/2006/table">
            <a:tbl>
              <a:tblPr/>
              <a:tblGrid>
                <a:gridCol w="3467160"/>
                <a:gridCol w="4762440"/>
              </a:tblGrid>
              <a:tr h="62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un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pz(x,y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integral como la suma del área de los trapecios formados por los puntos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e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d(‘nombre’,a,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uad8(‘nombre’,a,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integral entre los puntos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y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de la función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nombre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(a,b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ula la derivada entre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y </a:t>
                      </a:r>
                      <a:r>
                        <a:rPr b="0" i="1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como la pendiente de la recta que pasa por los pun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eec94"/>
                </a:solidFill>
                <a:latin typeface="Times New Roman"/>
              </a:rPr>
              <a:t>Ecuaciones Diferenciales Ordinari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resolver EDO de primer orden con una condición inicial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var0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se utiliza la herramienta </a:t>
            </a: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od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ode23(function,[to tf],var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ode45(function,[to tf],var0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[to tf]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s el intervalo de la solución de la EDO alojada en la funció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eec94"/>
                </a:solidFill>
                <a:latin typeface="Times New Roman"/>
              </a:rPr>
              <a:t>FIN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5:31:41Z</dcterms:created>
  <dc:creator>Andrés Roque Vargas</dc:creator>
  <dc:description/>
  <dc:language>en-US</dc:language>
  <cp:lastModifiedBy>Andrés Roque Vargas</cp:lastModifiedBy>
  <dcterms:modified xsi:type="dcterms:W3CDTF">2007-04-18T16:27:07Z</dcterms:modified>
  <cp:revision>3</cp:revision>
  <dc:subject/>
  <dc:title>Auxiliar 4 IQ753</dc:title>
</cp:coreProperties>
</file>