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3C3-283A-4DF1-A3E7-C8A5CCE0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C05-5C05-4198-A4F7-8074CF3D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BEF-E8C5-428A-9F77-9C796709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AF9-04F0-4C6B-98F8-8503364C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6CCC-03DC-4FF9-BF6F-54AF4828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D181-2F9B-40B4-829C-E21A66A1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FA5A-527B-4962-B024-A23ED540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218F-809D-4540-B6D4-EDF5C4C7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99CA-0ACB-4857-9444-8C8A7EAA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AA58-881B-43CA-90F1-C7C78AAD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90A6-B087-484F-A627-15BB399F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2F6-C594-4066-B9B6-80989A19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00ED-D492-4FFF-B904-CF2B967A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C60D-6998-4431-B0E3-519C187A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4CE4-C30A-4E94-9111-F22537C5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3C30-A67C-4B66-9DA0-5B9544EE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69EC-0CDF-47CD-88C5-FBD7E0E2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174-9538-42A2-B6DA-FCD2C514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C95-4677-468B-95F8-95EDB17B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3A6-F626-44C8-8D3F-0DBA96BC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43F-B650-4932-B9AA-33032021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B23-A060-4C3D-8AC3-0011DAC4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608-DD10-4AEB-85EC-38F795D3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C6A-614C-4866-AD1B-4C40F1D5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13EB-E75E-4877-9E62-C7E4540F7DD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4339-7009-489E-8A1A-5F86F9C55E5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Impact"/>
              </a:rPr>
              <a:t>Auxiliar 1 IQ75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800" y="41907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LAB 6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1: Introducción y funciones bás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Variables en MATLAB (2/2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ara obtener una lista de las variables asignadas hasta el momento usamos la orden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ando MATLAB realiza un cálculo, lo hace utilizando los valores que conoce en el momento en que se evalúa la or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 la orden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clear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borran las variables en el espacio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Variables Especiales de MATLA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828800"/>
          <a:ext cx="7086600" cy="4495320"/>
        </p:xfrm>
        <a:graphic>
          <a:graphicData uri="http://schemas.openxmlformats.org/drawingml/2006/table">
            <a:tbl>
              <a:tblPr/>
              <a:tblGrid>
                <a:gridCol w="1447920"/>
                <a:gridCol w="563868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 por defecto de la variable usada para los result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41596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tan pequeño tal que , cuando se compara con cero, es mayor que cer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 (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nitud no numérica (Not-a-numb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o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íz cuadrada de 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número real positivo más pequeño que es utiliza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número real positivo más grande que es utiliza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Otras Características básicas (1/2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os comentarios se escriben después del signo de tanto por ciento (%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colocar órdenes múltiples en una línea se deben separar por comas o puntos y comas. Las comas sirven para visualizar los resultados, mientras que los puntos y comas suprimen la visualización, pero evalúan igualmente la o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TLAB no toma en cuenta los espac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Otras Características básicas (2/2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la sentencia es demasiado larga para que quepa en una línea, una elipsis consistente en tres puntos (...) seguido de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indica que la sentencia continúa en la línea sigu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ara interrumpir MATLAB en cualquier momento: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Ctrl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cribiendo la orden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quit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rmina MATLAB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FI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cias por su a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LAB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lataforma de desarrollo de aplicaciones, donde conjuntos de herramientas inteligentes para la resolución de problemas en áreas de aplicación específica (toolboxes), se pueden desarrollar con facilidad rel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ATLAB es al mismo tiempo un entorno y un lenguaje de progra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pueden crear fácilmente crear funciones y programas especiales (Archivos-M) en código MAT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olbox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: Colección especializada de archivos-M para trabajar en clases particulares de probl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Utilidades de MATLA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álculo Matricial y Algebr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inomios e Interpo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g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juste de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cuaciones Diferenciales Ordin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nteg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ráficos bi y tridimensio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Toolboxes Destacado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ptim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Procesamiento de señ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cuaciones en Derivadas Par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mulink: Simulación No Line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Interfaz de MATLA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701028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Matemáticas Básica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752480"/>
          <a:ext cx="6324840" cy="4632480"/>
        </p:xfrm>
        <a:graphic>
          <a:graphicData uri="http://schemas.openxmlformats.org/drawingml/2006/table">
            <a:tbl>
              <a:tblPr/>
              <a:tblGrid>
                <a:gridCol w="243864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ic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(normal) o \ (invers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iz Cuadr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qrt (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Formato de Visualización de Número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00200" y="1828800"/>
          <a:ext cx="6629400" cy="4346640"/>
        </p:xfrm>
        <a:graphic>
          <a:graphicData uri="http://schemas.openxmlformats.org/drawingml/2006/table">
            <a:tbl>
              <a:tblPr/>
              <a:tblGrid>
                <a:gridCol w="2438280"/>
                <a:gridCol w="419112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 de 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 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díg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 short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dígitos más expon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 long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dígitos más expon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 h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xa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dígitos decim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vo, negativo o c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 r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oximación 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 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ualización por def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Variables en MATLAB (1/2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TLAB almacena resultados por defecto en la variable 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an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s variables son sensibles a las mayúsculas y pueden contener hasta 19 caracteres. Deben comenzar con una le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comprobar el valor de una variable, hay que introducir su nombre a continuación del indicativo de petición de o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4:53:14Z</dcterms:created>
  <dc:creator>nn</dc:creator>
  <dc:description/>
  <dc:language>en-US</dc:language>
  <cp:lastModifiedBy>Andrés Roque Vargas</cp:lastModifiedBy>
  <dcterms:modified xsi:type="dcterms:W3CDTF">2007-04-10T01:13:12Z</dcterms:modified>
  <cp:revision>8</cp:revision>
  <dc:subject/>
  <dc:title>Auxiliar 1 IQ753</dc:title>
</cp:coreProperties>
</file>