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AAF32-B28B-4DD0-B719-4B73A618A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DE664-0041-4088-B717-BDD1A54B6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A57CE-8AA8-4165-A2A8-6A836BCA9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AD197-F358-4DB4-9EB6-7FF8B184A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795A1-37D1-4580-8CA7-AF9356B3F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113CF-2839-4ADA-B1FE-984DB8AFF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7A882-92FD-4ECA-9BFA-98380ABE3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4157D-7206-43F1-B557-C57CF8D97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10988-85D6-49A4-B471-FF1A5E5FE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5169C-349E-4AA4-94DF-C6E7A15D1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A0C34-7C56-4428-A081-6BF52670B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98E9D-1C38-4687-AFCF-E721A49B6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B914E-B99C-467A-AB81-AF35AC484F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33240" y="639720"/>
            <a:ext cx="619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jemplo 1: Flujo de arrastre entre platos paralelos infinito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tidos a una diferencia de pres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2073240"/>
            <a:ext cx="417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979640" y="2649600"/>
            <a:ext cx="417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V="1">
            <a:off x="1979640" y="1557360"/>
            <a:ext cx="136692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346560" y="1557360"/>
            <a:ext cx="165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 flipV="1">
            <a:off x="4965840" y="1557360"/>
            <a:ext cx="122400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2843280" y="1569960"/>
            <a:ext cx="1441440" cy="503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08720" y="1714680"/>
            <a:ext cx="348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706920" y="207324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59280" y="207324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913640" y="214488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4138560" y="2290680"/>
                <a:ext cx="40644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3" name=""/>
          <p:cNvSpPr/>
          <p:nvPr/>
        </p:nvSpPr>
        <p:spPr>
          <a:xfrm>
            <a:off x="2050920" y="2997360"/>
            <a:ext cx="4176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4067280" y="2997360"/>
                <a:ext cx="395280" cy="37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p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5" name=""/>
          <p:cNvSpPr/>
          <p:nvPr/>
        </p:nvSpPr>
        <p:spPr>
          <a:xfrm>
            <a:off x="3708360" y="2060640"/>
            <a:ext cx="432000" cy="576360"/>
          </a:xfrm>
          <a:prstGeom prst="flowChartDelay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708360" y="234936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708360" y="2133720"/>
            <a:ext cx="358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708360" y="2565360"/>
            <a:ext cx="358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46840" y="1852560"/>
            <a:ext cx="1145520" cy="1342440"/>
            <a:chOff x="546840" y="1852560"/>
            <a:chExt cx="1145520" cy="1342440"/>
          </a:xfrm>
        </p:grpSpPr>
        <p:sp>
          <p:nvSpPr>
            <p:cNvPr id="60" name=""/>
            <p:cNvSpPr/>
            <p:nvPr/>
          </p:nvSpPr>
          <p:spPr>
            <a:xfrm>
              <a:off x="1042920" y="2644560"/>
              <a:ext cx="649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1052640" y="2212560"/>
              <a:ext cx="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>
              <a:off x="755640" y="2644560"/>
              <a:ext cx="28728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18320" y="2305080"/>
              <a:ext cx="368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900000" y="1852560"/>
              <a:ext cx="3826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46840" y="2789280"/>
              <a:ext cx="368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266480" y="3300480"/>
            <a:ext cx="678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onemos fluido Newtoniano incompre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evamente, primero aplicamos la ley de conservación de mas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3419640" y="4524480"/>
                <a:ext cx="1881000" cy="67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68" name=""/>
          <p:cNvGrpSpPr/>
          <p:nvPr/>
        </p:nvGrpSpPr>
        <p:grpSpPr>
          <a:xfrm>
            <a:off x="3924360" y="4452840"/>
            <a:ext cx="503280" cy="719280"/>
            <a:chOff x="3924360" y="4452840"/>
            <a:chExt cx="503280" cy="719280"/>
          </a:xfrm>
        </p:grpSpPr>
        <p:sp>
          <p:nvSpPr>
            <p:cNvPr id="69" name=""/>
            <p:cNvSpPr/>
            <p:nvPr/>
          </p:nvSpPr>
          <p:spPr>
            <a:xfrm flipV="1">
              <a:off x="3924360" y="4452840"/>
              <a:ext cx="503280" cy="71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995640" y="4452840"/>
              <a:ext cx="432000" cy="71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"/>
          <p:cNvGrpSpPr/>
          <p:nvPr/>
        </p:nvGrpSpPr>
        <p:grpSpPr>
          <a:xfrm>
            <a:off x="4452840" y="4473360"/>
            <a:ext cx="503280" cy="719280"/>
            <a:chOff x="4452840" y="4473360"/>
            <a:chExt cx="503280" cy="719280"/>
          </a:xfrm>
        </p:grpSpPr>
        <p:sp>
          <p:nvSpPr>
            <p:cNvPr id="72" name=""/>
            <p:cNvSpPr/>
            <p:nvPr/>
          </p:nvSpPr>
          <p:spPr>
            <a:xfrm flipV="1">
              <a:off x="4452840" y="4473360"/>
              <a:ext cx="503280" cy="71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524120" y="4473720"/>
              <a:ext cx="432000" cy="71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"/>
          <p:cNvSpPr/>
          <p:nvPr/>
        </p:nvSpPr>
        <p:spPr>
          <a:xfrm>
            <a:off x="1395720" y="5264280"/>
            <a:ext cx="5337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a que el flujo es sólo en la dirección de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Lueg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3132000" y="5603760"/>
                <a:ext cx="2376720" cy="125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r>
                          <m:t xml:space="preserve">v</m:t>
                        </m:r>
                      </m:e>
                    </m:ba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  <m:acc>
                      <m:accPr>
                        <m:chr m:val="⃗"/>
                      </m:accPr>
                      <m:e/>
                    </m:acc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6" name=""/>
          <p:cNvSpPr/>
          <p:nvPr/>
        </p:nvSpPr>
        <p:spPr>
          <a:xfrm>
            <a:off x="5729400" y="5964120"/>
            <a:ext cx="319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 velocidad no cambia en l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ción del fluj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906120" y="620640"/>
            <a:ext cx="427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plicando la ecuación de Navier-Stok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1619280" y="1052640"/>
                <a:ext cx="5014800" cy="94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ρ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∂</m:t>
                            </m:r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v</m:t>
                                </m:r>
                              </m:e>
                            </m:ba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t</m:t>
                            </m:r>
                          </m:den>
                        </m:f>
                        <m:r>
                          <m:t xml:space="preserve">+</m:t>
                        </m:r>
                        <m:bar>
                          <m:barPr>
                            <m:pos m:val="bot"/>
                          </m:barPr>
                          <m:e>
                            <m:r>
                              <m:t xml:space="preserve">v</m:t>
                            </m:r>
                          </m:e>
                        </m:bar>
                        <m:r>
                          <m:t xml:space="preserve">⋅</m:t>
                        </m:r>
                        <m:r>
                          <m:t xml:space="preserve">∇</m:t>
                        </m:r>
                        <m:bar>
                          <m:barPr>
                            <m:pos m:val="bot"/>
                          </m:barPr>
                          <m:e>
                            <m:r>
                              <m:t xml:space="preserve">v</m:t>
                            </m:r>
                          </m:e>
                        </m:bar>
                      </m:e>
                    </m:d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∇</m:t>
                    </m:r>
                    <m:r>
                      <m:t xml:space="preserve">p</m:t>
                    </m:r>
                    <m:r>
                      <m:t xml:space="preserve">+</m:t>
                    </m:r>
                    <m:r>
                      <m:t xml:space="preserve">u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∇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bar>
                      <m:barPr>
                        <m:pos m:val="bot"/>
                      </m:barPr>
                      <m:e>
                        <m:r>
                          <m:t xml:space="preserve">v</m:t>
                        </m:r>
                      </m:e>
                    </m:bar>
                    <m:r>
                      <m:t xml:space="preserve">+</m:t>
                    </m:r>
                    <m:r>
                      <m:t xml:space="preserve">ρ</m:t>
                    </m:r>
                    <m:r>
                      <m:t xml:space="preserve">⋅</m:t>
                    </m:r>
                    <m:r>
                      <m:t xml:space="preserve">g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611280" y="1989000"/>
                <a:ext cx="7839000" cy="244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ρ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∂</m:t>
                                </m:r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x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t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f>
                              <m:num>
                                <m:r>
                                  <m:t xml:space="preserve">∂</m:t>
                                </m:r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x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x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f>
                              <m:num>
                                <m:r>
                                  <m:t xml:space="preserve">∂</m:t>
                                </m:r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x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y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z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f>
                              <m:num>
                                <m:r>
                                  <m:t xml:space="preserve">∂</m:t>
                                </m:r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x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z</m:t>
                                </m:r>
                              </m:den>
                            </m:f>
                          </m:e>
                        </m:d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p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u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p>
                                  <m:e>
                                    <m:r>
                                      <m:t xml:space="preserve">∂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x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∂</m:t>
                                </m:r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sSup>
                                  <m:e>
                                    <m:r>
                                      <m:t xml:space="preserve">∂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x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∂</m:t>
                                </m:r>
                                <m:sSup>
                                  <m:e>
                                    <m:r>
                                      <m:t xml:space="preserve">y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sSup>
                                  <m:e>
                                    <m:r>
                                      <m:t xml:space="preserve">∂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x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∂</m:t>
                                </m:r>
                                <m:sSup>
                                  <m:e>
                                    <m:r>
                                      <m:t xml:space="preserve">z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</m:e>
                        </m:d>
                        <m:r>
                          <m:t xml:space="preserve">+</m:t>
                        </m:r>
                        <m:r>
                          <m:t xml:space="preserve">ρ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e>
                      <m:e>
                        <m:r>
                          <m:t xml:space="preserve">ρ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∂</m:t>
                                </m:r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y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t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f>
                              <m:num>
                                <m:r>
                                  <m:t xml:space="preserve">∂</m:t>
                                </m:r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y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x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f>
                              <m:num>
                                <m:r>
                                  <m:t xml:space="preserve">∂</m:t>
                                </m:r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y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y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z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f>
                              <m:num>
                                <m:r>
                                  <m:t xml:space="preserve">∂</m:t>
                                </m:r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y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z</m:t>
                                </m:r>
                              </m:den>
                            </m:f>
                          </m:e>
                        </m:d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p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y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u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p>
                                  <m:e>
                                    <m:r>
                                      <m:t xml:space="preserve">∂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y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∂</m:t>
                                </m:r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sSup>
                                  <m:e>
                                    <m:r>
                                      <m:t xml:space="preserve">∂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y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∂</m:t>
                                </m:r>
                                <m:sSup>
                                  <m:e>
                                    <m:r>
                                      <m:t xml:space="preserve">y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sSup>
                                  <m:e>
                                    <m:r>
                                      <m:t xml:space="preserve">∂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y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∂</m:t>
                                </m:r>
                                <m:sSup>
                                  <m:e>
                                    <m:r>
                                      <m:t xml:space="preserve">z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</m:e>
                        </m:d>
                        <m:r>
                          <m:t xml:space="preserve">+</m:t>
                        </m:r>
                        <m:r>
                          <m:t xml:space="preserve">ρ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</m:e>
                      <m:e>
                        <m:r>
                          <m:t xml:space="preserve">ρ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∂</m:t>
                                </m:r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z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t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f>
                              <m:num>
                                <m:r>
                                  <m:t xml:space="preserve">∂</m:t>
                                </m:r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z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x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f>
                              <m:num>
                                <m:r>
                                  <m:t xml:space="preserve">∂</m:t>
                                </m:r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z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y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z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f>
                              <m:num>
                                <m:r>
                                  <m:t xml:space="preserve">∂</m:t>
                                </m:r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z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z</m:t>
                                </m:r>
                              </m:den>
                            </m:f>
                          </m:e>
                        </m:d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p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z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u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p>
                                  <m:e>
                                    <m:r>
                                      <m:t xml:space="preserve">∂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z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∂</m:t>
                                </m:r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sSup>
                                  <m:e>
                                    <m:r>
                                      <m:t xml:space="preserve">∂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z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∂</m:t>
                                </m:r>
                                <m:sSup>
                                  <m:e>
                                    <m:r>
                                      <m:t xml:space="preserve">y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sSup>
                                  <m:e>
                                    <m:r>
                                      <m:t xml:space="preserve">∂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z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∂</m:t>
                                </m:r>
                                <m:sSup>
                                  <m:e>
                                    <m:r>
                                      <m:t xml:space="preserve">z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</m:e>
                        </m:d>
                        <m:r>
                          <m:t xml:space="preserve">+</m:t>
                        </m:r>
                        <m:r>
                          <m:t xml:space="preserve">ρ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0" name=""/>
          <p:cNvSpPr/>
          <p:nvPr/>
        </p:nvSpPr>
        <p:spPr>
          <a:xfrm>
            <a:off x="956880" y="4673520"/>
            <a:ext cx="732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o sabemos algunas cosas que simplifican el problema: v2 = v3 = 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4067280" y="5157720"/>
                <a:ext cx="85248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2" name=""/>
          <p:cNvSpPr/>
          <p:nvPr/>
        </p:nvSpPr>
        <p:spPr>
          <a:xfrm flipV="1">
            <a:off x="1908000" y="1125000"/>
            <a:ext cx="64800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2700360" y="1197000"/>
            <a:ext cx="57636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971640" y="1844640"/>
            <a:ext cx="3384360" cy="273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00000" y="1773360"/>
            <a:ext cx="3456000" cy="273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5940360" y="1196640"/>
            <a:ext cx="57636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873840" y="765000"/>
            <a:ext cx="157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 desprecie efect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la grave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6659640" y="1196640"/>
            <a:ext cx="28872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740720" y="1989000"/>
            <a:ext cx="576360" cy="25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7740720" y="1988640"/>
            <a:ext cx="576360" cy="25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5651640" y="3716280"/>
            <a:ext cx="165708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5651640" y="2781360"/>
            <a:ext cx="187308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5580000" y="2060280"/>
            <a:ext cx="43200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7093080" y="1989000"/>
            <a:ext cx="358560" cy="71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666360" y="784080"/>
            <a:ext cx="180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uego, se tien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2627280" y="620640"/>
                <a:ext cx="1548000" cy="242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p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y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p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z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p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u</m:t>
                        </m:r>
                        <m:r>
                          <m:t xml:space="preserve">⋅</m:t>
                        </m:r>
                        <m:f>
                          <m:num>
                            <m:sSup>
                              <m:e>
                                <m:r>
                                  <m:t xml:space="preserve">∂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900000" y="3141720"/>
                <a:ext cx="730116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p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=</m:t>
                    </m:r>
                    <m:r>
                      <m:t xml:space="preserve">K</m:t>
                    </m:r>
                    <m:acc>
                      <m:accPr>
                        <m:chr m:val="⃗"/>
                      </m:accPr>
                      <m:e/>
                    </m:acc>
                    <m:r>
                      <m:t xml:space="preserve">Δp</m:t>
                    </m:r>
                    <m:r>
                      <m:t xml:space="preserve">=</m:t>
                    </m:r>
                    <m:r>
                      <m:t xml:space="preserve">K</m:t>
                    </m:r>
                    <m:r>
                      <m:t xml:space="preserve">⋅</m:t>
                    </m:r>
                    <m:r>
                      <m:t xml:space="preserve">Δx</m:t>
                    </m:r>
                    <m:r>
                      <m:t xml:space="preserve">+</m:t>
                    </m:r>
                    <m:r>
                      <m:t xml:space="preserve">K</m:t>
                    </m:r>
                    <m:r>
                      <m:t xml:space="preserve">2</m:t>
                    </m:r>
                    <m:acc>
                      <m:accPr>
                        <m:chr m:val="⃗"/>
                      </m:accPr>
                      <m:e/>
                    </m:acc>
                    <m:r>
                      <m:t xml:space="preserve">Δp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L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Δ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3203640" y="3933720"/>
                <a:ext cx="2071800" cy="83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L</m:t>
                        </m:r>
                      </m:den>
                    </m:f>
                    <m:r>
                      <m:t xml:space="preserve">=</m:t>
                    </m:r>
                    <m:r>
                      <m:t xml:space="preserve">u</m:t>
                    </m:r>
                    <m:r>
                      <m:t xml:space="preserve">⋅</m:t>
                    </m:r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1763640" y="4869000"/>
                <a:ext cx="5400720" cy="77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∂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y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u</m:t>
                        </m:r>
                        <m:r>
                          <m:t xml:space="preserve">⋅</m:t>
                        </m:r>
                        <m:r>
                          <m:t xml:space="preserve">L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∂</m:t>
                    </m:r>
                    <m:r>
                      <m:t xml:space="preserve">y</m:t>
                    </m:r>
                    <m:acc>
                      <m:accPr>
                        <m:chr m:val="⃗"/>
                      </m:accPr>
                      <m:e/>
                    </m:acc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y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u</m:t>
                        </m:r>
                        <m:r>
                          <m:t xml:space="preserve">⋅</m:t>
                        </m:r>
                        <m:r>
                          <m:t xml:space="preserve">L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+</m:t>
                    </m:r>
                    <m:r>
                      <m:t xml:space="preserve">K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1073160" y="5878440"/>
                <a:ext cx="7358040" cy="77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∂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u</m:t>
                        </m:r>
                        <m:r>
                          <m:t xml:space="preserve">⋅</m:t>
                        </m:r>
                        <m:r>
                          <m:t xml:space="preserve">L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⋅</m:t>
                    </m:r>
                    <m:r>
                      <m:t xml:space="preserve">∂</m:t>
                    </m:r>
                    <m:r>
                      <m:t xml:space="preserve">y</m:t>
                    </m:r>
                    <m:r>
                      <m:t xml:space="preserve">+</m:t>
                    </m:r>
                    <m:r>
                      <m:t xml:space="preserve">K</m:t>
                    </m:r>
                    <m:r>
                      <m:t xml:space="preserve">1</m:t>
                    </m:r>
                    <m:r>
                      <m:t xml:space="preserve">⋅</m:t>
                    </m:r>
                    <m:r>
                      <m:t xml:space="preserve">∂</m:t>
                    </m:r>
                    <m:r>
                      <m:t xml:space="preserve">y</m:t>
                    </m:r>
                    <m:acc>
                      <m:accPr>
                        <m:chr m:val="⃗"/>
                      </m:accPr>
                      <m:e/>
                    </m:acc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u</m:t>
                        </m:r>
                        <m:r>
                          <m:t xml:space="preserve">⋅</m:t>
                        </m:r>
                        <m:r>
                          <m:t xml:space="preserve">L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r>
                      <m:t xml:space="preserve">K</m:t>
                    </m:r>
                    <m:r>
                      <m:t xml:space="preserve">1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+</m:t>
                    </m:r>
                    <m:r>
                      <m:t xml:space="preserve">K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2484360" y="1052640"/>
            <a:ext cx="417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484360" y="1628640"/>
            <a:ext cx="417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2484360" y="536400"/>
            <a:ext cx="136692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851280" y="536400"/>
            <a:ext cx="165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 flipV="1">
            <a:off x="5470560" y="536400"/>
            <a:ext cx="122400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348000" y="549360"/>
            <a:ext cx="1441440" cy="503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213440" y="693720"/>
            <a:ext cx="348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211640" y="105264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364000" y="105264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418360" y="112392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4643280" y="1270080"/>
                <a:ext cx="40644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2" name=""/>
          <p:cNvSpPr/>
          <p:nvPr/>
        </p:nvSpPr>
        <p:spPr>
          <a:xfrm>
            <a:off x="2556000" y="1976400"/>
            <a:ext cx="4176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4572000" y="1976400"/>
                <a:ext cx="395280" cy="3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p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4" name=""/>
          <p:cNvSpPr/>
          <p:nvPr/>
        </p:nvSpPr>
        <p:spPr>
          <a:xfrm>
            <a:off x="4213080" y="1039680"/>
            <a:ext cx="432000" cy="576360"/>
          </a:xfrm>
          <a:prstGeom prst="flowChartDelay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13080" y="132876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213080" y="1112760"/>
            <a:ext cx="358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213080" y="1544760"/>
            <a:ext cx="358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1051560" y="831960"/>
            <a:ext cx="1145160" cy="1342440"/>
            <a:chOff x="1051560" y="831960"/>
            <a:chExt cx="1145160" cy="1342440"/>
          </a:xfrm>
        </p:grpSpPr>
        <p:sp>
          <p:nvSpPr>
            <p:cNvPr id="119" name=""/>
            <p:cNvSpPr/>
            <p:nvPr/>
          </p:nvSpPr>
          <p:spPr>
            <a:xfrm>
              <a:off x="1547640" y="1623960"/>
              <a:ext cx="649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>
              <a:off x="1557360" y="1191960"/>
              <a:ext cx="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>
              <a:off x="1260000" y="1623960"/>
              <a:ext cx="28692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822680" y="1284480"/>
              <a:ext cx="368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404720" y="831960"/>
              <a:ext cx="3823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051560" y="1768680"/>
              <a:ext cx="368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1604520" y="2728800"/>
            <a:ext cx="252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diciones de borde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067280" y="2708280"/>
                <a:ext cx="207144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114800" y="3321000"/>
                <a:ext cx="91440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k</m:t>
                        </m:r>
                        <m:r>
                          <m:t xml:space="preserve">2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K</m:t>
                        </m:r>
                        <m:r>
                          <m:t xml:space="preserve">1</m:t>
                        </m:r>
                        <m:r>
                          <m:t xml:space="preserve">=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3213000"/>
                <a:ext cx="2092320" cy="11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K</m:t>
                        </m:r>
                        <m:r>
                          <m:t xml:space="preserve">1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K</m:t>
                        </m:r>
                        <m:r>
                          <m:t xml:space="preserve">2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Δp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r>
                              <m:t xml:space="preserve">u</m:t>
                            </m:r>
                            <m:r>
                              <m:t xml:space="preserve">⋅</m:t>
                            </m:r>
                            <m:r>
                              <m:t xml:space="preserve">L</m:t>
                            </m:r>
                          </m:den>
                        </m:f>
                        <m:r>
                          <m:t xml:space="preserve">⋅</m:t>
                        </m:r>
                        <m:r>
                          <m:t xml:space="preserve">H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468360" y="4437000"/>
                <a:ext cx="7313400" cy="98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u</m:t>
                        </m:r>
                        <m:r>
                          <m:t xml:space="preserve">⋅</m:t>
                        </m:r>
                        <m:r>
                          <m:t xml:space="preserve">L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u</m:t>
                        </m:r>
                        <m:r>
                          <m:t xml:space="preserve">⋅</m:t>
                        </m:r>
                        <m:r>
                          <m:t xml:space="preserve">L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H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u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L</m:t>
                        </m:r>
                      </m:den>
                    </m:f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y</m:t>
                            </m:r>
                          </m:num>
                          <m:den>
                            <m:r>
                              <m:t xml:space="preserve">H</m:t>
                            </m:r>
                          </m:den>
                        </m:f>
                        <m:r>
                          <m:t xml:space="preserve">−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y</m:t>
                                    </m:r>
                                  </m:num>
                                  <m:den>
                                    <m:r>
                                      <m:t xml:space="preserve">H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30" name=""/>
          <p:cNvSpPr/>
          <p:nvPr/>
        </p:nvSpPr>
        <p:spPr>
          <a:xfrm>
            <a:off x="3567960" y="5661000"/>
            <a:ext cx="18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il paraból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8T22:01:00Z</dcterms:created>
  <dc:creator>Ing Quimica</dc:creator>
  <dc:description/>
  <dc:language>en-US</dc:language>
  <cp:lastModifiedBy>Ing Quimica</cp:lastModifiedBy>
  <dcterms:modified xsi:type="dcterms:W3CDTF">2007-04-18T22:01:13Z</dcterms:modified>
  <cp:revision>1</cp:revision>
  <dc:subject/>
  <dc:title>Diapositiva 1</dc:title>
</cp:coreProperties>
</file>