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EE0-304A-4D5C-A284-8FFB8E9A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F31-8D34-4861-8620-30068135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DA0-AA2A-4B17-A156-886D7D77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113-EE34-4A3A-A115-744EC9C8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282-7F82-4770-BCB4-5E06534B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659-91D1-49EF-86CA-B5DD0BD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75A-0E5F-46C4-82F0-FF6BE3F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123-684C-4F6D-8850-D17766F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448-3B48-4ECE-91F6-DA02EEE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65D-F63F-47E6-903D-DD3B11C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C05-DC71-4520-AEC4-B4457F5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B23-ECE6-4036-A030-DD97DA8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E378-5EAA-4097-8560-0B2CD4EC7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7:17:32Z</dcterms:created>
  <dc:creator>Jorge</dc:creator>
  <dc:description/>
  <dc:language>en-US</dc:language>
  <cp:lastModifiedBy>Jorge</cp:lastModifiedBy>
  <dcterms:modified xsi:type="dcterms:W3CDTF">2007-05-19T17:17:58Z</dcterms:modified>
  <cp:revision>1</cp:revision>
  <dc:subject/>
  <dc:title>Diapositiva 1</dc:title>
</cp:coreProperties>
</file>