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DB9-CEFE-4715-8528-9060B080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061-242A-4DF1-AF73-DC56C636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D06-ADCF-427C-A03A-D58CB887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6FD-961B-4CDB-86D2-FB3FD94A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149-548D-4C6B-9A6B-F8E8C733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9D8-EB5E-4C96-8890-361247C0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4DB-23DB-4E63-AB65-2EFC80B3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776-AB4C-4519-83E8-27307995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D46-49BC-431E-8BAA-6B9A0079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726-35F3-4D14-9DA6-858F56A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CD8-2349-46ED-BCE4-AE6B78B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AFD-410D-4EBB-A7DD-AD161EE3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417B-E6B8-4AB0-8F44-623ABF9B5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7:17:32Z</dcterms:created>
  <dc:creator>Jorge</dc:creator>
  <dc:description/>
  <dc:language>en-US</dc:language>
  <cp:lastModifiedBy>Jorge</cp:lastModifiedBy>
  <dcterms:modified xsi:type="dcterms:W3CDTF">2007-05-19T17:17:58Z</dcterms:modified>
  <cp:revision>1</cp:revision>
  <dc:subject/>
  <dc:title>Diapositiva 1</dc:title>
</cp:coreProperties>
</file>