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678-99CB-49BA-9D74-24CC65CE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E8B-4F2D-4A80-B529-EBB0C32F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C5C-198C-43F9-9B86-B0F5A176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184-C374-42DF-8E43-43F1CA59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FF0-5C58-4491-8E35-1769DBC1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08A-4486-4C83-B065-F56639DA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618-386B-437E-9C55-9F3AA132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C5B-6E11-496D-A93D-C6DDFDEB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EB0-80DE-4037-B1E8-14C7F8D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F0D-153C-4F9E-AF6B-DB3AFC9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F0E-1FEA-4501-B7D5-5252676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B82-19FE-4849-969D-480A6209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8F03-9AB0-40A4-B9AE-C5AEB303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7:17:32Z</dcterms:created>
  <dc:creator>Jorge</dc:creator>
  <dc:description/>
  <dc:language>en-US</dc:language>
  <cp:lastModifiedBy>Jorge</cp:lastModifiedBy>
  <dcterms:modified xsi:type="dcterms:W3CDTF">2007-05-19T17:17:58Z</dcterms:modified>
  <cp:revision>1</cp:revision>
  <dc:subject/>
  <dc:title>Diapositiva 1</dc:title>
</cp:coreProperties>
</file>