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82B-4BE2-40B6-9BAC-FAED6D3D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1A6-29E6-4B09-A3A8-562E6BA6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467-1F7D-4C3A-931C-C46475E0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2E4-276A-469C-8AAC-91BD3FAB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781-348E-4508-AB65-E3EFE9E8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788-55AF-4C96-A198-CA598CA0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4E3-8B13-4B90-9695-55ADD125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EE5-D1CC-4484-871C-047A14C7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CA4-231F-4AF4-8324-A293AFD2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C62-B9F6-4202-8502-44D0FC71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454-AB06-41C4-879F-EC3119C4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E12-8003-4A0B-AECB-99F14CB9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1257-DC3D-4246-8836-42520E793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7:17:32Z</dcterms:created>
  <dc:creator>Jorge</dc:creator>
  <dc:description/>
  <dc:language>en-US</dc:language>
  <cp:lastModifiedBy>Jorge</cp:lastModifiedBy>
  <dcterms:modified xsi:type="dcterms:W3CDTF">2007-05-19T17:17:58Z</dcterms:modified>
  <cp:revision>1</cp:revision>
  <dc:subject/>
  <dc:title>Diapositiva 1</dc:title>
</cp:coreProperties>
</file>