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930F-87C1-451D-9A2E-005C3592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EB40-5E2C-4656-B848-F3C5DF83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0035-3557-402F-8B6B-1360719C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E5FD-7475-4D72-8711-87AF7EAC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CB2B-9F21-42FF-B4E4-6F18105A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97E7-3228-44BE-A7BA-F9C4AA6E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205F-B8F5-49DC-AFFF-12ACD8F8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0DEF-D751-4A2A-8290-469F633A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1C13-9C21-4F0B-BB77-B0CF8983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3F88-87D2-451A-84DF-DD64BB80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BE61-4536-4D43-BB29-F2D435D50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9F6C-B0C4-4111-B7D9-0674A2BA5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7833EE-4298-4D09-B18B-62CA2839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77145F-7A2F-4DEE-B8EF-B8ECDE4B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2C5466-185F-4DC7-B865-0A5ACEA7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BA0CA3-DD4B-4985-9AAF-4FCBD596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2C2992-E13E-4F66-A2E4-42E91D1A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33D0F6-9D61-4ADB-8ED2-528C62B5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44B690-BB30-49E4-98E6-DA4437F2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F3E27D-0B5B-4C13-95B5-723C9793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0A7211-6C0C-44D1-986F-508F687B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C6BC30-22A5-4686-8EDC-285C484E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661493-3E8D-42A1-BAC5-13BED0003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0C0EE2-F781-4AA0-A67E-87AFBAB6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8458200" y="6172200"/>
          <a:ext cx="45576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172200"/>
                    <a:ext cx="45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241E-BE2E-407F-A4B9-57B3C7AA91F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FBA6-8A13-4353-88E6-3D1992BCDB73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MACRO SEGMENTACIÓN Y CICLO DE VIDA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1. FASE DE 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la fase de incertidum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ta la información sobre el consumidor, los canales y la compet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dialéctica principal se establece entre el producto innovador y los sustitut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roducto suele ser el principal protagonista de la fase.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¿Tendrá futu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87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1. FASE DE 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6858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¿Cómo empiez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novación tecnológi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mbios en las motivaciones del consumid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mbios sociales  o económicos que favorecen nuevos usos del produc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uevos grupos de consumidores que se empiezan a incorporar al consumo del product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asa de fracasos muy elevada ¿Por qu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l público no acepta la innov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 se consigue distribución (en los canales tradicionales o nuevo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os líderes (de los productos a sustituir) dominan el mercad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parece otra tecnología que si es aceptad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1. FASE DE 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764640"/>
            <a:ext cx="8066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Factores crí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puesta a punto del producto y la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orientación del público innov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ar a conocer el producto y convencer al púb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olaboración de la distribución o la creación de nuevos ca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mento (tiempo) y forma 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tección por patentes, barreras arancel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etencia de los productos sustit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tinguir entre prueba y repetición en la compra del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recimiento lento, faltan consumidores/usuarios y distrib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sh-flow neg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y que soportar inversiones en  producción e I+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2. FASE DE CRECI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e explosiva en crecimiento, en la que aparecen las claves que determinarán la dinámica competitiva futura. En esta etapa se desarrolla el mercado de referencia y se cubren distintas posiciones P/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2. FASE DE CRECI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920" y="1066680"/>
            <a:ext cx="8207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¿Cómo empiez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usuario acepta el producto (incorporación de los primeros adoptadores y de la primera mayor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istribución se amplía rápid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éxito atrae a muchos competidores que conjuntamente contribuyen a desarrollar 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líderes de la industria entran en juego y marcan su hegemo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a tasa de fracasos es b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unas empresas tienen dificultades para financiar el cre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íderes futuros suelen crecer por encima  de la media del mer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71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2. FASE DE CRECI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97920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actores crí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ener participación de Mer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bajar en el desarrollo de la Imagen de marca (fidelidad futu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n los costos (efecto volumen y aprendiza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usión de la tecnolo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bertura de la distrib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tamente comienza el aprendizaje por parte d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arse para bajadas de precios hacia el final de la 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perfila la definición de roles: líder, seguidor, retador, especial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ención de recursos financi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flujos de caja  son positivos y crecen rápid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rtización de la inversión in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3. FASE DE TURBUL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roduce desaceleración del crecimiento  como consecuencia de la saturación del merca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ele tomar  a los desprevenidos con ampliaciones de capacidad y endeudamiento financier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ventas totales crecen a tasas más bajas pero mayores aún que el promedio de la Econom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134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3. FASE DE TURBUL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¿Cómo empiez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y una inflexión brusca en la tasa de cre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istribución encaja con dificultades y traslada la crisis a los fabric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erte caída de pre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a de conservadur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bando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roduce un abandono masivo de los competidores más débiles que no consiguen aguantar el cambio de velo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recen los “nicheros” o especialist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fuertes se reestructur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se prepar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a afrontar la madurez del mer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98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3. FASE DE TURBUL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685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actores crí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cionalización de todos los procesos. Hay que bajar co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unos competidores aguantan por reputación, activos especializados, barreras de salida y ... Se incrementa la rivalidad compet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liar la línea de productos con diferentes tamaños, sabores y variantes. Buscar satisfacer a segmentos y necesidades “aledaña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sión geográfica e intern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uantan los más fuertes (preparados en la etapa de crecimiento) y preparan la madurez (reestructur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ión de la imagen versus promociones continu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no se puede hacer lo anterior, hay que buscar nic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4. FASE DE MADUR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adurez se caracteriza por la estabilidad y por ser la más larga del ciclo y en la que se encuentran la mayoría de los merc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2209680"/>
            <a:ext cx="8001000" cy="1572120"/>
          </a:xfrm>
          <a:prstGeom prst="rect">
            <a:avLst/>
          </a:prstGeom>
          <a:solidFill>
            <a:srgbClr val="99ff33"/>
          </a:solidFill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CROSEGMENTACION = DEFINICIÓN DEL NEG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rk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4. FASE DE MADUR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¿Cómo empiez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líderes de mercado empiezan a imponer su hegemonía y se instaura un relativo oligopolio que favorece mantener un “statuo quo” de hec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Concentración de 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nar cuota es caro y se tiende a mantener las pos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tiende a cumplir la llamada ley de Henderson (3*4). Tres competidores importantes con  un reparto de cuotas de 4 a 1 entre el primero y el últ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4. FASE DE MADUR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Factores crí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tasa de penetración es máxima: el consumidor es experto (última mayorí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Diversificar al máximo la línea de product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ompras de reposición de bienes durabl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stabilización tecnológica y estandarización de product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¿Cómo crecer en mercados madur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Gaps de uso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: más cantidad, más frecuente, nuevos us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Desarrollo de periféricos de servici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¿Cómo mantener la rentabilid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lección de los segmentos rentab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Gastar más en Fidelizar cliente que en Penetra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5. FASE DE DECL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se caracterizada  po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descenso de la demanda, la certidumbre respecto la decadencia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incertidumbre respecto a su du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 una etapa que discrimina los competidor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desinvierten, que cosecha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se especializan en mercados residuales rentables e invierten para segu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5. FASE DE DECL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¿Cómo empiez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parecen productos sustituto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s consumidores (mayorías) cambian de hábitos y abandonan el product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s que quedan rezagados y el entorno en general apuntan a la obsolescencia del product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5. FASE DE DECL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a tasa de abando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competidores que abandonan el P/M son significativos. Algunos practican la obsolescencia planificada o buscan la expansión geográfica en mercados exteriores de otro nivel (Ciclo de Vida Interna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actores crí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barreras de salida y la calidad del mer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 de precios (pueden subir) y fidelidad del cl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ción selectiva o marketing dir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abilidad de nichos de mer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io del mercado por un competi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206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RCADO POTENCIAL (ABSOLUTO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RCADO POTENCIAL  (ACTU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838080" y="1981080"/>
            <a:ext cx="7772400" cy="2303640"/>
          </a:xfrm>
          <a:prstGeom prst="rect">
            <a:avLst/>
          </a:prstGeom>
          <a:solidFill>
            <a:srgbClr val="99ff33"/>
          </a:solidFill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 interesará en general, sobretodo  respecto de la visión estratégica, buenas estimaciones del MERCADO POTENCIAL ABSOL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 llamaremos sólo Mercado Poten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587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RCADO POTENCIAL (ABSOLUT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108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úmero de unidades de consumo potenci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alquier persona de 5 o más años es usuario pot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o representa el 90% de la población to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 en Chile: 15 millones de habit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tiene pues: 90% de 15 millones = 13,5 millones de perso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úmero de ocasiones de uso por añ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 consumos semanales  por  usuario (cada uso equivale a 0,25  litros de coca col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úmero de usos por año: 13,5 millones de usuarios * 2/semana*52 semanas =1.404  millones de ocasiones de uso por año o 351 litros de bebidas gaseo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sa de consumo por  ocasión de us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utilización normal implica 0.25 litros por  u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mercado potencial absoluto es pues de: 1.404 millones de litros por a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botella promedio  contiene 1,5  litros; lo que hace: 936 millones de botellas/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7440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o alcanzamos el Poten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2560" y="19432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12800" y="1333440"/>
            <a:ext cx="1905120" cy="46483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12800" y="1104840"/>
            <a:ext cx="1905120" cy="12193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12800" y="1104840"/>
            <a:ext cx="1905120" cy="12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12800" y="2324160"/>
            <a:ext cx="190512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2800" y="3543480"/>
            <a:ext cx="1905120" cy="1218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12800" y="4762440"/>
            <a:ext cx="190512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12800" y="55245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2560" y="72396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rcado Potencial Absol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59520" y="1143000"/>
            <a:ext cx="20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uficiencia de 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53040" y="2362320"/>
            <a:ext cx="194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uficiencia de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59520" y="3581280"/>
            <a:ext cx="20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uficiencia en 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04680" y="47624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95480" y="560088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160" y="4994280"/>
            <a:ext cx="1271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84200" y="476244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75120" y="2324160"/>
            <a:ext cx="609480" cy="365760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41800" y="3543480"/>
            <a:ext cx="609840" cy="243828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08840" y="4762440"/>
            <a:ext cx="609480" cy="121932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099200" y="5524560"/>
            <a:ext cx="609840" cy="45720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60520" y="4762440"/>
            <a:ext cx="0" cy="1219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60520" y="59817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84400" y="106668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lementar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ma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22840" y="110484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98800" y="1104840"/>
            <a:ext cx="0" cy="1219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889520" y="23241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965840" y="2324160"/>
            <a:ext cx="0" cy="1219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27760" y="2286000"/>
            <a:ext cx="13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mpliar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56200" y="3543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32520" y="3543480"/>
            <a:ext cx="0" cy="12189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4080" y="3505320"/>
            <a:ext cx="11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tim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s u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946920" y="48387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023240" y="48387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08840" y="4724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acar a 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86440" y="5448240"/>
            <a:ext cx="135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fender s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s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UFICIENCIA DE U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2196720"/>
            <a:ext cx="82296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IDORES POTENCIALES QUE NO SON USU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CA FRECUENCIA DE U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JA CANT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2590920"/>
            <a:ext cx="8686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52480" y="2819520"/>
            <a:ext cx="5791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CASO    POUPARIÑA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781680" y="533520"/>
            <a:ext cx="13176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UFICIENCIA DE DISTRIBU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268000"/>
            <a:ext cx="82296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BERTURA INSUFIC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NSIDAD INSUFIC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OSICIÓN INSUFIC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UFICIENCIA DE PRODU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68000"/>
            <a:ext cx="82296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MA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17240" y="591840"/>
            <a:ext cx="8762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- DEFINI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438280" y="4267080"/>
            <a:ext cx="304920" cy="1600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781360" y="4191120"/>
            <a:ext cx="547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gt; 1 Precio promedio de X mayor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09520" y="54864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 1 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440" y="4648320"/>
            <a:ext cx="12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V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4400" y="5029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476600" y="3219480"/>
                <a:ext cx="190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371600" y="1828800"/>
                <a:ext cx="4457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t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Marca 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t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el Prod-Md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1371600" y="34290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36576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9257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 volumen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=  PMV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 valor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=  PM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- OBSERV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-  Cuidado con cual es el MP de ref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-  A veces algunas marcas incluyen ventas de otros M-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-  Análisis en el tiempo (mejor Promedios Móviles para observar tendenci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- DESCOMPOSICIÓN DE LA PARTICIP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MERCA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86200"/>
            <a:ext cx="8153280" cy="459720"/>
          </a:xfrm>
          <a:prstGeom prst="rect">
            <a:avLst/>
          </a:prstGeom>
          <a:solidFill>
            <a:srgbClr val="99ff33"/>
          </a:solidFill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ARTICIPAC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f(Penetración, Lealtad, Intens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95360" y="123336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LTAD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dad que tiene una persona promedio de comprar la marca X cuando va a comprar el produ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NETR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centaje del Mercado Potencial que consume alguna vez la marca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NSIDAD (de uso)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úmero de veces en un período de tiempo que el consumid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edio compra (consume) el producto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FINA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radores de Nescafé (Personas que compran café, y algunas veces al menos,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escafé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radores de café.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FINA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cc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= Cantidad de café comprado por lo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radores de café en un período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 ti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cx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ntidad de café (cualquier marca)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rada por los compradores de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escaf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xx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ntidad de Nescafé comprada por lo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radores de Nescafé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TONC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xx/Qcc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ticipación en Volum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x/Nc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netraci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xx/Qcx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altad por el Nescafé de lo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radores de Nescaf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xx/Nx =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sumo promedio de 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Nescafé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compradores de 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Nescafé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cx/Nx =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sumo promedio de 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afé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 lo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radores de 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Nescaf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cc/Nc =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sumo promedio de 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afé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 lo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radores de 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afé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cx/Nx)/(Qcc/Nc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ntensidad relativa de consumo de </a:t>
            </a:r>
            <a:r>
              <a:rPr b="1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café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de los compradores de </a:t>
            </a:r>
            <a:r>
              <a:rPr b="1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Nescafé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MERCADOS Y PRODU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ES DIMENSIONES PARA DEFINIR UN MERCA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UNCION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(¿QUÉ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RUPO DE COMPRADOR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(¿QUIÉN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CNOLOGÍ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(¿CÓMO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O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66160" y="2712960"/>
            <a:ext cx="604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09480" y="2860560"/>
            <a:ext cx="4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15920" y="2712960"/>
            <a:ext cx="584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8108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76520" y="28605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64600" y="2712960"/>
            <a:ext cx="1041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71800" y="3124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84520" y="2712960"/>
            <a:ext cx="10339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0" y="3124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13520" y="3855960"/>
            <a:ext cx="774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Nótese que matemáticamente esta es una igual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235080" y="1949400"/>
          <a:ext cx="8650080" cy="28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1949400"/>
                    <a:ext cx="865008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88880" y="51912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35576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cc = 1.550.000 * 1,63225806  =  2.529.999,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cx =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700.000 * 1.8) + (200.000 * 1.7) + (50.000 *1.6) +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50.000 * 1.5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 1.75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xx =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700.000 * 1.8) + (200.000 * 0.9) + (50.000 * 1.0) +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50.000 * 0.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1.51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x =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700.000 + 200.000 + 50.000 + 50.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1.0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c =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55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xx/Qcc =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0,598814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ne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x/Nc =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0,645161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alt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xx/Qcx =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0,863247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nsidad rel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Qcx/Nx)/(Qcc/Nc)  =  1.075197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jemplo: Mercado de Café Soluble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ticipación de Nescafé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,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netración de Nescafé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,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altad de Nescafé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,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nsidad relativa de Nescafé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,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ticipación = Penetración * Lealtad * Inten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0,6      =       0,65      *   0,86   *     1,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25320" y="30636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Unicode MS"/>
              </a:rPr>
              <a:t>DIMENSIONES DEL MERCADO DE REFER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94760" y="1782000"/>
            <a:ext cx="8836920" cy="4361040"/>
            <a:chOff x="194760" y="1782000"/>
            <a:chExt cx="8836920" cy="4361040"/>
          </a:xfrm>
        </p:grpSpPr>
        <p:sp>
          <p:nvSpPr>
            <p:cNvPr id="158" name=""/>
            <p:cNvSpPr/>
            <p:nvPr/>
          </p:nvSpPr>
          <p:spPr>
            <a:xfrm flipV="1">
              <a:off x="1674000" y="1842480"/>
              <a:ext cx="360" cy="205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6600" y="3889080"/>
              <a:ext cx="1344240" cy="1376640"/>
            </a:xfrm>
            <a:custGeom>
              <a:avLst/>
              <a:gdLst/>
              <a:ahLst/>
              <a:rect l="l" t="t" r="r" b="b"/>
              <a:pathLst>
                <a:path w="2152" h="2168">
                  <a:moveTo>
                    <a:pt x="2152" y="0"/>
                  </a:moveTo>
                  <a:lnTo>
                    <a:pt x="0" y="216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74000" y="3900600"/>
              <a:ext cx="4480920" cy="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16560" y="1782000"/>
              <a:ext cx="4580640" cy="86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900" spc="-1" strike="noStrike">
                  <a:solidFill>
                    <a:srgbClr val="000000"/>
                  </a:solidFill>
                  <a:latin typeface="Book Antiqua"/>
                </a:rPr>
                <a:t>Funciones o necesidad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900" spc="-1" strike="noStrike">
                  <a:solidFill>
                    <a:srgbClr val="000000"/>
                  </a:solidFill>
                  <a:latin typeface="Book Antiqua"/>
                </a:rPr>
                <a:t>¿«Qué necesidades» satisfacer?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4760" y="5279760"/>
              <a:ext cx="4113360" cy="86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900" spc="-1" strike="noStrike">
                  <a:solidFill>
                    <a:srgbClr val="000000"/>
                  </a:solidFill>
                  <a:latin typeface="Book Antiqua"/>
                </a:rPr>
                <a:t>Tecnología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900" spc="-1" strike="noStrike">
                  <a:solidFill>
                    <a:srgbClr val="000000"/>
                  </a:solidFill>
                  <a:latin typeface="Book Antiqua"/>
                </a:rPr>
                <a:t>¿«Cómo» satisfacer?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95240" y="3557520"/>
              <a:ext cx="2836440" cy="79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900" spc="-1" strike="noStrike">
                  <a:solidFill>
                    <a:srgbClr val="000000"/>
                  </a:solidFill>
                  <a:latin typeface="Book Antiqua"/>
                </a:rPr>
                <a:t>Grupos de comprador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900" spc="-1" strike="noStrike">
                  <a:solidFill>
                    <a:srgbClr val="000000"/>
                  </a:solidFill>
                  <a:latin typeface="Book Antiqua"/>
                </a:rPr>
                <a:t>¿«A quién» satisfacer?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1388520" y="743040"/>
            <a:ext cx="7345080" cy="5942520"/>
            <a:chOff x="1388520" y="743040"/>
            <a:chExt cx="7345080" cy="5942520"/>
          </a:xfrm>
        </p:grpSpPr>
        <p:sp>
          <p:nvSpPr>
            <p:cNvPr id="165" name=""/>
            <p:cNvSpPr/>
            <p:nvPr/>
          </p:nvSpPr>
          <p:spPr>
            <a:xfrm flipV="1">
              <a:off x="5347080" y="743040"/>
              <a:ext cx="360" cy="117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47080" y="1938960"/>
              <a:ext cx="198864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583880" y="1930320"/>
              <a:ext cx="771480" cy="57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07920" y="744840"/>
              <a:ext cx="1256040" cy="27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Func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73160" y="1697400"/>
              <a:ext cx="1360440" cy="66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Grupo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comp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70560" y="1549440"/>
              <a:ext cx="313920" cy="28548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88520" y="977760"/>
              <a:ext cx="3454200" cy="10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Negoc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Book Antiqua"/>
                </a:rPr>
                <a:t>Un producto mercado se sitúa 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Book Antiqua"/>
                </a:rPr>
                <a:t>la intersección de un grupo de comp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Book Antiqua"/>
                </a:rPr>
                <a:t>y de una función bas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Book Antiqua"/>
                </a:rPr>
                <a:t>en una tecnología correc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98160" y="2508120"/>
              <a:ext cx="1256040" cy="2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Tecnologí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5344920" y="2692440"/>
              <a:ext cx="360" cy="117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47080" y="3860640"/>
              <a:ext cx="198864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565520" y="3860640"/>
              <a:ext cx="771480" cy="57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70560" y="2647800"/>
              <a:ext cx="125604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Func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54800" y="3602520"/>
              <a:ext cx="1360440" cy="66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Grupo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comp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47040" y="4451400"/>
              <a:ext cx="1256040" cy="2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Tecnologí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363600">
              <a:off x="5838480" y="3198240"/>
              <a:ext cx="312480" cy="280080"/>
            </a:xfrm>
            <a:prstGeom prst="cube">
              <a:avLst>
                <a:gd name="adj" fmla="val 3074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363600">
              <a:off x="5742360" y="3269880"/>
              <a:ext cx="312480" cy="280080"/>
            </a:xfrm>
            <a:prstGeom prst="cube">
              <a:avLst>
                <a:gd name="adj" fmla="val 3074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363600">
              <a:off x="5648040" y="3339720"/>
              <a:ext cx="312480" cy="280080"/>
            </a:xfrm>
            <a:prstGeom prst="cube">
              <a:avLst>
                <a:gd name="adj" fmla="val 3074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363600">
              <a:off x="5555160" y="3416040"/>
              <a:ext cx="312480" cy="280080"/>
            </a:xfrm>
            <a:prstGeom prst="cube">
              <a:avLst>
                <a:gd name="adj" fmla="val 3074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363600">
              <a:off x="5463360" y="3492000"/>
              <a:ext cx="312840" cy="280080"/>
            </a:xfrm>
            <a:prstGeom prst="cube">
              <a:avLst>
                <a:gd name="adj" fmla="val 3074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5344920" y="4692600"/>
              <a:ext cx="360" cy="117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565520" y="5869440"/>
              <a:ext cx="771480" cy="57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09960" y="6442920"/>
              <a:ext cx="1256040" cy="2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Tecnologí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47080" y="5868360"/>
              <a:ext cx="198864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73160" y="5640840"/>
              <a:ext cx="1360440" cy="66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Grupo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comp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70560" y="4658760"/>
              <a:ext cx="125604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Func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02920" y="4978440"/>
              <a:ext cx="1137240" cy="1142640"/>
            </a:xfrm>
            <a:prstGeom prst="cube">
              <a:avLst>
                <a:gd name="adj" fmla="val 1027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37200" y="5006520"/>
              <a:ext cx="8640" cy="996120"/>
            </a:xfrm>
            <a:custGeom>
              <a:avLst/>
              <a:gdLst/>
              <a:ahLst/>
              <a:rect l="l" t="t" r="r" b="b"/>
              <a:pathLst>
                <a:path w="15" h="1883">
                  <a:moveTo>
                    <a:pt x="0" y="0"/>
                  </a:moveTo>
                  <a:lnTo>
                    <a:pt x="15" y="188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5200" y="5996520"/>
              <a:ext cx="962280" cy="6120"/>
            </a:xfrm>
            <a:custGeom>
              <a:avLst/>
              <a:gdLst/>
              <a:ahLst/>
              <a:rect l="l" t="t" r="r" b="b"/>
              <a:pathLst>
                <a:path w="1883" h="12">
                  <a:moveTo>
                    <a:pt x="0" y="0"/>
                  </a:moveTo>
                  <a:lnTo>
                    <a:pt x="1883" y="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90680" y="3263760"/>
              <a:ext cx="2721240" cy="85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Merc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Book Antiqua"/>
                </a:rPr>
                <a:t>Un mercado cubre el conju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Book Antiqua"/>
                </a:rPr>
                <a:t>de las tecnologías para una función y un grupo de comp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90680" y="5168880"/>
              <a:ext cx="2721240" cy="10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Indust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Book Antiqua"/>
                </a:rPr>
                <a:t>Una industria está definida por una tecnología cualesquiera que las funciones y los grupos de compradores afect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 CICLO DE V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137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iclo de Vi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es u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co conceptu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eresante par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acteriz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ractivo y evolución de un mercado-produc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os: Mayonesa, Productos Dieté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09480" y="149976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eterminantes del Ciclo de Vi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ecnología (productos sustitutivo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ercado (nuevos hábitos, variaciones de la población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sfuerzo de Marketing de las empresas (no es neutro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obre la unidad de análi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oducto/mercado   versus   marca o product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 CICLO DE V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620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ICLO DE VIDA PRODUCTO/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317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94200" y="5791320"/>
            <a:ext cx="35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uente: Adaptado de Lambin (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23623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219320" y="1557360"/>
          <a:ext cx="6933960" cy="41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57360"/>
                    <a:ext cx="693396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1571760" y="2671920"/>
            <a:ext cx="5667120" cy="2690640"/>
          </a:xfrm>
          <a:custGeom>
            <a:avLst/>
            <a:gdLst/>
            <a:ahLst/>
            <a:rect l="l" t="t" r="r" b="b"/>
            <a:pathLst>
              <a:path w="3570" h="1695">
                <a:moveTo>
                  <a:pt x="0" y="1692"/>
                </a:moveTo>
                <a:cubicBezTo>
                  <a:pt x="143" y="1677"/>
                  <a:pt x="637" y="1695"/>
                  <a:pt x="859" y="1591"/>
                </a:cubicBezTo>
                <a:cubicBezTo>
                  <a:pt x="1081" y="1487"/>
                  <a:pt x="1216" y="1221"/>
                  <a:pt x="1334" y="1066"/>
                </a:cubicBezTo>
                <a:cubicBezTo>
                  <a:pt x="1452" y="911"/>
                  <a:pt x="1474" y="799"/>
                  <a:pt x="1567" y="661"/>
                </a:cubicBezTo>
                <a:cubicBezTo>
                  <a:pt x="1660" y="523"/>
                  <a:pt x="1745" y="343"/>
                  <a:pt x="1890" y="237"/>
                </a:cubicBezTo>
                <a:cubicBezTo>
                  <a:pt x="2035" y="131"/>
                  <a:pt x="2222" y="50"/>
                  <a:pt x="2436" y="25"/>
                </a:cubicBezTo>
                <a:cubicBezTo>
                  <a:pt x="2650" y="0"/>
                  <a:pt x="2984" y="10"/>
                  <a:pt x="3173" y="85"/>
                </a:cubicBezTo>
                <a:cubicBezTo>
                  <a:pt x="3362" y="160"/>
                  <a:pt x="3487" y="395"/>
                  <a:pt x="3570" y="477"/>
                </a:cubicBezTo>
              </a:path>
            </a:pathLst>
          </a:custGeom>
          <a:noFill/>
          <a:ln w="442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83680" y="1773360"/>
            <a:ext cx="49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olución de la demanda e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7T22:08:22Z</dcterms:created>
  <dc:creator>Dii</dc:creator>
  <dc:description/>
  <dc:language>en-US</dc:language>
  <cp:lastModifiedBy>William Young</cp:lastModifiedBy>
  <dcterms:modified xsi:type="dcterms:W3CDTF">2007-06-12T01:46:16Z</dcterms:modified>
  <cp:revision>127</cp:revision>
  <dc:subject/>
  <dc:title>Sin título de diapositiva</dc:title>
</cp:coreProperties>
</file>