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DFE-E5B5-4E02-9F37-08EEA2BC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F66-EF85-410D-8842-61752DE5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B7C-C1D5-4762-AE04-3D1F78EE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EE5-1D38-4E38-8E7F-AE820DE1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645-BD4F-498A-8AE7-9EB77CF7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1FE-6EDE-491B-A833-11CA6D1E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F09-8491-4368-B330-02D51E89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193-2D7E-4CAD-B95A-8E508410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50B-8F3B-4E0B-9EC5-C4017EFB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F02-E362-433E-A887-F8A99EAE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602-B810-4574-B985-5F326315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EB9-9977-4A9C-9604-BA14185A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AEAD11-BAB2-4AF2-9CC8-D3EA8483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8B018B-0759-4326-80AD-0261F782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837927-EB47-425E-BC2A-EA10F252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64186A-F5EA-425B-9464-33A3D7A1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F75C3-52C5-4910-B7B2-2F4AAE07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5E3EC-1299-4138-B876-8F34651C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6F1C06-C0F3-4D4C-9DEC-8A001CE7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E5A17-5750-4D86-ACBD-F0F41FE6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F28CCF-C8EB-431C-803B-44C472BB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F48521-AC1F-4010-8CB6-B2923AB7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24EF4-3F76-48FD-ACA5-6C2E184F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7EE773-E161-49E9-BC2D-69FDD12D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609B-7F64-4AFC-ACCF-BA36E744816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5A50-16A1-4237-8F74-84F95B617EE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MACRO SEGMENTACIÓN Y CICLO DE VID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1. FASE DE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fase de incertid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la información sobre el consumidor, los canales y la compe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ialéctica principal se establece entre el producto innovador y los sustitu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oducto suele ser el principal protagonista de la fase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Tendrá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87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1. FASE DE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mbios en las motivaciones del consumid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mbios sociales  o económicos que favorecen nuevos usos del produc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uevos grupos de consumidores que se empiezan a incorporar al consumo del product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sa de fracasos muy elevada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 público no acepta la innov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se consigue distribución (en los canales tradicionales o nuev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s líderes (de los productos a sustituir) dominan el merc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arece otra tecnología que si es acepta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1. FASE DE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764640"/>
            <a:ext cx="8066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uesta a punto del producto y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orientación del público innov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r a conocer el producto y convencer al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laboración de la distribución o la creación de nuevos c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mento (tiempo) y form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ección por patentes, barreras arancel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etencia de los 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tinguir entre prueba y repetición en la compra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cimiento lento, faltan consumidores/usuarios y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h-flow neg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que soportar inversiones en  producción e I+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2. FASE DE CRE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explosiva en crecimiento, en la que aparecen las claves que determinarán la dinámica competitiva futura. En esta etapa se desarrolla el mercado de referencia y se cubren distintas posiciones P/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2. FASE DE CRE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207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usuario acepta el producto (incorporación de los primeros adoptadores y de la primera mayor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stribución se amplía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éxito atrae a muchos competidores que conjuntamente contribuyen a desarrollar 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de la industria entran en juego y marcan su hegemo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 tasa de fracasos es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nas empresas tienen dificultades para financiar el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deres futuros suelen crecer por encima  de la media del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71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2. FASE DE CRE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9792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er participación de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ar en el desarrollo de la Imagen de marca (fidelidad fu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n los costos (efecto volumen y aprendiza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usión de la 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bertura de la dis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tamente comienza el aprendizaje por parte d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rse para bajadas de precios hacia el final de la 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erfila la definición de roles: líder, seguidor, retador, especia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ción de recursos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flujos de caja  son positivos y crecen rápid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ación de la inversión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3. FASE DE TURBUL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duce desaceleración del crecimiento  como consecuencia de la saturación del merc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ele tomar  a los desprevenidos con ampliaciones de capacidad y endeudamiento financie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ventas totales crecen a tasas más bajas pero mayores aún que el promedio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134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3. FASE DE TURBUL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y una inflexión brusca en la tasa de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stribución encaja con dificultades y traslada la crisis a los fabric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te caída de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a de conservadu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band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roduce un abandono masivo de los competidores más débiles que no consiguen aguantar el cambio de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ecen los “nicheros” o especialis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fuertes se reestructur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se prepar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 afrontar la madurez del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9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3. FASE DE TURBUL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ionalización de todos los procesos. Hay que bajar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unos competidores aguantan por reputación, activos especializados, barreras de salida y ... Se incrementa la rivalidad 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ar la línea de productos con diferentes tamaños, sabores y variantes. Buscar satisfacer a segmentos y necesidades “aledaña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sión geográfica e inter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uantan los más fuertes (preparados en la etapa de crecimiento) y preparan la madurez (reestructur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la imagen versus promociones continu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no se puede hacer lo anterior, hay que buscar ni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4. FASE DE MADUR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durez se caracteriza por la estabilidad y por ser la más larga del ciclo y en la que se encuentran la mayoría de los merc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209680"/>
            <a:ext cx="8001000" cy="1572120"/>
          </a:xfrm>
          <a:prstGeom prst="rect">
            <a:avLst/>
          </a:prstGeom>
          <a:solidFill>
            <a:srgbClr val="99ff33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CROSEGMENTACION = DEFINICIÓN 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k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4. FASE DE MADUR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líderes de mercado empiezan a imponer su hegemonía y se instaura un relativo oligopolio que favorece mantener un “statuo quo” de h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Concentración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r cuota es caro y se tiende a mantener las pos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iende a cumplir la llamada ley de Henderson (3*4). Tres competidores importantes con  un reparto de cuotas de 4 a 1 entre el primero y el últ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4. FASE DE MADUR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tasa de penetración es máxima: el consumidor es experto (última mayorí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iversificar al máximo la línea de produc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mpras de reposición de bienes durab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abilización tecnológica y estandarización de produc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¿Cómo crecer en mercados madur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Gaps de us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más cantidad, más frecuente, nuevos us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sarrollo de periféricos de servic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¿Cómo mantener la rentabil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lección de los segmentos rentab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astar más en Fidelizar cliente que en Penetr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5. FASE DE DEC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e caracterizada  po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scenso de la demanda, la certidumbre respecto la decadenci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incertidumbre respecto a su du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una etapa que discrimina los competidor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desinvierten, que cosech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 especializan en mercados residuales rentables e invierten para segu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5. FASE DE DEC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parecen productos sustituto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s consumidores (mayorías) cambian de hábitos y abandonan el produc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s que quedan rezagados y el entorno en general apuntan a la obsolescencia del produc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5. FASE DE DEC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 tasa de aband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mpetidores que abandonan el P/M son significativos. Algunos practican la obsolescencia planificada o buscan la expansión geográfica en mercados exteriores de otro nivel (Ciclo de Vida Interna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barreras de salida y la calidad del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de precios (pueden subir) y fidelidad del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selectiva o marketing di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dad de nicho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io del mercado por un competi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206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RCADO POTENCIAL (ABSOLUTO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RCADO POTENCIAL  (ACTU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38080" y="1981080"/>
            <a:ext cx="7772400" cy="2303640"/>
          </a:xfrm>
          <a:prstGeom prst="rect">
            <a:avLst/>
          </a:prstGeom>
          <a:solidFill>
            <a:srgbClr val="99ff33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 interesará en general, sobretodo  respecto de la visión estratégica, buenas estimaciones del MERCADO POTENCIAL AB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 llamaremos sólo Mercado Poten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87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RCADO POTENCIAL (ABSOLUT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10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úmero de unidades de consumo potenci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lquier persona de 5 o más años es usuario pot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o representa el 90% de la población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 en Chile: 15 millones de habi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tiene pues: 90% de 15 millones = 13,5 millones de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úmero de ocasiones de uso por a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consumos semanales  por  usuario (cada uso equivale a 0,25  litros de coca col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usos por año: 13,5 millones de usuarios * 2/semana*52 semanas =1.404  millones de ocasiones de uso por año o 351 litros de bebidas gaseo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a de consumo por  ocasión de u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utilización normal implica 0.25 litros por 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mercado potencial absoluto es pues de: 1.404 millones de litros por 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botella promedio  contiene 1,5  litros; lo que hace: 936 millones de botellas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7440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o alcanzamos el Poten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2560" y="19432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12800" y="1333440"/>
            <a:ext cx="1905120" cy="4648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12800" y="1104840"/>
            <a:ext cx="1905120" cy="1219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12800" y="1104840"/>
            <a:ext cx="19051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2800" y="2324160"/>
            <a:ext cx="190512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2800" y="3543480"/>
            <a:ext cx="1905120" cy="1218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12800" y="4762440"/>
            <a:ext cx="190512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12800" y="5524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2560" y="7239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rcado Potencial Ab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59520" y="114300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de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3040" y="2362320"/>
            <a:ext cx="19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59520" y="358128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en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04680" y="47624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95480" y="56008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60" y="4994280"/>
            <a:ext cx="1271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84200" y="476244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75120" y="2324160"/>
            <a:ext cx="609480" cy="36576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41800" y="3543480"/>
            <a:ext cx="609840" cy="24382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08840" y="4762440"/>
            <a:ext cx="609480" cy="1219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99200" y="5524560"/>
            <a:ext cx="609840" cy="4572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60520" y="476244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60520" y="5981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4400" y="106668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mentar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ma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2840" y="110484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98800" y="110484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89520" y="23241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65840" y="232416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7760" y="2286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pliar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56200" y="3543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32520" y="3543480"/>
            <a:ext cx="0" cy="1218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080" y="350532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im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s 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46920" y="4838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23240" y="4838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08840" y="472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acar a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440" y="544824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ender 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FICIENCIA DE U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196720"/>
            <a:ext cx="82296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IDORES POTENCIALES QUE NO SON USU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CA FRECUENCIA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JA CANT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259092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52480" y="2819520"/>
            <a:ext cx="5791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ASO    POUPARIÑ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317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FICIENCIA DE DISTRIB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2680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BERTURA IN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NSIDAD IN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OSICIÓN IN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FICIENCIA DE 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680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M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7240" y="591840"/>
            <a:ext cx="876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- DEFIN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426708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81360" y="4191120"/>
            <a:ext cx="54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1 Precio promedio de X mayor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09520" y="5486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 1 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440" y="4648320"/>
            <a:ext cx="12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5029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371600" y="1828800"/>
                <a:ext cx="4457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Marca 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l Prod-Md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1371600" y="3429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3657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925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volumen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=  PM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val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=  PM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- OBSERV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-  Cuidado con cual es el MP de re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-  A veces algunas marcas incluyen ventas de otros M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-  Análisis en el tiempo (mejor Promedios Móviles para observar tendenci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- DESCOMPOSICIÓN DE LA PARTICIP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MERC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86200"/>
            <a:ext cx="8153280" cy="459720"/>
          </a:xfrm>
          <a:prstGeom prst="rect">
            <a:avLst/>
          </a:prstGeom>
          <a:solidFill>
            <a:srgbClr val="99ff33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TICIP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f(Penetración, Lealtad, Intens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360" y="123336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LTA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dad que tiene una persona promedio de comprar la marca X cuando va a comprar el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ET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centaje del Mercado Potencial que consume alguna vez la marca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NSIDAD (de uso)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úmero de veces en un período de tiempo que el consumid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edio compra (consume) el product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radores de Nescafé (Personas que compran café, y algunas veces al menos,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scaf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radores de café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 Cantidad de café comprado por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ores de café en un período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cx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tidad de café (cualquier marca)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a por los compradores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scaf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tidad de Nescafé comprada por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ores de Nescafé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xx/Qcc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icipación en Volu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x/Nc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netr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xx/Qcx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altad por el Nescafé de l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adores de Nes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xx/Nx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umo promedio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es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ompradores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es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cx/Nx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umo promedio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ores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escaf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cc/Nc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umo promedio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ores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cx/Nx)/(Qcc/Nc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tensidad relativa de consumo de </a:t>
            </a: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afé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de los compradores de </a:t>
            </a: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Nescafé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MERCADOS Y PRODU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ES DIMENSIONES PARA DEFINIR UN MERC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¿QUÉ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RUPO DE COMPRADO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¿QUIÉN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¿CÓMO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6160" y="2712960"/>
            <a:ext cx="604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09480" y="286056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15920" y="2712960"/>
            <a:ext cx="584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76520" y="28605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64600" y="2712960"/>
            <a:ext cx="1041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3124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84520" y="2712960"/>
            <a:ext cx="103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3520" y="3855960"/>
            <a:ext cx="77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ótese que matemáticamente esta es una igual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35080" y="1949400"/>
          <a:ext cx="8650080" cy="28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949400"/>
                    <a:ext cx="86500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8880" y="51912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35576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cc = 1.550.000 * 1,63225806  =  2.529.999,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cx =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700.000 * 1.8) + (200.000 * 1.7) + (50.000 *1.6) +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50.000 * 1.5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 1.75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xx =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700.000 * 1.8) + (200.000 * 0.9) + (50.000 * 1.0) +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50.000 * 0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1.51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x =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700.000 + 200.000 + 50.000 + 50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1.0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c =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55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xx/Qcc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,598814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ne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x/Nc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,645161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alt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xx/Qcx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,863247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nsidad rel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Qcx/Nx)/(Qcc/Nc)  =  1.075197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jemplo: Mercado de Café Soluble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icipación de Nescafé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netración de Nescafé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,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altad de Nescafé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,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nsidad relativa de Nescaf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,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icipación = Penetración * Lealtad * Inten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,6      =       0,65      *   0,86   *     1,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25320" y="306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Unicode MS"/>
              </a:rPr>
              <a:t>DIMENSIONES DEL MERCADO DE RE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4760" y="1782000"/>
            <a:ext cx="8836920" cy="4361040"/>
            <a:chOff x="194760" y="1782000"/>
            <a:chExt cx="8836920" cy="4361040"/>
          </a:xfrm>
        </p:grpSpPr>
        <p:sp>
          <p:nvSpPr>
            <p:cNvPr id="158" name=""/>
            <p:cNvSpPr/>
            <p:nvPr/>
          </p:nvSpPr>
          <p:spPr>
            <a:xfrm flipV="1">
              <a:off x="1674000" y="1842480"/>
              <a:ext cx="360" cy="205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6600" y="3889080"/>
              <a:ext cx="1344240" cy="1376640"/>
            </a:xfrm>
            <a:custGeom>
              <a:avLst/>
              <a:gdLst/>
              <a:ahLst/>
              <a:rect l="l" t="t" r="r" b="b"/>
              <a:pathLst>
                <a:path w="2152" h="2168">
                  <a:moveTo>
                    <a:pt x="2152" y="0"/>
                  </a:moveTo>
                  <a:lnTo>
                    <a:pt x="0" y="216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74000" y="3900600"/>
              <a:ext cx="448092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16560" y="1782000"/>
              <a:ext cx="4580640" cy="86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Funciones o necesida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¿«Qué necesidades» satisfacer?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4760" y="5279760"/>
              <a:ext cx="4113360" cy="86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Tecnologí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¿«Cómo» satisfacer?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95240" y="3557520"/>
              <a:ext cx="283644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Grupos de comprador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¿«A quién» satisfacer?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388520" y="743040"/>
            <a:ext cx="7345080" cy="5942520"/>
            <a:chOff x="1388520" y="743040"/>
            <a:chExt cx="7345080" cy="5942520"/>
          </a:xfrm>
        </p:grpSpPr>
        <p:sp>
          <p:nvSpPr>
            <p:cNvPr id="165" name=""/>
            <p:cNvSpPr/>
            <p:nvPr/>
          </p:nvSpPr>
          <p:spPr>
            <a:xfrm flipV="1">
              <a:off x="5347080" y="743040"/>
              <a:ext cx="360" cy="117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47080" y="1938960"/>
              <a:ext cx="19886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83880" y="1930320"/>
              <a:ext cx="771480" cy="57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07920" y="744840"/>
              <a:ext cx="125604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Fun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73160" y="1697400"/>
              <a:ext cx="1360440" cy="66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Grup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0560" y="1549440"/>
              <a:ext cx="313920" cy="2854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88520" y="977760"/>
              <a:ext cx="3454200" cy="10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Nego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Un producto mercado se sitúa 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la intersección de un grupo de 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y de una función bas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en una tecnología correc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98160" y="2508120"/>
              <a:ext cx="125604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Tecnologí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344920" y="2692440"/>
              <a:ext cx="360" cy="117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47080" y="3860640"/>
              <a:ext cx="19886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565520" y="3860640"/>
              <a:ext cx="771480" cy="57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70560" y="2647800"/>
              <a:ext cx="12560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Fun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54800" y="3602520"/>
              <a:ext cx="1360440" cy="66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Grup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47040" y="4451400"/>
              <a:ext cx="125604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Tecnologí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363600">
              <a:off x="5838480" y="3198240"/>
              <a:ext cx="31248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363600">
              <a:off x="5742360" y="3269880"/>
              <a:ext cx="31248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363600">
              <a:off x="5648040" y="3339720"/>
              <a:ext cx="31248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63600">
              <a:off x="5555160" y="3416040"/>
              <a:ext cx="31248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363600">
              <a:off x="5463360" y="3492000"/>
              <a:ext cx="31284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344920" y="4692600"/>
              <a:ext cx="360" cy="117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565520" y="5869440"/>
              <a:ext cx="771480" cy="57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09960" y="6442920"/>
              <a:ext cx="125604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Tecnologí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47080" y="5868360"/>
              <a:ext cx="19886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73160" y="5640840"/>
              <a:ext cx="1360440" cy="66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Grup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70560" y="4658760"/>
              <a:ext cx="12560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Fun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02920" y="4978440"/>
              <a:ext cx="1137240" cy="1142640"/>
            </a:xfrm>
            <a:prstGeom prst="cube">
              <a:avLst>
                <a:gd name="adj" fmla="val 1027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37200" y="5006520"/>
              <a:ext cx="8640" cy="996120"/>
            </a:xfrm>
            <a:custGeom>
              <a:avLst/>
              <a:gdLst/>
              <a:ahLst/>
              <a:rect l="l" t="t" r="r" b="b"/>
              <a:pathLst>
                <a:path w="15" h="1883">
                  <a:moveTo>
                    <a:pt x="0" y="0"/>
                  </a:moveTo>
                  <a:lnTo>
                    <a:pt x="15" y="188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5200" y="5996520"/>
              <a:ext cx="962280" cy="6120"/>
            </a:xfrm>
            <a:custGeom>
              <a:avLst/>
              <a:gdLst/>
              <a:ahLst/>
              <a:rect l="l" t="t" r="r" b="b"/>
              <a:pathLst>
                <a:path w="1883" h="12">
                  <a:moveTo>
                    <a:pt x="0" y="0"/>
                  </a:moveTo>
                  <a:lnTo>
                    <a:pt x="1883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90680" y="3263760"/>
              <a:ext cx="2721240" cy="85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Un mercado cubre el conju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de las tecnologías para una función y un grupo de 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90680" y="5168880"/>
              <a:ext cx="2721240" cy="10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Indust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Una industria está definida por una tecnología cualesquiera que las funciones y los grupos de compradores afec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CICLO DE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iclo de V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s u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co concept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esante par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iz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ractivo y evolución de un mercado-produc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os: Mayonesa, Productos Die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9480" y="149976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terminantes del Ciclo de Vi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ecnología (productos sustitutivo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ercado (nuevos hábitos, variaciones de la población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sfuerzo de Marketing de las empresas (no es neutro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bre la unidad de análi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oducto/mercado   versus   marca o produc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CICLO DE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620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CLO DE VIDA PRODUCTO/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317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94200" y="579132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: Adaptado de Lambin (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19320" y="1557360"/>
          <a:ext cx="693396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57360"/>
                    <a:ext cx="6933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571760" y="2671920"/>
            <a:ext cx="5667120" cy="2690640"/>
          </a:xfrm>
          <a:custGeom>
            <a:avLst/>
            <a:gdLst/>
            <a:ahLst/>
            <a:rect l="l" t="t" r="r" b="b"/>
            <a:pathLst>
              <a:path w="3570" h="1695">
                <a:moveTo>
                  <a:pt x="0" y="1692"/>
                </a:moveTo>
                <a:cubicBezTo>
                  <a:pt x="143" y="1677"/>
                  <a:pt x="637" y="1695"/>
                  <a:pt x="859" y="1591"/>
                </a:cubicBezTo>
                <a:cubicBezTo>
                  <a:pt x="1081" y="1487"/>
                  <a:pt x="1216" y="1221"/>
                  <a:pt x="1334" y="1066"/>
                </a:cubicBezTo>
                <a:cubicBezTo>
                  <a:pt x="1452" y="911"/>
                  <a:pt x="1474" y="799"/>
                  <a:pt x="1567" y="661"/>
                </a:cubicBezTo>
                <a:cubicBezTo>
                  <a:pt x="1660" y="523"/>
                  <a:pt x="1745" y="343"/>
                  <a:pt x="1890" y="237"/>
                </a:cubicBezTo>
                <a:cubicBezTo>
                  <a:pt x="2035" y="131"/>
                  <a:pt x="2222" y="50"/>
                  <a:pt x="2436" y="25"/>
                </a:cubicBezTo>
                <a:cubicBezTo>
                  <a:pt x="2650" y="0"/>
                  <a:pt x="2984" y="10"/>
                  <a:pt x="3173" y="85"/>
                </a:cubicBezTo>
                <a:cubicBezTo>
                  <a:pt x="3362" y="160"/>
                  <a:pt x="3487" y="395"/>
                  <a:pt x="3570" y="477"/>
                </a:cubicBezTo>
              </a:path>
            </a:pathLst>
          </a:custGeom>
          <a:noFill/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83680" y="177336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olución de la demanda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22:08:22Z</dcterms:created>
  <dc:creator>Dii</dc:creator>
  <dc:description/>
  <dc:language>en-US</dc:language>
  <cp:lastModifiedBy>William Young</cp:lastModifiedBy>
  <dcterms:modified xsi:type="dcterms:W3CDTF">2007-06-12T01:46:16Z</dcterms:modified>
  <cp:revision>127</cp:revision>
  <dc:subject/>
  <dc:title>Sin título de diapositiva</dc:title>
</cp:coreProperties>
</file>