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8AAA-D3B5-4988-9AE8-AFE99067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0526-53B1-412B-A34D-F9091254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DC35-C657-435A-A90E-767FFA74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D123-D6BA-46CF-A934-3D35FF99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7ECF-1331-4CE4-983E-C3D3604A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EB6E-7821-491E-990D-E0A59EEE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8839-58FB-4AA4-939A-33C10605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901E-03BA-4440-BA70-65A793B4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B2EA-1814-440C-8A23-E5D9CED0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3FE1-B658-4DAD-8C0D-2D5D759D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6806-269B-4AA8-A611-D11DCED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616D-E404-4F1C-B38E-5A6E7357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EDAA-2F81-458E-8AF6-0030019F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75AC-34BD-4051-9B9F-BD1D969F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EB26-4D19-4FAE-9C3B-EEA0767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E37E-3714-4421-84C4-AE6A610A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8BB0-AFBE-4C55-9DD0-9591611A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B1911-2404-4695-A345-B90995CC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30575-BB72-4329-8AC3-8CD3537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E4454-BAD2-438A-9E25-A5ECAD8A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89552-6FE7-4FFC-BA09-7E84F121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7DD38-5ECD-4253-A175-3F32363E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11C5-D56F-4096-B094-2B4689A7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00626-18C1-47A5-9CFA-5B5C94AE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2BB47-56BF-44A8-B32F-63B052D5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D8F9C-C318-4DF6-A321-51A003C3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51473-CD10-4538-A81E-645D1E7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4629D-440D-4F55-A3EB-0D80A2A3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4A177-FEBD-4352-8B2D-103D9AB3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F1A19-1B60-4D82-A08F-665061C4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FD05-4194-4F22-8AC4-7EC9B6A2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B2DA-02C4-4360-A4CD-0D1B6EEC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1A71-F04F-4506-929C-44175464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6C4C-C043-452E-811F-2F5135F7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954D-9EBF-4961-8955-D6F280DA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36D6-9C8C-4B8F-8E83-1E165127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9DDB-BEA3-4CE8-9A05-20875E1D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26C4-ADC4-47E1-A707-A8686F7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0136-F814-4958-B596-AA0111D7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845F-544E-46EC-8B7B-08AE62B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C946-091D-493B-9BF1-99F631E1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2B2E-4639-432D-B2A3-A863E55F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B7ED-974E-4C14-9C50-6364DD86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BC04-2B0F-4538-92F4-029F9F38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0C74-A934-470B-9CBD-C768D44E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25B5-F88C-47CF-AA8D-E37B9389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05BC-AECF-4D07-A825-A4989341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2C50-A895-47BF-847E-AD5072DA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ABEB-2C6E-49C4-A839-DDD6A8753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D918-F5BC-4C42-8D44-42E7E193D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61BF-A21E-44B3-81CF-7EFC6DFE0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AA91-6515-4349-9452-D62828218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15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5" idx="2"/>
              <a:endCxn id="216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6" idx="2"/>
              <a:endCxn id="222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7" idx="2"/>
              <a:endCxn id="218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8" idx="2"/>
              <a:endCxn id="219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2" idx="2"/>
              <a:endCxn id="217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9" idx="1"/>
              <a:endCxn id="215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1"/>
              <a:endCxn id="215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  <a:endCxn id="240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2"/>
            <a:endCxn id="236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6" idx="2"/>
            <a:endCxn id="237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35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1"/>
            <a:endCxn id="233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4" idx="1"/>
            <a:endCxn id="233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 AC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6-12T01:58:06Z</dcterms:modified>
  <cp:revision>13</cp:revision>
  <dc:subject/>
  <dc:title>PREFERENCIAS</dc:title>
</cp:coreProperties>
</file>