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BBD8-C5D6-412E-8759-A2D73540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85AF-E2FF-44D4-B16F-906F0D5B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0DB4-5BC8-4758-85E7-5C8AF3B9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BD2E-2196-4B4B-A673-4386AADC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78E-86E9-44FA-9A36-E8E65670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700-5134-4C49-BA66-48144A47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019-B2F8-4592-A9B2-F8E32DE3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5602-F9D0-4039-A90A-E4D7D6C2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390-A099-47BC-9B97-35D25E2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57C-6C34-457A-B759-E2999D2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F5DC-37AC-4F10-B5BF-CCCA932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4747-7CBE-4DD3-A352-C2614BD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FFCB-4DE4-4A68-A98B-489C520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85A-2FD3-4482-B1AA-67F847D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846-F90E-44FF-8D69-3C5EB21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1F6-2CD6-49E6-9292-935B9245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BB5-867F-4B17-A0D7-020156DC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DC300-7E1D-41D9-9851-247FAB33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19309-75B1-4FCE-8D65-27E92B0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7FBDD-A352-4EB3-BB32-F30B491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1162C-5A6F-49E1-86D3-9E35E14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5358E-3619-4FEE-B914-383EF249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88E0-99C0-4AFC-A09A-48BC277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A57D3-1AE3-4BAE-9269-8347A14E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C7310-0D25-4404-8F2C-1DC45E9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F0752-2A22-4BC1-B08F-B30CBEC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8B5FA-1CFA-42BB-8707-AE8D714D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3E03B-52EC-4DB9-9D8E-5A296606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B75ED-A0E4-44A7-ACD6-3C7717BD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38335-A391-413A-95DE-167B2716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1402B-7BB1-4FD6-A842-5FF4D375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9A33-BF38-4F6E-94AD-FCDA0E9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5165-1A54-423F-A8D9-7F404DA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F625-E814-4C8B-B276-D9EB552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CF32-A700-4945-BE24-327CEB8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C18D-1886-4046-BAD0-0B56A22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8542-9532-4FD4-8DC4-0D920380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861E-1BC4-4E19-AF26-901EE9A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C0E9-1711-40E1-B2AA-D4272B5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3EEF-FBFB-4899-81C7-3A28FBB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B7CC-8C52-48AE-96EC-DD2F17A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F1C0-9BC8-4C06-81A2-08EA301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A58D-0BA7-44E7-BD85-A5E4A763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9B52-76BB-42FA-9A9A-1748D3F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2C25-5540-48D5-9999-42DA437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54D3-2996-4D30-8863-F3642F3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8089-C1D0-44A9-B720-B44D333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6178-1091-4EAD-9967-0AA54CC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5AE-AC6B-4732-831D-A3AAA79C4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196-8F81-4D16-89BF-B8C2E712A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3DF-92DC-42EE-A3C9-799D854D6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10FE-33B2-43FD-A8C3-FB698CB63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15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15" idx="2"/>
              <a:endCxn id="216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6" idx="2"/>
              <a:endCxn id="222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7" idx="2"/>
              <a:endCxn id="218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8" idx="2"/>
              <a:endCxn id="219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2" idx="2"/>
              <a:endCxn id="217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9" idx="1"/>
              <a:endCxn id="215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1"/>
              <a:endCxn id="215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40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2"/>
            <a:endCxn id="236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2"/>
            <a:endCxn id="237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35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1"/>
            <a:endCxn id="233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4" idx="1"/>
            <a:endCxn id="233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 AC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6-12T01:58:06Z</dcterms:modified>
  <cp:revision>13</cp:revision>
  <dc:subject/>
  <dc:title>PREFERENCIAS</dc:title>
</cp:coreProperties>
</file>