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37447-8008-4464-BF69-831D6BA0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AA8E0-7960-4F11-B73A-460D4733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9C234-3CD3-4DEC-9980-ABB467E0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1FF87-A318-4A8F-8239-313181884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B9E8-1D6B-49E2-B246-BA5EAA3D2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3BF2-A1DE-4E59-9C9B-1EE70559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354A-67DA-402B-A109-0174FCF3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9CE5-3BD8-4081-9B20-EDFD5A7A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A08E-D855-4ABA-8F3A-C49C18DA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EDAF-D1BF-4610-B489-A9C7724F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B2F9-D305-4481-B64D-F476FC72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F9458-4EAF-4322-AFFE-A2C3F853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982D-EF00-4736-97BA-4DEEDB0C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AD2D-26C5-4FDD-9C14-0E9CAE17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F14A-807E-4CAD-BEF3-0775E7A6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5FA1-68B9-4F19-BAAF-4C54C2C3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0BC8-02A1-4969-9335-5182140D5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3940A8-D373-49E2-8A06-CABAB124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F35C76-E7A5-4F6C-B8FC-C18769C5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94418A-6A6B-44C9-B856-94813F26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4FAAF1-A96D-411B-83B8-5236630D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70A319-B1CA-412B-8ACB-F9AA37BE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F2000-8269-4E4A-8AD0-D841393B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A5AF90-901A-446F-A305-427AF4EB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6D6DE7-05E2-4E02-A76B-E8E7C196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C22472-5EA7-49AD-8C2E-37AE527E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5BD0AA-C34A-47E1-8D04-38698A09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CDDB41-9C48-4073-8097-9F8D9474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DCD691-EF8D-4851-AB80-518C02FD6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461188-354C-4AC3-BAB1-6E19B1031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1A394-DBE6-4A27-83FE-89B0EB89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C9649-E90B-44F5-9E16-BC7CD5A0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0A5C1-C849-4744-9D20-37644959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B4321-C8A2-4025-BA70-D91AE26C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BF9C1-5DD7-4312-A6BC-CCA28750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C2E42-28E5-42A9-AD96-56A95A25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36E3B-DE15-408B-A5BE-EAE26AEF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424A2-5F5B-4F95-AF51-17558B9D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21731-9901-4BB2-9CA8-C60FA44F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71C5F-055E-485D-AD2D-41733A92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63238-A882-4DE1-A3A6-665B457B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874E5-8736-416E-8DAC-DE197E5F4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119A6-E557-4211-9516-578B194C5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D7F51-3FD5-4A7B-B30B-438EBDCF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070F3-F93D-4C7B-A8E1-714A77CF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7CF74-338E-4D04-891F-3F979CE5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8F710-DA5D-48CD-969C-76B743F5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366FE-5BED-44F0-9CE4-54D9898A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A66C-9F85-41D4-AA42-9D30301607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ABBA-1A13-4B40-B61F-F4360BDA73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68DF-9956-4383-A088-90DDB516C3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EF30-A504-42DB-8A59-5AC85E0419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sawsft.net/~demo/aca/acalogn.htm" TargetMode="Externa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FERENCIA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 actitud hacia los programas de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|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-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|</a:t>
            </a:r>
            <a:r>
              <a:rPr b="0" lang="es-CL" sz="3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actitud global hacia el programa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creencia de que el programa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osee en el atributo i (va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posición ideal en la dimensió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peso de la característica particular en la dimensió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distancia mét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395280" y="2413080"/>
          <a:ext cx="3744720" cy="2600280"/>
        </p:xfrm>
        <a:graphic>
          <a:graphicData uri="http://schemas.openxmlformats.org/drawingml/2006/table">
            <a:tbl>
              <a:tblPr/>
              <a:tblGrid>
                <a:gridCol w="863640"/>
                <a:gridCol w="1800000"/>
                <a:gridCol w="1081080"/>
              </a:tblGrid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r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centrac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uerp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DE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4789440" y="33566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000040" y="3818160"/>
            <a:ext cx="3538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 = percep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 = importancia del atribu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 = A, B, C,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  = Concentración, Cuer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627360" y="2481120"/>
                <a:ext cx="22536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4427640" y="2251080"/>
                <a:ext cx="448308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dea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3541680" y="21376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debe considerar que el consumidor no siempre elige el producto o marca más preferido, existen otras variables que influyen (cupones, tratos especiale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LU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= probabilidad de que el individuo i elij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preferencia del individuo i a la marc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conjunto de marcas de consideración del individuo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5257800" y="5334120"/>
                <a:ext cx="2057400" cy="13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elar las preferencias como funciones de múltiples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idea general es que las personas definen su preferencia en función de varios atributos de la clase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66cc"/>
                </a:solidFill>
                <a:latin typeface="Lucida Sans Unicode"/>
              </a:rPr>
              <a:t>Medición de Preferencias</a:t>
            </a:r>
            <a:br>
              <a:rPr sz="36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Otro</a:t>
            </a:r>
            <a:r>
              <a:rPr b="0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nfo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66cc"/>
                </a:solidFill>
                <a:latin typeface="Lucida Sans Unicode"/>
              </a:rPr>
              <a:t>El Proceso de Med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n general, dado que uno no conoce las funciones de valor parcial, entonces, se realiza una transformación para poder medir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190440" y="533160"/>
            <a:ext cx="8724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Función de valor par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_tradnl" sz="4800" spc="-1" strike="noStrike">
                <a:solidFill>
                  <a:srgbClr val="000000"/>
                </a:solidFill>
                <a:latin typeface="Symbol"/>
                <a:ea typeface="Symbol"/>
              </a:rPr>
              <a:t></a:t>
            </a: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jk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 si el atributo j está presente al nivel k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producto i y 0 en caso contrar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jk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ortancia relativa del nivel k del atributo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estimación de estas funciones se realiza mediante técnicas estadíst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92240" y="0"/>
            <a:ext cx="80517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Arial"/>
              </a:rPr>
              <a:t>Ejemplos de Atributos y Nive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52480" y="1143000"/>
            <a:ext cx="6553440" cy="53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maño de un envase de café solu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150 gr         200 gr      300 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embolso Ambul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85%          70%          6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quipo de A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100 w        500 w       1000 w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Cómo medir las preferencia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 de pelotas de go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ongamos que se quiere comercializar una nueva pelota de go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ongamos que según los clientes, las pelotas de golf poseen 3 características importa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cance de la pelota (distancia que logra recorr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 medio de du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2720520" y="228600"/>
            <a:ext cx="3641760" cy="6448680"/>
            <a:chOff x="2720520" y="228600"/>
            <a:chExt cx="3641760" cy="6448680"/>
          </a:xfrm>
        </p:grpSpPr>
        <p:sp>
          <p:nvSpPr>
            <p:cNvPr id="215" name=""/>
            <p:cNvSpPr/>
            <p:nvPr/>
          </p:nvSpPr>
          <p:spPr>
            <a:xfrm>
              <a:off x="3162240" y="22860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Surgimiento de la Neces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62240" y="13712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Búsqueda de Inform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62240" y="35780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Formación de preferenci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62240" y="4705200"/>
              <a:ext cx="3200040" cy="4597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Decisión de Comp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62240" y="5486040"/>
              <a:ext cx="3200040" cy="1191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Sentimientos posteriores a la comp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0" name=""/>
            <p:cNvCxnSpPr>
              <a:stCxn id="215" idx="2"/>
              <a:endCxn id="216" idx="0"/>
            </p:cNvCxnSpPr>
            <p:nvPr/>
          </p:nvCxnSpPr>
          <p:spPr>
            <a:xfrm>
              <a:off x="4762080" y="1079280"/>
              <a:ext cx="1080" cy="282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1" name=""/>
            <p:cNvCxnSpPr>
              <a:stCxn id="216" idx="2"/>
              <a:endCxn id="222" idx="0"/>
            </p:cNvCxnSpPr>
            <p:nvPr/>
          </p:nvCxnSpPr>
          <p:spPr>
            <a:xfrm>
              <a:off x="4762080" y="2221920"/>
              <a:ext cx="1080" cy="203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3" name=""/>
            <p:cNvCxnSpPr>
              <a:stCxn id="217" idx="2"/>
              <a:endCxn id="218" idx="0"/>
            </p:cNvCxnSpPr>
            <p:nvPr/>
          </p:nvCxnSpPr>
          <p:spPr>
            <a:xfrm>
              <a:off x="4762080" y="4428720"/>
              <a:ext cx="1080" cy="26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8" idx="2"/>
              <a:endCxn id="219" idx="0"/>
            </p:cNvCxnSpPr>
            <p:nvPr/>
          </p:nvCxnSpPr>
          <p:spPr>
            <a:xfrm>
              <a:off x="4762080" y="5190480"/>
              <a:ext cx="1080" cy="286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3162240" y="24350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Formación de percepci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5" name=""/>
            <p:cNvCxnSpPr>
              <a:stCxn id="222" idx="2"/>
              <a:endCxn id="217" idx="0"/>
            </p:cNvCxnSpPr>
            <p:nvPr/>
          </p:nvCxnSpPr>
          <p:spPr>
            <a:xfrm>
              <a:off x="4762080" y="3285720"/>
              <a:ext cx="1080" cy="282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9" idx="1"/>
              <a:endCxn id="215" idx="1"/>
            </p:cNvCxnSpPr>
            <p:nvPr/>
          </p:nvCxnSpPr>
          <p:spPr>
            <a:xfrm flipH="1" rot="10800000">
              <a:off x="3152160" y="648360"/>
              <a:ext cx="2160" cy="5440680"/>
            </a:xfrm>
            <a:prstGeom prst="bentConnector3">
              <a:avLst>
                <a:gd name="adj1" fmla="val -240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6" idx="1"/>
              <a:endCxn id="215" idx="1"/>
            </p:cNvCxnSpPr>
            <p:nvPr/>
          </p:nvCxnSpPr>
          <p:spPr>
            <a:xfrm flipH="1" rot="10800000">
              <a:off x="3152160" y="649080"/>
              <a:ext cx="2160" cy="1143000"/>
            </a:xfrm>
            <a:prstGeom prst="bentConnector3">
              <a:avLst>
                <a:gd name="adj1" fmla="val -138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8" name=""/>
            <p:cNvSpPr/>
            <p:nvPr/>
          </p:nvSpPr>
          <p:spPr>
            <a:xfrm>
              <a:off x="2781360" y="28954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81360" y="49528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81360" y="40384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553080" y="236232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10280" y="3200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mbién, se conocen los rangos de alternativas factibles para cada una de ell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558440" y="4253040"/>
            <a:ext cx="1364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125520" y="3809880"/>
            <a:ext cx="1875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iempo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78160" y="4267080"/>
            <a:ext cx="1500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u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511960" y="4253040"/>
            <a:ext cx="108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214280" y="478800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75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4880" y="478800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4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54440" y="478800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214280" y="524520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50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34880" y="524520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6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54440" y="524520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14280" y="568656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25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34880" y="568656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8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54440" y="568656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63960" y="3859200"/>
            <a:ext cx="1440" cy="86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63960" y="3859200"/>
            <a:ext cx="3024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83120" y="3859200"/>
            <a:ext cx="1800" cy="86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983120" y="3859200"/>
            <a:ext cx="3024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5360" y="3789360"/>
            <a:ext cx="59040" cy="2397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63960" y="4794120"/>
            <a:ext cx="1440" cy="132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63960" y="4794120"/>
            <a:ext cx="30240" cy="132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983120" y="4794120"/>
            <a:ext cx="1800" cy="132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983120" y="4794120"/>
            <a:ext cx="30240" cy="132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886440" y="3859200"/>
            <a:ext cx="60480" cy="232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84400" y="3789360"/>
            <a:ext cx="5762520" cy="6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184400" y="4722840"/>
            <a:ext cx="576252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84400" y="5202360"/>
            <a:ext cx="57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84400" y="5202360"/>
            <a:ext cx="570204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84400" y="5657760"/>
            <a:ext cx="57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84400" y="5657760"/>
            <a:ext cx="570204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84400" y="6114960"/>
            <a:ext cx="576252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133720" y="35053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337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03848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0199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467480" y="3505320"/>
            <a:ext cx="1371600" cy="5331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238880" y="4952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9343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6934320" y="5410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6934320" y="5867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238880" y="5410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543800" y="5105520"/>
            <a:ext cx="1143000" cy="5331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iv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5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marL="78840" indent="-7884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l sería el “ideal” para el consumid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l sería el “ideal” para el productor***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86200" y="2819520"/>
            <a:ext cx="3819600" cy="866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168800" y="3084480"/>
            <a:ext cx="8312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Alc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10360" y="2801880"/>
            <a:ext cx="114228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Tiempo 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395320" y="3084480"/>
            <a:ext cx="9151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dur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90320" y="3084480"/>
            <a:ext cx="6620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Prec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938760" y="3395520"/>
            <a:ext cx="10706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275 yard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212080" y="3395520"/>
            <a:ext cx="8784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54 hoy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817680" y="3395520"/>
            <a:ext cx="6012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$ 1,2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153040" y="2849400"/>
            <a:ext cx="1440" cy="51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153040" y="2849400"/>
            <a:ext cx="19080" cy="51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419880" y="2849400"/>
            <a:ext cx="1440" cy="51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419880" y="2849400"/>
            <a:ext cx="19080" cy="51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875040" y="2806560"/>
            <a:ext cx="38160" cy="88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153040" y="3408480"/>
            <a:ext cx="1440" cy="24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153040" y="3408480"/>
            <a:ext cx="19080" cy="24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419880" y="3408480"/>
            <a:ext cx="1440" cy="24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419880" y="3408480"/>
            <a:ext cx="19080" cy="24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674120" y="2849400"/>
            <a:ext cx="39600" cy="84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13200" y="280656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913200" y="336564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13200" y="365112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371600" y="3886200"/>
            <a:ext cx="7772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657600" y="4952880"/>
            <a:ext cx="3809880" cy="8384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79800" y="5208480"/>
            <a:ext cx="77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c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126400" y="4937040"/>
            <a:ext cx="1069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iemp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209920" y="5208480"/>
            <a:ext cx="855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u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85480" y="5208480"/>
            <a:ext cx="6210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753360" y="5510160"/>
            <a:ext cx="1005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25 yar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014080" y="5510160"/>
            <a:ext cx="825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8 hoy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606720" y="5510160"/>
            <a:ext cx="564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$ 1,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21200" y="4981680"/>
            <a:ext cx="1800" cy="50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21200" y="4981680"/>
            <a:ext cx="1908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84800" y="4981680"/>
            <a:ext cx="1800" cy="50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184800" y="4981680"/>
            <a:ext cx="1908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646440" y="4940280"/>
            <a:ext cx="38160" cy="85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921200" y="5522760"/>
            <a:ext cx="1800" cy="23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21200" y="5522760"/>
            <a:ext cx="19080" cy="23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184800" y="5522760"/>
            <a:ext cx="1800" cy="23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184800" y="5522760"/>
            <a:ext cx="19080" cy="23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435800" y="4981680"/>
            <a:ext cx="39600" cy="81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84600" y="4940280"/>
            <a:ext cx="3790800" cy="4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684600" y="5481720"/>
            <a:ext cx="3790800" cy="4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84600" y="5757840"/>
            <a:ext cx="3790800" cy="4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36160" y="5867280"/>
            <a:ext cx="76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**Se asume que es menos costoso producir a menor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solución parece s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066680" y="3962520"/>
            <a:ext cx="7848720" cy="9144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 rot="10800000">
            <a:off x="4190760" y="4191120"/>
            <a:ext cx="1447560" cy="129528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114800" y="5715000"/>
            <a:ext cx="167652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7d"/>
                </a:solidFill>
                <a:latin typeface="Arial"/>
              </a:rPr>
              <a:t>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7d"/>
                </a:solidFill>
                <a:latin typeface="Arial"/>
              </a:rPr>
              <a:t>v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85800" y="712800"/>
            <a:ext cx="73915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estimación de las funciones de utilidad se realiza mediante técnicas estadís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recolección de datos se realiza med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Análisis Conjunto requiere que el sujeto evalúe objetos en forma holí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 por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producto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álisis Conjunto (A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es A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écnica de Investigación de Merc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vee información acerca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o de nuev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isiones de 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gmentación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isiones de publi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ncia o no de mercado para nuev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C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9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Base del Análisis Conjunto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Recolección de trade-off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Estimación de “utilidades” para los atributos y nive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Predicción de preferencias de opci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Productos “tipo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: Méto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herramienta provee 3 métodos para la realización de análisis conju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joint Value Analysis (CV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hoice Base Conjoint (CBC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aptative Conjoint Analysis (A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V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 tradicional. Las comparaciones se hacen en una escala de interval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entrevistado se le pide que diga el grado de preferencia entre dos perfiles o por un producto comple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calibraciones de las preferencias se hacen en base a regres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370720" cy="53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3707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33520" y="3808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Surgimiento de la Nece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15238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Búsqueda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3730680"/>
            <a:ext cx="3200400" cy="82548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Formación de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4857840"/>
            <a:ext cx="3200400" cy="4597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Decisión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5638680"/>
            <a:ext cx="320040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Sentimientos posteriores a la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3" idx="2"/>
            <a:endCxn id="234" idx="0"/>
          </p:cNvCxnSpPr>
          <p:nvPr/>
        </p:nvCxnSpPr>
        <p:spPr>
          <a:xfrm>
            <a:off x="2133360" y="1231560"/>
            <a:ext cx="108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4" idx="2"/>
            <a:endCxn id="240" idx="0"/>
          </p:cNvCxnSpPr>
          <p:nvPr/>
        </p:nvCxnSpPr>
        <p:spPr>
          <a:xfrm>
            <a:off x="2133360" y="2374920"/>
            <a:ext cx="1080" cy="20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5" idx="2"/>
            <a:endCxn id="236" idx="0"/>
          </p:cNvCxnSpPr>
          <p:nvPr/>
        </p:nvCxnSpPr>
        <p:spPr>
          <a:xfrm>
            <a:off x="2133360" y="4581000"/>
            <a:ext cx="1080" cy="267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36" idx="2"/>
            <a:endCxn id="237" idx="0"/>
          </p:cNvCxnSpPr>
          <p:nvPr/>
        </p:nvCxnSpPr>
        <p:spPr>
          <a:xfrm>
            <a:off x="2133360" y="5343480"/>
            <a:ext cx="108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" name=""/>
          <p:cNvSpPr/>
          <p:nvPr/>
        </p:nvSpPr>
        <p:spPr>
          <a:xfrm>
            <a:off x="533520" y="25876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Formación de percep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stCxn id="240" idx="2"/>
            <a:endCxn id="235" idx="0"/>
          </p:cNvCxnSpPr>
          <p:nvPr/>
        </p:nvCxnSpPr>
        <p:spPr>
          <a:xfrm>
            <a:off x="2133360" y="3438000"/>
            <a:ext cx="108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37" idx="1"/>
            <a:endCxn id="233" idx="1"/>
          </p:cNvCxnSpPr>
          <p:nvPr/>
        </p:nvCxnSpPr>
        <p:spPr>
          <a:xfrm flipH="1" rot="10800000">
            <a:off x="522720" y="801000"/>
            <a:ext cx="2520" cy="5441040"/>
          </a:xfrm>
          <a:prstGeom prst="bentConnector3">
            <a:avLst>
              <a:gd name="adj1" fmla="val -240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4" idx="1"/>
            <a:endCxn id="233" idx="1"/>
          </p:cNvCxnSpPr>
          <p:nvPr/>
        </p:nvCxnSpPr>
        <p:spPr>
          <a:xfrm flipH="1" rot="10800000">
            <a:off x="522720" y="801000"/>
            <a:ext cx="2520" cy="1143720"/>
          </a:xfrm>
          <a:prstGeom prst="bentConnector3">
            <a:avLst>
              <a:gd name="adj1" fmla="val -138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152280" y="3048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52280" y="51055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52280" y="4191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14800" y="922320"/>
            <a:ext cx="46483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99cc"/>
                </a:solidFill>
                <a:latin typeface="Lucida Sans Unicode"/>
              </a:rPr>
              <a:t>Formación de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l individuo estructura las percepciones en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l consumidor tiene una función de utilidad para los atributos (la satisfacción varía con niveles alternativos y combinaciones de atribu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A través de algún proceso de evaluación se forma la actitud hacia la ma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B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trabaja con escalas ordin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entrevistado se le pide que elija cual es el perfil que prefiere forzando que se quede sólo con un perfil por compa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calibraciones de las preferencias se hacen usando LIN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52000" cy="53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concepto muestra perfiles de no más de 5 atributos (Casi siempre, son 2 ó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Éstos son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perfiles par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pueden incluir hasta 30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fácilmente realizable en un software, aunque no hay much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sawsft.net/~demo/aca/acalogn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900" spc="-1" strike="noStrike">
                <a:solidFill>
                  <a:srgbClr val="9999ff"/>
                </a:solidFill>
                <a:latin typeface="Arial"/>
              </a:rPr>
              <a:t>Diseño AC</a:t>
            </a:r>
            <a:endParaRPr b="0" lang="en-US" sz="6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atributos seleccion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lo más importante para realizar un buen análisis posteri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penden del objetivo del est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.: Si objetivo es intentar determinar qué atributos un producto debería te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9999ff"/>
                </a:solidFill>
                <a:latin typeface="Arial"/>
              </a:rPr>
              <a:t>=&gt; Incluyo sólo los atributos sobre los cuales voy a actu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cio y valor de marca =&gt; Incluir esos atributos (Pero deben ser independien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¿Cuántos atributos seleccionar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pende de ciertos fact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jetivos del e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mpo disponible para entrevi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rma de AC que se utiliza para recolectar la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chos atributos proveen de exceso de información a los entrevistados (6 a 8 es ideal en el caso de las “Tarjeta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A acepta 30 atributos, pues como es guiado, sólo hace preguntas parciales, usando entre 6 y 8 de los atributos to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Interacción entre atributo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udios asumen la no existencia de interacción entre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píricamente, se ha encontrado que muy pocos atributos interactúan entre s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cepción importa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cio y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99ff"/>
                </a:solidFill>
                <a:latin typeface="Arial"/>
              </a:rPr>
              <a:t>Solución: Atributo compu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¿Qué niveles seleccionar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iveles deben ser exclus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da producto debe estar asociado a niveles ú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99ff"/>
                </a:solidFill>
                <a:latin typeface="Arial"/>
              </a:rPr>
              <a:t>N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se puede aplicar dos niveles de un atributo a un mismo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posible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interpola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entre niveles, pero no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extrapol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ngo de niveles debe ser amplio como para cubrir </a:t>
            </a:r>
            <a:r>
              <a:rPr b="0" lang="es-ES_tradnl" sz="3200" spc="-1" strike="noStrike">
                <a:solidFill>
                  <a:srgbClr val="9999ff"/>
                </a:solidFill>
                <a:latin typeface="Arial"/>
              </a:rPr>
              <a:t>TODO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os escenarios po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Número de Niveles por atributo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pectos a tener en cuen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ás niveles implican entrevista más exten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ás niveles implican medición más detall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nos niveles =&gt; Lo contr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ha comprobado que más niveles para un mismo intervalo =&gt; una mayor importancia relativa de ese atrib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99ff"/>
                </a:solidFill>
                <a:latin typeface="Arial"/>
              </a:rPr>
              <a:t>Efecto se minimiza asignando igual número de niveles para todos los atrib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8600" y="485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Modalidad de recopilación de datos: Entrevista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dos los mecanismos de recolección son factibles, excepto las entrevistas telefó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incipales modalid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aración de tarj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álisis conjunto adap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asados en la forma en que uno siente acerca de al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a cómo actuamos cuando se nos presenta una oportunidad de 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CTITUD: tendencia general a responder favorable o desfavorablemente hacia un ob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o que haremos es traspasar las percepciones de los clientes a act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Actitud 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Formación de Prefere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aración de tarjetas: Mecanismo de Ordena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un mecanismo rea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nera </a:t>
            </a:r>
            <a:r>
              <a:rPr b="0" i="1" lang="es-ES_tradnl" sz="2800" spc="-1" strike="noStrike">
                <a:solidFill>
                  <a:srgbClr val="9999ff"/>
                </a:solidFill>
                <a:latin typeface="Arial"/>
              </a:rPr>
              <a:t>perfil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es-ES_tradnl" sz="2800" spc="-1" strike="noStrike">
                <a:solidFill>
                  <a:srgbClr val="9999ff"/>
                </a:solidFill>
                <a:latin typeface="Arial"/>
              </a:rPr>
              <a:t>productos 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trevistado hace ranking o rating de esos per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3352680" y="3505320"/>
            <a:ext cx="5105520" cy="30477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2819520" y="3657240"/>
            <a:ext cx="0" cy="68580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819520" y="3657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62120" y="4038480"/>
            <a:ext cx="12952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rf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28600" y="5257800"/>
            <a:ext cx="1828800" cy="99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tributos y niv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819520" y="4495680"/>
            <a:ext cx="0" cy="190512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819520" y="64008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819520" y="6172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819520" y="5943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819520" y="54864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819520" y="5029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819520" y="449568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057400" y="57150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5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80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85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aración de tarje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Limitación en el número de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Nºde tarjetas Min = NºNiveles - NºAtributos 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195280" y="2060640"/>
            <a:ext cx="83818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100" spc="-1" strike="noStrike">
                <a:solidFill>
                  <a:srgbClr val="9999cc"/>
                </a:solidFill>
                <a:latin typeface="Arial"/>
              </a:rPr>
              <a:t>Análisis de </a:t>
            </a:r>
            <a:r>
              <a:rPr b="0" lang="es-ES_tradnl" sz="4700" spc="-1" strike="noStrike">
                <a:solidFill>
                  <a:srgbClr val="9999cc"/>
                </a:solidFill>
                <a:latin typeface="Arial"/>
              </a:rPr>
              <a:t>los</a:t>
            </a:r>
            <a:r>
              <a:rPr b="0" lang="es-ES_tradnl" sz="5100" spc="-1" strike="noStrike">
                <a:solidFill>
                  <a:srgbClr val="9999cc"/>
                </a:solidFill>
                <a:latin typeface="Arial"/>
              </a:rPr>
              <a:t> Dato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pretación de las Util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0 = Menos prefer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=/=&gt; Utilidad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número en sí NO tiene signific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GAPS sí representan ganancias al cambiar niveles de atribu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tilidades sólo son válidas relativas a ot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3429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mportancia relativa de atribu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5981760" cy="44956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 flipH="1">
            <a:off x="5181480" y="2971800"/>
            <a:ext cx="1067040" cy="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248520" y="2286000"/>
            <a:ext cx="2666880" cy="129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100 x 57)/ (57+84+46+47+78) = 18.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5181120" y="4571640"/>
            <a:ext cx="1752840" cy="60948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4572000"/>
            <a:ext cx="1981080" cy="129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mpacto en la decisión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5181120" y="5334120"/>
            <a:ext cx="1676520" cy="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5181120" y="5486400"/>
            <a:ext cx="1676520" cy="68580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28600" y="1523880"/>
            <a:ext cx="4572000" cy="4572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lativos a atributos y niv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800600" y="1752480"/>
            <a:ext cx="3049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105520" y="1752480"/>
            <a:ext cx="0" cy="53352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Importancia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segmentar 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5715000" cy="48006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228600" y="1676520"/>
            <a:ext cx="2743200" cy="9144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Se puede descubrir información import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80880" y="2895480"/>
            <a:ext cx="2362320" cy="990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Notar diferencia en preferencia de marc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rot="5400000">
            <a:off x="1028520" y="4076640"/>
            <a:ext cx="1066680" cy="838080"/>
          </a:xfrm>
          <a:prstGeom prst="rightArrow">
            <a:avLst>
              <a:gd name="adj1" fmla="val 50000"/>
              <a:gd name="adj2" fmla="val 31819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28600" y="5105520"/>
            <a:ext cx="2666880" cy="15238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Hay que tener en cuenta el nivel de segmentación para el cual se harán recomendacion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imulación: Relatividad de los result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gunos modelos para simular comportamiento de mercado, basado en los datos obtenidos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mera elección (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first choic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babilidad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intenta obtener “cuotas de mercado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ultados son </a:t>
            </a:r>
            <a:r>
              <a:rPr b="0" lang="es-ES_tradnl" sz="2800" spc="-1" strike="noStrike">
                <a:solidFill>
                  <a:srgbClr val="9999cc"/>
                </a:solidFill>
                <a:latin typeface="Arial"/>
              </a:rPr>
              <a:t>rel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rven p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denar opciones del consum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denar preferencias por productos (perf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imulación: Preferencias exagera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2196720"/>
            <a:ext cx="808668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s de primera elección =&gt; Predicen comportamiento según selección que produce la </a:t>
            </a: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máxima ut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ultados </a:t>
            </a:r>
            <a:r>
              <a:rPr b="0" lang="es-ES_tradnl" sz="2800" spc="-1" strike="noStrike">
                <a:solidFill>
                  <a:srgbClr val="9999cc"/>
                </a:solidFill>
                <a:latin typeface="Arial"/>
              </a:rPr>
              <a:t>sobrevaloran la 1ª elección e infravaloran la últ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be a que modelos asumen que comprador </a:t>
            </a: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N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omete err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n dos tipos de modelos de actitu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PENSATORI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falta o deficiencia de algún atributo puede ser compensada con la presencia o exceso de o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O COMPENSATO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tilizan menos atributos, los cuales no pueden ser compens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Actit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os modelos sirven para modelar el comportamiento de un cliente que elige una marca sólo si cumple uno de sus atribu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 el producto es deficiente en cualquiera de esos requerimientos, entonces el producto es elimi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No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 de Valor Esperado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W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lke y Pessemi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sados en composiciones, donde la utilidad total de un objeto se pesa como la suma de su nivel percibido de atributos y la clasificación de los valores asociados. Estos son juzgados por cada persona de manera explicit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Medición de Prefere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lor inferido o utilidad del producto j para el individuo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mportancia dada por el individuo i sobre el atributo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k=1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Modelo de Valor Esper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unto id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se pregunta acerca de la preferencia por el largo de distintos autos, algunos responden que son muy largos o muy cortos, mostrando que tienen algún ideal de largo en sus m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de Valor Espe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6T22:32:41Z</dcterms:created>
  <dc:creator>William Young</dc:creator>
  <dc:description/>
  <dc:language>en-US</dc:language>
  <cp:lastModifiedBy>William Young</cp:lastModifiedBy>
  <dcterms:modified xsi:type="dcterms:W3CDTF">2007-06-12T01:58:06Z</dcterms:modified>
  <cp:revision>13</cp:revision>
  <dc:subject/>
  <dc:title>PREFERENCIAS</dc:title>
</cp:coreProperties>
</file>