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AF7-8ED2-4AF9-B1D1-4E9818A3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1FA-B4D9-434D-8F8F-D8DB466A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C6C-60BB-47CA-BF34-4BC2FAF5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F72-DAB8-4962-824C-9B74BC44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23520-E4E8-4DDB-B275-B0FC3F8D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FB5E-9A91-4590-B21C-7926BBDC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B93B-9D36-4EBE-AB40-85FA3143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4B9BC-8E96-4C12-9BFF-024C800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1E56F-D184-45BA-8BAA-441B6D12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3F05B-DD9B-4016-A86B-D098411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D294-4334-4C81-B78B-CB3AE17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734-C317-41A5-80A5-8B7FEE8A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F716E-4A14-49AD-998E-C026A2C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D33A5-42A5-42A5-A282-2F21D77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156B-FC62-4F46-9FC4-9596CB2A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0E86F-5169-446D-87E4-52FAC37A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74B2-9755-44F3-B02E-5EF05BE6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5708-5842-4A27-B5E0-57BF10A7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55BB-8354-41A7-844B-0680C76A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1A64-0AD8-466C-8F51-305899E1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42C2-29CB-43CA-A2CF-5F9C8CC5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488C-F22D-4E75-BEFF-443CA26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380-810E-4238-808B-04FD0AA4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C4CF-099B-4CF2-8F72-944B940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E7F6-CA94-4A2D-A40A-1EA4077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4B09-3423-4907-80F3-87F365C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1997-5B33-4AA7-BD71-1BCD5BA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6C38-34FE-4496-8E74-890824F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BC8A-FED8-45E0-B284-E8317EBF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B5E9-7D4B-4853-862B-2A605073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245-7D7F-4148-8AFC-BF27A35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35E-B7DE-4E57-BA03-3DD6FFD4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AAF-AC63-470C-B574-CBD7823B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AC4-5A46-4DED-B963-4E4F3A9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6A2-2948-44B6-95E3-860DD7A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B3F-0201-4F1D-8C5B-EDB6913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F093-268E-4000-A6A9-E7070F14A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DFA-0C34-401C-B350-8FD62E741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3650-5D7A-46A3-AC31-85F7EB999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../../Mis%20documentos/willy/MEM/presentacion%203%20in69f.ppt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2061720"/>
            <a:ext cx="60199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0000"/>
                </a:solidFill>
                <a:latin typeface="Arial"/>
              </a:rPr>
              <a:t>ESTUDIO PERCEPTUAL DE RADIOS F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fesor: William Yo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833400"/>
            <a:ext cx="7543800" cy="6024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POR S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Radio “musical/compañía” v/s Radio para j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SEGÚN 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fiabilidad v/s P. De Aud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136520"/>
            <a:ext cx="71625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Estudio de Percep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sta (sectores, N°, Ju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étodo de procesamiento (análisis de fac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pa per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Dimen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4680" y="1414440"/>
            <a:ext cx="8869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581360" cy="4807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586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411360" cy="140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838160"/>
            <a:ext cx="8424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400360" cy="432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80000" y="395460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2120" y="1014480"/>
            <a:ext cx="7315200" cy="584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2120" y="228600"/>
            <a:ext cx="807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fiabilidad v/s Percepción de aud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315200" cy="5843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Radio “musical/compañía” v/s Radio para j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831960"/>
            <a:ext cx="7543800" cy="6026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9480" y="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ERCEPCIÓN POR S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Confiabilidad /s Percepción de audi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3:34:19Z</dcterms:created>
  <dc:creator>William Young</dc:creator>
  <dc:description/>
  <dc:language>en-US</dc:language>
  <cp:lastModifiedBy>William Young</cp:lastModifiedBy>
  <dcterms:modified xsi:type="dcterms:W3CDTF">2006-08-23T04:00:06Z</dcterms:modified>
  <cp:revision>3</cp:revision>
  <dc:subject/>
  <dc:title>Diapositiva 1</dc:title>
</cp:coreProperties>
</file>