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0FE-51D1-4039-A1AE-1A08E4EA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8AE-9600-444C-817F-A590A32F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99E-D5E9-480F-907D-23B7DED1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F2F-E733-44A6-889B-0158D6C9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915FA-0338-4C90-9B99-B10F32E5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020A2-256B-404C-ACC1-04964A0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DF30F-1E73-4D43-882D-9A62F92F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CD1FF-71F4-4F27-9238-A623591F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F4ECE-145F-422F-A937-6DAF144E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20329-9A6A-4FAF-9991-7DD31C94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72722-C17E-4B4C-8D66-FC63A6E6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DCD-69EB-4B63-BA3C-9D53AB3A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7B970-4092-414A-B6E8-8D56FC33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B4108-7690-436D-A9FA-59A84EF0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59C75-007F-40C5-940B-8B4E16B3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62D72-F779-4E81-BC09-DD0E38E1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5143E-1DD0-4532-AD40-54CD199D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1806-C598-4FAA-A175-265C01BF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1626-AD16-4FC7-AE78-34D666C0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53C5-D3C8-4A24-851D-B338A8E6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F9AA-4D71-4413-B7F7-1FA05363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D129-D002-4B8E-A4C1-B0BF1505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E94-3B4C-43CA-BCB5-59B69E39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0E9E-46D8-4FE4-8EC6-5E427E95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5F7C-A4FA-437B-8C81-E86C1191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C14F-7437-4470-977B-96CA850B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AC0E-9487-40CE-A028-4E4003B5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4E4B-4212-4BB9-80B9-54B8204E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0295C-0956-4A8A-BC09-B99453F4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0B9D-4589-4F78-96CF-69167172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6FC-D060-4F71-8305-771E0BCD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22E-B10A-4515-BB03-DAD34800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31E-2601-419B-B134-7BD0ACA1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B29-41E5-4EFF-B7B0-D347EFD7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CBC-9ABA-4EBD-BFB5-659F3EC8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56C-5910-488A-A89F-AF3E704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4295-BFE5-42A5-BA73-38B5C53F5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2895-FD8F-4C5F-9891-E1A886576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BB4A-4DB8-46E5-A3D5-5D25238FF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../../Mis%20documentos/willy/MEM/presentacion%203%20in69f.ppt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2061720"/>
            <a:ext cx="60199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0000"/>
                </a:solidFill>
                <a:latin typeface="Arial"/>
              </a:rPr>
              <a:t>ESTUDIO PERCEPTUAL DE RADIOS F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fesor: William Yo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833400"/>
            <a:ext cx="7543800" cy="6024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ERCEPCIÓN POR S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Radio “musical/compañía” v/s Radio para jóv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ERCEPCIÓN SEGÚN S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onfiabilidad v/s P. De Aud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136520"/>
            <a:ext cx="716256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Arial"/>
              </a:rPr>
              <a:t>Estudio de Percep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uesta (sectores, N°, Ju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étodo de procesamiento (análisis de fact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pa per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Dimen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4680" y="1414440"/>
            <a:ext cx="8869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4581360" cy="4807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586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411360" cy="140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838160"/>
            <a:ext cx="84247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400360" cy="4321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780000" y="3954600"/>
            <a:ext cx="49687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2120" y="1014480"/>
            <a:ext cx="7315200" cy="5843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2120" y="228600"/>
            <a:ext cx="807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ERCEPCIÓN 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onfiabilidad v/s Percepción de aud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1014480"/>
            <a:ext cx="7315200" cy="5843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ERCEPCIÓN 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Radio “musical/compañía” v/s Radio para jóv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831960"/>
            <a:ext cx="7543800" cy="6026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9480" y="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ERCEPCIÓN POR S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onfiabilidad /s Percepción de audi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03:34:19Z</dcterms:created>
  <dc:creator>William Young</dc:creator>
  <dc:description/>
  <dc:language>en-US</dc:language>
  <cp:lastModifiedBy>William Young</cp:lastModifiedBy>
  <dcterms:modified xsi:type="dcterms:W3CDTF">2006-08-23T04:00:06Z</dcterms:modified>
  <cp:revision>3</cp:revision>
  <dc:subject/>
  <dc:title>Diapositiva 1</dc:title>
</cp:coreProperties>
</file>