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012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BCGFooter"/>
          <p:cNvSpPr/>
          <p:nvPr/>
        </p:nvSpPr>
        <p:spPr>
          <a:xfrm>
            <a:off x="237600" y="6681600"/>
            <a:ext cx="231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Resultados Encuesta InnovaciónBCG-País Digital 2005.pp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797680" y="6649920"/>
            <a:ext cx="76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90FE2793-02F2-435C-A606-C4313996BCAA}" type="slidenum">
              <a:rPr b="1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924360" y="6699240"/>
            <a:ext cx="1752480" cy="84240"/>
            <a:chOff x="3924360" y="6699240"/>
            <a:chExt cx="1752480" cy="84240"/>
          </a:xfrm>
        </p:grpSpPr>
        <p:grpSp>
          <p:nvGrpSpPr>
            <p:cNvPr id="5" name=""/>
            <p:cNvGrpSpPr/>
            <p:nvPr/>
          </p:nvGrpSpPr>
          <p:grpSpPr>
            <a:xfrm>
              <a:off x="4255920" y="6719760"/>
              <a:ext cx="63360" cy="55800"/>
              <a:chOff x="4255920" y="6719760"/>
              <a:chExt cx="63360" cy="55800"/>
            </a:xfrm>
          </p:grpSpPr>
          <p:sp>
            <p:nvSpPr>
              <p:cNvPr id="6" name=""/>
              <p:cNvSpPr/>
              <p:nvPr/>
            </p:nvSpPr>
            <p:spPr>
              <a:xfrm>
                <a:off x="425592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428688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4329720" y="6714000"/>
              <a:ext cx="39240" cy="69480"/>
              <a:chOff x="4329720" y="6714000"/>
              <a:chExt cx="39240" cy="69480"/>
            </a:xfrm>
          </p:grpSpPr>
          <p:sp>
            <p:nvSpPr>
              <p:cNvPr id="9" name=""/>
              <p:cNvSpPr/>
              <p:nvPr/>
            </p:nvSpPr>
            <p:spPr>
              <a:xfrm>
                <a:off x="4329720" y="6746400"/>
                <a:ext cx="39240" cy="3708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30080" y="671400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4449240" y="6719760"/>
              <a:ext cx="63000" cy="55800"/>
              <a:chOff x="4449240" y="6719760"/>
              <a:chExt cx="63000" cy="55800"/>
            </a:xfrm>
          </p:grpSpPr>
          <p:sp>
            <p:nvSpPr>
              <p:cNvPr id="12" name=""/>
              <p:cNvSpPr/>
              <p:nvPr/>
            </p:nvSpPr>
            <p:spPr>
              <a:xfrm>
                <a:off x="444924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47984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520880" y="6721560"/>
              <a:ext cx="62640" cy="5400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4010400" y="6722280"/>
              <a:ext cx="65520" cy="53280"/>
              <a:chOff x="4010400" y="6722280"/>
              <a:chExt cx="65520" cy="53280"/>
            </a:xfrm>
          </p:grpSpPr>
          <p:sp>
            <p:nvSpPr>
              <p:cNvPr id="16" name=""/>
              <p:cNvSpPr/>
              <p:nvPr/>
            </p:nvSpPr>
            <p:spPr>
              <a:xfrm>
                <a:off x="4049280" y="672228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010400" y="672228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027320" y="6746760"/>
                <a:ext cx="31320" cy="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5479920" y="6719760"/>
              <a:ext cx="63360" cy="55800"/>
              <a:chOff x="5479920" y="6719760"/>
              <a:chExt cx="63360" cy="55800"/>
            </a:xfrm>
          </p:grpSpPr>
          <p:sp>
            <p:nvSpPr>
              <p:cNvPr id="20" name=""/>
              <p:cNvSpPr/>
              <p:nvPr/>
            </p:nvSpPr>
            <p:spPr>
              <a:xfrm>
                <a:off x="547992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flipH="1">
                <a:off x="551088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4089600" y="6723000"/>
              <a:ext cx="47880" cy="52920"/>
              <a:chOff x="4089600" y="6723000"/>
              <a:chExt cx="47880" cy="52920"/>
            </a:xfrm>
          </p:grpSpPr>
          <p:sp>
            <p:nvSpPr>
              <p:cNvPr id="23" name=""/>
              <p:cNvSpPr/>
              <p:nvPr/>
            </p:nvSpPr>
            <p:spPr>
              <a:xfrm>
                <a:off x="4089600" y="6723000"/>
                <a:ext cx="26640" cy="52920"/>
              </a:xfrm>
              <a:custGeom>
                <a:avLst/>
                <a:gdLst/>
                <a:ahLst/>
                <a:rect l="l" t="t" r="r" b="b"/>
                <a:pathLst>
                  <a:path w="199" h="429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9" y="426"/>
                      <a:pt x="199" y="426"/>
                    </a:cubicBezTo>
                    <a:cubicBezTo>
                      <a:pt x="149" y="423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089960" y="6723000"/>
                <a:ext cx="43200" cy="13680"/>
              </a:xfrm>
              <a:custGeom>
                <a:avLst/>
                <a:gdLst/>
                <a:ahLst/>
                <a:rect l="l" t="t" r="r" b="b"/>
                <a:pathLst>
                  <a:path w="321" h="111">
                    <a:moveTo>
                      <a:pt x="0" y="0"/>
                    </a:moveTo>
                    <a:lnTo>
                      <a:pt x="319" y="0"/>
                    </a:lnTo>
                    <a:lnTo>
                      <a:pt x="321" y="111"/>
                    </a:lnTo>
                    <a:lnTo>
                      <a:pt x="292" y="111"/>
                    </a:lnTo>
                    <a:cubicBezTo>
                      <a:pt x="276" y="35"/>
                      <a:pt x="249" y="28"/>
                      <a:pt x="148" y="33"/>
                    </a:cubicBezTo>
                    <a:cubicBezTo>
                      <a:pt x="130" y="33"/>
                      <a:pt x="125" y="40"/>
                      <a:pt x="118" y="3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089960" y="6762600"/>
                <a:ext cx="47520" cy="13320"/>
              </a:xfrm>
              <a:custGeom>
                <a:avLst/>
                <a:gdLst/>
                <a:ahLst/>
                <a:rect l="l" t="t" r="r" b="b"/>
                <a:pathLst>
                  <a:path w="353" h="109">
                    <a:moveTo>
                      <a:pt x="0" y="109"/>
                    </a:moveTo>
                    <a:lnTo>
                      <a:pt x="347" y="109"/>
                    </a:lnTo>
                    <a:lnTo>
                      <a:pt x="353" y="0"/>
                    </a:lnTo>
                    <a:lnTo>
                      <a:pt x="324" y="0"/>
                    </a:lnTo>
                    <a:cubicBezTo>
                      <a:pt x="324" y="75"/>
                      <a:pt x="270" y="84"/>
                      <a:pt x="213" y="84"/>
                    </a:cubicBezTo>
                    <a:cubicBezTo>
                      <a:pt x="156" y="84"/>
                      <a:pt x="146" y="60"/>
                      <a:pt x="111" y="63"/>
                    </a:cubicBez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101840" y="6737400"/>
                <a:ext cx="21600" cy="21600"/>
              </a:xfrm>
              <a:custGeom>
                <a:avLst/>
                <a:gdLst/>
                <a:ahLst/>
                <a:rect l="l" t="t" r="r" b="b"/>
                <a:pathLst>
                  <a:path w="161" h="176">
                    <a:moveTo>
                      <a:pt x="161" y="0"/>
                    </a:moveTo>
                    <a:cubicBezTo>
                      <a:pt x="159" y="18"/>
                      <a:pt x="155" y="59"/>
                      <a:pt x="155" y="88"/>
                    </a:cubicBezTo>
                    <a:cubicBezTo>
                      <a:pt x="155" y="117"/>
                      <a:pt x="158" y="151"/>
                      <a:pt x="159" y="176"/>
                    </a:cubicBezTo>
                    <a:cubicBezTo>
                      <a:pt x="147" y="176"/>
                      <a:pt x="134" y="176"/>
                      <a:pt x="134" y="176"/>
                    </a:cubicBezTo>
                    <a:cubicBezTo>
                      <a:pt x="118" y="77"/>
                      <a:pt x="26" y="111"/>
                      <a:pt x="1" y="109"/>
                    </a:cubicBezTo>
                    <a:lnTo>
                      <a:pt x="0" y="79"/>
                    </a:lnTo>
                    <a:cubicBezTo>
                      <a:pt x="30" y="70"/>
                      <a:pt x="121" y="110"/>
                      <a:pt x="134" y="0"/>
                    </a:cubicBezTo>
                    <a:cubicBezTo>
                      <a:pt x="134" y="0"/>
                      <a:pt x="161" y="0"/>
                      <a:pt x="16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5630400" y="6722280"/>
              <a:ext cx="46440" cy="53280"/>
              <a:chOff x="5630400" y="6722280"/>
              <a:chExt cx="46440" cy="53280"/>
            </a:xfrm>
          </p:grpSpPr>
          <p:sp>
            <p:nvSpPr>
              <p:cNvPr id="28" name=""/>
              <p:cNvSpPr/>
              <p:nvPr/>
            </p:nvSpPr>
            <p:spPr>
              <a:xfrm>
                <a:off x="5630400" y="672228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646600" y="6722280"/>
                <a:ext cx="30240" cy="30960"/>
              </a:xfrm>
              <a:custGeom>
                <a:avLst/>
                <a:gdLst/>
                <a:ahLst/>
                <a:rect l="l" t="t" r="r" b="b"/>
                <a:pathLst>
                  <a:path w="226" h="249">
                    <a:moveTo>
                      <a:pt x="69" y="3"/>
                    </a:moveTo>
                    <a:cubicBezTo>
                      <a:pt x="187" y="0"/>
                      <a:pt x="223" y="75"/>
                      <a:pt x="220" y="112"/>
                    </a:cubicBezTo>
                    <a:cubicBezTo>
                      <a:pt x="217" y="149"/>
                      <a:pt x="226" y="249"/>
                      <a:pt x="0" y="234"/>
                    </a:cubicBezTo>
                    <a:cubicBezTo>
                      <a:pt x="0" y="218"/>
                      <a:pt x="9" y="204"/>
                      <a:pt x="9" y="204"/>
                    </a:cubicBezTo>
                    <a:cubicBezTo>
                      <a:pt x="69" y="214"/>
                      <a:pt x="129" y="207"/>
                      <a:pt x="132" y="122"/>
                    </a:cubicBezTo>
                    <a:cubicBezTo>
                      <a:pt x="136" y="36"/>
                      <a:pt x="64" y="20"/>
                      <a:pt x="16" y="34"/>
                    </a:cubicBezTo>
                    <a:cubicBezTo>
                      <a:pt x="17" y="14"/>
                      <a:pt x="69" y="3"/>
                      <a:pt x="69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5416560" y="6721920"/>
              <a:ext cx="56520" cy="53640"/>
              <a:chOff x="5416560" y="6721920"/>
              <a:chExt cx="56520" cy="53640"/>
            </a:xfrm>
          </p:grpSpPr>
          <p:sp>
            <p:nvSpPr>
              <p:cNvPr id="31" name=""/>
              <p:cNvSpPr/>
              <p:nvPr/>
            </p:nvSpPr>
            <p:spPr>
              <a:xfrm>
                <a:off x="5416560" y="6722280"/>
                <a:ext cx="26640" cy="5292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432760" y="672192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21" y="2"/>
                    </a:moveTo>
                    <a:cubicBezTo>
                      <a:pt x="62" y="0"/>
                      <a:pt x="65" y="24"/>
                      <a:pt x="65" y="34"/>
                    </a:cubicBezTo>
                    <a:cubicBezTo>
                      <a:pt x="64" y="45"/>
                      <a:pt x="63" y="71"/>
                      <a:pt x="1" y="70"/>
                    </a:cubicBezTo>
                    <a:cubicBezTo>
                      <a:pt x="1" y="65"/>
                      <a:pt x="3" y="61"/>
                      <a:pt x="3" y="61"/>
                    </a:cubicBezTo>
                    <a:cubicBezTo>
                      <a:pt x="21" y="64"/>
                      <a:pt x="42" y="60"/>
                      <a:pt x="42" y="36"/>
                    </a:cubicBezTo>
                    <a:cubicBezTo>
                      <a:pt x="42" y="12"/>
                      <a:pt x="19" y="7"/>
                      <a:pt x="5" y="11"/>
                    </a:cubicBezTo>
                    <a:cubicBezTo>
                      <a:pt x="0" y="6"/>
                      <a:pt x="21" y="2"/>
                      <a:pt x="21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5433120" y="674856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300" h="219">
                    <a:moveTo>
                      <a:pt x="109" y="6"/>
                    </a:moveTo>
                    <a:lnTo>
                      <a:pt x="232" y="145"/>
                    </a:lnTo>
                    <a:cubicBezTo>
                      <a:pt x="232" y="145"/>
                      <a:pt x="262" y="186"/>
                      <a:pt x="300" y="190"/>
                    </a:cubicBezTo>
                    <a:cubicBezTo>
                      <a:pt x="300" y="203"/>
                      <a:pt x="300" y="217"/>
                      <a:pt x="300" y="217"/>
                    </a:cubicBezTo>
                    <a:cubicBezTo>
                      <a:pt x="283" y="217"/>
                      <a:pt x="257" y="214"/>
                      <a:pt x="238" y="214"/>
                    </a:cubicBezTo>
                    <a:cubicBezTo>
                      <a:pt x="219" y="214"/>
                      <a:pt x="205" y="217"/>
                      <a:pt x="186" y="219"/>
                    </a:cubicBezTo>
                    <a:cubicBezTo>
                      <a:pt x="154" y="191"/>
                      <a:pt x="74" y="75"/>
                      <a:pt x="43" y="43"/>
                    </a:cubicBezTo>
                    <a:cubicBezTo>
                      <a:pt x="25" y="15"/>
                      <a:pt x="0" y="27"/>
                      <a:pt x="0" y="27"/>
                    </a:cubicBezTo>
                    <a:lnTo>
                      <a:pt x="0" y="0"/>
                    </a:lnTo>
                    <a:lnTo>
                      <a:pt x="10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" name=""/>
            <p:cNvSpPr/>
            <p:nvPr/>
          </p:nvSpPr>
          <p:spPr>
            <a:xfrm>
              <a:off x="5324040" y="6699240"/>
              <a:ext cx="84240" cy="76680"/>
            </a:xfrm>
            <a:custGeom>
              <a:avLst/>
              <a:gdLst/>
              <a:ahLst/>
              <a:rect l="l" t="t" r="r" b="b"/>
              <a:pathLst>
                <a:path w="183" h="181">
                  <a:moveTo>
                    <a:pt x="149" y="6"/>
                  </a:moveTo>
                  <a:lnTo>
                    <a:pt x="156" y="6"/>
                  </a:lnTo>
                  <a:lnTo>
                    <a:pt x="153" y="62"/>
                  </a:lnTo>
                  <a:cubicBezTo>
                    <a:pt x="153" y="62"/>
                    <a:pt x="153" y="71"/>
                    <a:pt x="143" y="62"/>
                  </a:cubicBezTo>
                  <a:cubicBezTo>
                    <a:pt x="143" y="37"/>
                    <a:pt x="123" y="10"/>
                    <a:pt x="94" y="10"/>
                  </a:cubicBezTo>
                  <a:cubicBezTo>
                    <a:pt x="65" y="10"/>
                    <a:pt x="30" y="32"/>
                    <a:pt x="32" y="91"/>
                  </a:cubicBezTo>
                  <a:cubicBezTo>
                    <a:pt x="34" y="150"/>
                    <a:pt x="69" y="172"/>
                    <a:pt x="94" y="172"/>
                  </a:cubicBezTo>
                  <a:cubicBezTo>
                    <a:pt x="118" y="172"/>
                    <a:pt x="135" y="156"/>
                    <a:pt x="137" y="137"/>
                  </a:cubicBezTo>
                  <a:cubicBezTo>
                    <a:pt x="137" y="131"/>
                    <a:pt x="137" y="114"/>
                    <a:pt x="111" y="114"/>
                  </a:cubicBezTo>
                  <a:cubicBezTo>
                    <a:pt x="111" y="109"/>
                    <a:pt x="111" y="104"/>
                    <a:pt x="111" y="104"/>
                  </a:cubicBezTo>
                  <a:lnTo>
                    <a:pt x="183" y="104"/>
                  </a:lnTo>
                  <a:cubicBezTo>
                    <a:pt x="183" y="104"/>
                    <a:pt x="183" y="109"/>
                    <a:pt x="183" y="114"/>
                  </a:cubicBezTo>
                  <a:cubicBezTo>
                    <a:pt x="173" y="115"/>
                    <a:pt x="167" y="119"/>
                    <a:pt x="168" y="135"/>
                  </a:cubicBezTo>
                  <a:cubicBezTo>
                    <a:pt x="168" y="135"/>
                    <a:pt x="168" y="147"/>
                    <a:pt x="168" y="160"/>
                  </a:cubicBezTo>
                  <a:cubicBezTo>
                    <a:pt x="162" y="160"/>
                    <a:pt x="152" y="158"/>
                    <a:pt x="142" y="166"/>
                  </a:cubicBezTo>
                  <a:cubicBezTo>
                    <a:pt x="128" y="175"/>
                    <a:pt x="115" y="181"/>
                    <a:pt x="84" y="181"/>
                  </a:cubicBezTo>
                  <a:cubicBezTo>
                    <a:pt x="54" y="181"/>
                    <a:pt x="0" y="162"/>
                    <a:pt x="0" y="96"/>
                  </a:cubicBezTo>
                  <a:cubicBezTo>
                    <a:pt x="0" y="30"/>
                    <a:pt x="48" y="3"/>
                    <a:pt x="93" y="2"/>
                  </a:cubicBezTo>
                  <a:cubicBezTo>
                    <a:pt x="125" y="0"/>
                    <a:pt x="139" y="13"/>
                    <a:pt x="144" y="15"/>
                  </a:cubicBezTo>
                  <a:cubicBezTo>
                    <a:pt x="146" y="11"/>
                    <a:pt x="149" y="6"/>
                    <a:pt x="14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554440" y="6721560"/>
              <a:ext cx="61920" cy="5400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" name=""/>
            <p:cNvGrpSpPr/>
            <p:nvPr/>
          </p:nvGrpSpPr>
          <p:grpSpPr>
            <a:xfrm>
              <a:off x="4707360" y="6719760"/>
              <a:ext cx="63000" cy="55800"/>
              <a:chOff x="4707360" y="6719760"/>
              <a:chExt cx="63000" cy="55800"/>
            </a:xfrm>
          </p:grpSpPr>
          <p:sp>
            <p:nvSpPr>
              <p:cNvPr id="37" name=""/>
              <p:cNvSpPr/>
              <p:nvPr/>
            </p:nvSpPr>
            <p:spPr>
              <a:xfrm>
                <a:off x="470736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H="1">
                <a:off x="473796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4780800" y="6721560"/>
              <a:ext cx="62640" cy="5400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"/>
            <p:cNvGrpSpPr/>
            <p:nvPr/>
          </p:nvGrpSpPr>
          <p:grpSpPr>
            <a:xfrm>
              <a:off x="4856760" y="6714000"/>
              <a:ext cx="39240" cy="69480"/>
              <a:chOff x="4856760" y="6714000"/>
              <a:chExt cx="39240" cy="69480"/>
            </a:xfrm>
          </p:grpSpPr>
          <p:sp>
            <p:nvSpPr>
              <p:cNvPr id="41" name=""/>
              <p:cNvSpPr/>
              <p:nvPr/>
            </p:nvSpPr>
            <p:spPr>
              <a:xfrm>
                <a:off x="4856760" y="6746400"/>
                <a:ext cx="39240" cy="3708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4857120" y="671400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4908240" y="6721920"/>
              <a:ext cx="61920" cy="5364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4981680" y="6721920"/>
              <a:ext cx="50400" cy="53280"/>
              <a:chOff x="4981680" y="6721920"/>
              <a:chExt cx="50400" cy="53280"/>
            </a:xfrm>
          </p:grpSpPr>
          <p:sp>
            <p:nvSpPr>
              <p:cNvPr id="45" name=""/>
              <p:cNvSpPr/>
              <p:nvPr/>
            </p:nvSpPr>
            <p:spPr>
              <a:xfrm>
                <a:off x="4981680" y="672192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58" h="126">
                    <a:moveTo>
                      <a:pt x="0" y="0"/>
                    </a:moveTo>
                    <a:cubicBezTo>
                      <a:pt x="6" y="1"/>
                      <a:pt x="19" y="2"/>
                      <a:pt x="29" y="2"/>
                    </a:cubicBezTo>
                    <a:cubicBezTo>
                      <a:pt x="39" y="2"/>
                      <a:pt x="50" y="1"/>
                      <a:pt x="58" y="1"/>
                    </a:cubicBezTo>
                    <a:cubicBezTo>
                      <a:pt x="58" y="4"/>
                      <a:pt x="58" y="8"/>
                      <a:pt x="58" y="8"/>
                    </a:cubicBezTo>
                    <a:cubicBezTo>
                      <a:pt x="38" y="9"/>
                      <a:pt x="41" y="9"/>
                      <a:pt x="40" y="64"/>
                    </a:cubicBezTo>
                    <a:cubicBezTo>
                      <a:pt x="39" y="118"/>
                      <a:pt x="40" y="117"/>
                      <a:pt x="58" y="119"/>
                    </a:cubicBezTo>
                    <a:cubicBezTo>
                      <a:pt x="58" y="123"/>
                      <a:pt x="53" y="124"/>
                      <a:pt x="53" y="124"/>
                    </a:cubicBezTo>
                    <a:cubicBezTo>
                      <a:pt x="38" y="123"/>
                      <a:pt x="29" y="121"/>
                      <a:pt x="29" y="121"/>
                    </a:cubicBezTo>
                    <a:cubicBezTo>
                      <a:pt x="29" y="121"/>
                      <a:pt x="14" y="126"/>
                      <a:pt x="0" y="126"/>
                    </a:cubicBezTo>
                    <a:cubicBezTo>
                      <a:pt x="0" y="126"/>
                      <a:pt x="0" y="123"/>
                      <a:pt x="0" y="119"/>
                    </a:cubicBezTo>
                    <a:cubicBezTo>
                      <a:pt x="18" y="116"/>
                      <a:pt x="18" y="118"/>
                      <a:pt x="18" y="64"/>
                    </a:cubicBezTo>
                    <a:cubicBezTo>
                      <a:pt x="17" y="10"/>
                      <a:pt x="19" y="10"/>
                      <a:pt x="0" y="8"/>
                    </a:cubicBezTo>
                    <a:cubicBezTo>
                      <a:pt x="0" y="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981680" y="6760440"/>
                <a:ext cx="50400" cy="14760"/>
              </a:xfrm>
              <a:custGeom>
                <a:avLst/>
                <a:gdLst/>
                <a:ahLst/>
                <a:rect l="l" t="t" r="r" b="b"/>
                <a:pathLst>
                  <a:path w="374" h="121">
                    <a:moveTo>
                      <a:pt x="0" y="120"/>
                    </a:moveTo>
                    <a:lnTo>
                      <a:pt x="246" y="120"/>
                    </a:lnTo>
                    <a:cubicBezTo>
                      <a:pt x="307" y="120"/>
                      <a:pt x="308" y="117"/>
                      <a:pt x="369" y="121"/>
                    </a:cubicBezTo>
                    <a:cubicBezTo>
                      <a:pt x="371" y="60"/>
                      <a:pt x="374" y="0"/>
                      <a:pt x="374" y="0"/>
                    </a:cubicBezTo>
                    <a:lnTo>
                      <a:pt x="347" y="0"/>
                    </a:lnTo>
                    <a:cubicBezTo>
                      <a:pt x="332" y="61"/>
                      <a:pt x="318" y="93"/>
                      <a:pt x="228" y="93"/>
                    </a:cubicBezTo>
                    <a:cubicBezTo>
                      <a:pt x="138" y="93"/>
                      <a:pt x="140" y="79"/>
                      <a:pt x="131" y="0"/>
                    </a:cubicBezTo>
                    <a:cubicBezTo>
                      <a:pt x="100" y="47"/>
                      <a:pt x="69" y="94"/>
                      <a:pt x="69" y="94"/>
                    </a:cubicBez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109840" y="6723000"/>
              <a:ext cx="26640" cy="52920"/>
            </a:xfrm>
            <a:custGeom>
              <a:avLst/>
              <a:gdLst/>
              <a:ahLst/>
              <a:rect l="l" t="t" r="r" b="b"/>
              <a:pathLst>
                <a:path w="198" h="431">
                  <a:moveTo>
                    <a:pt x="0" y="0"/>
                  </a:moveTo>
                  <a:cubicBezTo>
                    <a:pt x="20" y="2"/>
                    <a:pt x="66" y="6"/>
                    <a:pt x="99" y="6"/>
                  </a:cubicBezTo>
                  <a:cubicBezTo>
                    <a:pt x="132" y="6"/>
                    <a:pt x="170" y="3"/>
                    <a:pt x="198" y="2"/>
                  </a:cubicBezTo>
                  <a:cubicBezTo>
                    <a:pt x="198" y="14"/>
                    <a:pt x="198" y="27"/>
                    <a:pt x="198" y="27"/>
                  </a:cubicBezTo>
                  <a:cubicBezTo>
                    <a:pt x="129" y="32"/>
                    <a:pt x="140" y="30"/>
                    <a:pt x="137" y="216"/>
                  </a:cubicBezTo>
                  <a:cubicBezTo>
                    <a:pt x="134" y="402"/>
                    <a:pt x="137" y="398"/>
                    <a:pt x="198" y="405"/>
                  </a:cubicBezTo>
                  <a:cubicBezTo>
                    <a:pt x="198" y="418"/>
                    <a:pt x="198" y="431"/>
                    <a:pt x="198" y="431"/>
                  </a:cubicBezTo>
                  <a:cubicBezTo>
                    <a:pt x="148" y="428"/>
                    <a:pt x="99" y="426"/>
                    <a:pt x="99" y="426"/>
                  </a:cubicBezTo>
                  <a:cubicBezTo>
                    <a:pt x="99" y="426"/>
                    <a:pt x="49" y="427"/>
                    <a:pt x="0" y="429"/>
                  </a:cubicBezTo>
                  <a:cubicBezTo>
                    <a:pt x="0" y="429"/>
                    <a:pt x="0" y="417"/>
                    <a:pt x="0" y="405"/>
                  </a:cubicBezTo>
                  <a:cubicBezTo>
                    <a:pt x="63" y="395"/>
                    <a:pt x="62" y="401"/>
                    <a:pt x="60" y="218"/>
                  </a:cubicBezTo>
                  <a:cubicBezTo>
                    <a:pt x="58" y="35"/>
                    <a:pt x="66" y="33"/>
                    <a:pt x="0" y="27"/>
                  </a:cubicBezTo>
                  <a:cubicBezTo>
                    <a:pt x="0" y="2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46920" y="6721560"/>
              <a:ext cx="62640" cy="5400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24320" y="6720480"/>
              <a:ext cx="60480" cy="55440"/>
            </a:xfrm>
            <a:custGeom>
              <a:avLst/>
              <a:gdLst/>
              <a:ahLst/>
              <a:rect l="l" t="t" r="r" b="b"/>
              <a:pathLst>
                <a:path w="451" h="447">
                  <a:moveTo>
                    <a:pt x="366" y="15"/>
                  </a:moveTo>
                  <a:lnTo>
                    <a:pt x="385" y="15"/>
                  </a:lnTo>
                  <a:lnTo>
                    <a:pt x="376" y="152"/>
                  </a:lnTo>
                  <a:cubicBezTo>
                    <a:pt x="376" y="152"/>
                    <a:pt x="364" y="152"/>
                    <a:pt x="352" y="152"/>
                  </a:cubicBezTo>
                  <a:cubicBezTo>
                    <a:pt x="352" y="92"/>
                    <a:pt x="306" y="33"/>
                    <a:pt x="234" y="32"/>
                  </a:cubicBezTo>
                  <a:cubicBezTo>
                    <a:pt x="162" y="31"/>
                    <a:pt x="88" y="87"/>
                    <a:pt x="93" y="233"/>
                  </a:cubicBezTo>
                  <a:cubicBezTo>
                    <a:pt x="98" y="379"/>
                    <a:pt x="168" y="419"/>
                    <a:pt x="228" y="419"/>
                  </a:cubicBezTo>
                  <a:cubicBezTo>
                    <a:pt x="288" y="419"/>
                    <a:pt x="324" y="377"/>
                    <a:pt x="327" y="332"/>
                  </a:cubicBezTo>
                  <a:cubicBezTo>
                    <a:pt x="327" y="317"/>
                    <a:pt x="337" y="282"/>
                    <a:pt x="274" y="282"/>
                  </a:cubicBezTo>
                  <a:cubicBezTo>
                    <a:pt x="274" y="270"/>
                    <a:pt x="274" y="258"/>
                    <a:pt x="274" y="258"/>
                  </a:cubicBezTo>
                  <a:lnTo>
                    <a:pt x="451" y="258"/>
                  </a:lnTo>
                  <a:cubicBezTo>
                    <a:pt x="451" y="258"/>
                    <a:pt x="451" y="269"/>
                    <a:pt x="451" y="281"/>
                  </a:cubicBezTo>
                  <a:cubicBezTo>
                    <a:pt x="426" y="285"/>
                    <a:pt x="411" y="294"/>
                    <a:pt x="414" y="333"/>
                  </a:cubicBezTo>
                  <a:cubicBezTo>
                    <a:pt x="414" y="333"/>
                    <a:pt x="414" y="364"/>
                    <a:pt x="414" y="396"/>
                  </a:cubicBezTo>
                  <a:cubicBezTo>
                    <a:pt x="400" y="396"/>
                    <a:pt x="375" y="390"/>
                    <a:pt x="349" y="410"/>
                  </a:cubicBezTo>
                  <a:cubicBezTo>
                    <a:pt x="315" y="432"/>
                    <a:pt x="283" y="447"/>
                    <a:pt x="208" y="447"/>
                  </a:cubicBezTo>
                  <a:cubicBezTo>
                    <a:pt x="133" y="447"/>
                    <a:pt x="0" y="399"/>
                    <a:pt x="0" y="236"/>
                  </a:cubicBezTo>
                  <a:cubicBezTo>
                    <a:pt x="0" y="73"/>
                    <a:pt x="119" y="8"/>
                    <a:pt x="228" y="5"/>
                  </a:cubicBezTo>
                  <a:cubicBezTo>
                    <a:pt x="309" y="0"/>
                    <a:pt x="342" y="33"/>
                    <a:pt x="355" y="38"/>
                  </a:cubicBezTo>
                  <a:cubicBezTo>
                    <a:pt x="360" y="26"/>
                    <a:pt x="366" y="15"/>
                    <a:pt x="366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26720" y="6699600"/>
              <a:ext cx="72720" cy="7632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46" y="5"/>
                  </a:moveTo>
                  <a:lnTo>
                    <a:pt x="155" y="5"/>
                  </a:lnTo>
                  <a:lnTo>
                    <a:pt x="156" y="58"/>
                  </a:lnTo>
                  <a:cubicBezTo>
                    <a:pt x="156" y="58"/>
                    <a:pt x="156" y="67"/>
                    <a:pt x="145" y="58"/>
                  </a:cubicBezTo>
                  <a:cubicBezTo>
                    <a:pt x="145" y="47"/>
                    <a:pt x="127" y="7"/>
                    <a:pt x="93" y="7"/>
                  </a:cubicBezTo>
                  <a:cubicBezTo>
                    <a:pt x="60" y="7"/>
                    <a:pt x="30" y="51"/>
                    <a:pt x="30" y="91"/>
                  </a:cubicBezTo>
                  <a:cubicBezTo>
                    <a:pt x="31" y="131"/>
                    <a:pt x="51" y="171"/>
                    <a:pt x="93" y="171"/>
                  </a:cubicBezTo>
                  <a:cubicBezTo>
                    <a:pt x="136" y="171"/>
                    <a:pt x="147" y="125"/>
                    <a:pt x="148" y="114"/>
                  </a:cubicBezTo>
                  <a:cubicBezTo>
                    <a:pt x="153" y="114"/>
                    <a:pt x="158" y="114"/>
                    <a:pt x="158" y="114"/>
                  </a:cubicBezTo>
                  <a:lnTo>
                    <a:pt x="158" y="174"/>
                  </a:lnTo>
                  <a:lnTo>
                    <a:pt x="150" y="174"/>
                  </a:lnTo>
                  <a:cubicBezTo>
                    <a:pt x="150" y="174"/>
                    <a:pt x="147" y="169"/>
                    <a:pt x="145" y="164"/>
                  </a:cubicBezTo>
                  <a:cubicBezTo>
                    <a:pt x="137" y="168"/>
                    <a:pt x="119" y="180"/>
                    <a:pt x="90" y="180"/>
                  </a:cubicBezTo>
                  <a:cubicBezTo>
                    <a:pt x="61" y="179"/>
                    <a:pt x="0" y="169"/>
                    <a:pt x="0" y="91"/>
                  </a:cubicBezTo>
                  <a:cubicBezTo>
                    <a:pt x="1" y="12"/>
                    <a:pt x="69" y="0"/>
                    <a:pt x="92" y="0"/>
                  </a:cubicBezTo>
                  <a:cubicBezTo>
                    <a:pt x="115" y="0"/>
                    <a:pt x="136" y="8"/>
                    <a:pt x="143" y="13"/>
                  </a:cubicBezTo>
                  <a:cubicBezTo>
                    <a:pt x="144" y="9"/>
                    <a:pt x="146" y="5"/>
                    <a:pt x="14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24360" y="6702840"/>
              <a:ext cx="73080" cy="727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4173480" y="6701760"/>
              <a:ext cx="70200" cy="74160"/>
              <a:chOff x="4173480" y="6701760"/>
              <a:chExt cx="70200" cy="74160"/>
            </a:xfrm>
          </p:grpSpPr>
          <p:sp>
            <p:nvSpPr>
              <p:cNvPr id="53" name=""/>
              <p:cNvSpPr/>
              <p:nvPr/>
            </p:nvSpPr>
            <p:spPr>
              <a:xfrm>
                <a:off x="4173480" y="6702120"/>
                <a:ext cx="35280" cy="73800"/>
              </a:xfrm>
              <a:custGeom>
                <a:avLst/>
                <a:gdLst/>
                <a:ahLst/>
                <a:rect l="l" t="t" r="r" b="b"/>
                <a:pathLst>
                  <a:path w="253" h="573">
                    <a:moveTo>
                      <a:pt x="0" y="17"/>
                    </a:moveTo>
                    <a:cubicBezTo>
                      <a:pt x="0" y="8"/>
                      <a:pt x="0" y="0"/>
                      <a:pt x="0" y="0"/>
                    </a:cubicBezTo>
                    <a:lnTo>
                      <a:pt x="198" y="0"/>
                    </a:lnTo>
                    <a:cubicBezTo>
                      <a:pt x="198" y="0"/>
                      <a:pt x="198" y="13"/>
                      <a:pt x="198" y="26"/>
                    </a:cubicBezTo>
                    <a:cubicBezTo>
                      <a:pt x="174" y="26"/>
                      <a:pt x="171" y="38"/>
                      <a:pt x="171" y="53"/>
                    </a:cubicBezTo>
                    <a:cubicBezTo>
                      <a:pt x="171" y="53"/>
                      <a:pt x="171" y="259"/>
                      <a:pt x="171" y="465"/>
                    </a:cubicBezTo>
                    <a:cubicBezTo>
                      <a:pt x="171" y="465"/>
                      <a:pt x="168" y="540"/>
                      <a:pt x="253" y="549"/>
                    </a:cubicBezTo>
                    <a:cubicBezTo>
                      <a:pt x="253" y="559"/>
                      <a:pt x="253" y="570"/>
                      <a:pt x="253" y="570"/>
                    </a:cubicBezTo>
                    <a:cubicBezTo>
                      <a:pt x="232" y="573"/>
                      <a:pt x="166" y="564"/>
                      <a:pt x="124" y="564"/>
                    </a:cubicBezTo>
                    <a:cubicBezTo>
                      <a:pt x="82" y="564"/>
                      <a:pt x="21" y="572"/>
                      <a:pt x="0" y="570"/>
                    </a:cubicBezTo>
                    <a:cubicBezTo>
                      <a:pt x="0" y="570"/>
                      <a:pt x="0" y="562"/>
                      <a:pt x="0" y="554"/>
                    </a:cubicBezTo>
                    <a:cubicBezTo>
                      <a:pt x="24" y="551"/>
                      <a:pt x="76" y="560"/>
                      <a:pt x="78" y="480"/>
                    </a:cubicBezTo>
                    <a:cubicBezTo>
                      <a:pt x="78" y="283"/>
                      <a:pt x="78" y="86"/>
                      <a:pt x="78" y="86"/>
                    </a:cubicBezTo>
                    <a:cubicBezTo>
                      <a:pt x="79" y="44"/>
                      <a:pt x="72" y="20"/>
                      <a:pt x="0" y="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196520" y="670176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338" h="575">
                    <a:moveTo>
                      <a:pt x="30" y="3"/>
                    </a:moveTo>
                    <a:cubicBezTo>
                      <a:pt x="150" y="0"/>
                      <a:pt x="274" y="21"/>
                      <a:pt x="276" y="129"/>
                    </a:cubicBezTo>
                    <a:cubicBezTo>
                      <a:pt x="278" y="237"/>
                      <a:pt x="183" y="254"/>
                      <a:pt x="151" y="272"/>
                    </a:cubicBezTo>
                    <a:cubicBezTo>
                      <a:pt x="184" y="276"/>
                      <a:pt x="336" y="284"/>
                      <a:pt x="337" y="426"/>
                    </a:cubicBezTo>
                    <a:cubicBezTo>
                      <a:pt x="338" y="568"/>
                      <a:pt x="178" y="572"/>
                      <a:pt x="81" y="575"/>
                    </a:cubicBezTo>
                    <a:cubicBezTo>
                      <a:pt x="81" y="575"/>
                      <a:pt x="81" y="563"/>
                      <a:pt x="81" y="552"/>
                    </a:cubicBezTo>
                    <a:cubicBezTo>
                      <a:pt x="135" y="551"/>
                      <a:pt x="223" y="549"/>
                      <a:pt x="226" y="419"/>
                    </a:cubicBezTo>
                    <a:cubicBezTo>
                      <a:pt x="229" y="289"/>
                      <a:pt x="126" y="279"/>
                      <a:pt x="0" y="284"/>
                    </a:cubicBezTo>
                    <a:cubicBezTo>
                      <a:pt x="0" y="273"/>
                      <a:pt x="1" y="263"/>
                      <a:pt x="1" y="263"/>
                    </a:cubicBezTo>
                    <a:cubicBezTo>
                      <a:pt x="87" y="260"/>
                      <a:pt x="178" y="263"/>
                      <a:pt x="178" y="143"/>
                    </a:cubicBezTo>
                    <a:cubicBezTo>
                      <a:pt x="178" y="23"/>
                      <a:pt x="57" y="27"/>
                      <a:pt x="30" y="27"/>
                    </a:cubicBezTo>
                    <a:cubicBezTo>
                      <a:pt x="30" y="27"/>
                      <a:pt x="28" y="15"/>
                      <a:pt x="30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376520" y="6723000"/>
              <a:ext cx="61560" cy="529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35680" y="6723000"/>
              <a:ext cx="61560" cy="529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0440" y="3697200"/>
            <a:ext cx="8686800" cy="2747880"/>
          </a:xfrm>
          <a:prstGeom prst="rect">
            <a:avLst/>
          </a:prstGeom>
          <a:solidFill>
            <a:srgbClr val="00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52280"/>
            <a:ext cx="9302760" cy="655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871560"/>
            <a:ext cx="8991360" cy="2171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undación País Digital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NNOVACIÓN, SIGUIENTE PASO PARA EL DESARROLLO</a:t>
            </a:r>
            <a:br>
              <a:rPr sz="2200"/>
            </a:br>
            <a:br>
              <a:rPr sz="22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ltados de encuesta a líderes empresariales chilenos</a:t>
            </a:r>
            <a:br>
              <a:rPr sz="1800"/>
            </a:br>
            <a:br>
              <a:rPr sz="18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1 de octubre de 20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82720" y="4865760"/>
            <a:ext cx="6042240" cy="315360"/>
            <a:chOff x="1782720" y="4865760"/>
            <a:chExt cx="6042240" cy="315360"/>
          </a:xfrm>
        </p:grpSpPr>
        <p:grpSp>
          <p:nvGrpSpPr>
            <p:cNvPr id="97" name=""/>
            <p:cNvGrpSpPr/>
            <p:nvPr/>
          </p:nvGrpSpPr>
          <p:grpSpPr>
            <a:xfrm>
              <a:off x="2925720" y="4943160"/>
              <a:ext cx="220320" cy="209160"/>
              <a:chOff x="2925720" y="4943160"/>
              <a:chExt cx="220320" cy="209160"/>
            </a:xfrm>
          </p:grpSpPr>
          <p:sp>
            <p:nvSpPr>
              <p:cNvPr id="98" name=""/>
              <p:cNvSpPr/>
              <p:nvPr/>
            </p:nvSpPr>
            <p:spPr>
              <a:xfrm>
                <a:off x="2925720" y="4943160"/>
                <a:ext cx="11124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035160" y="4943160"/>
                <a:ext cx="11088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181320" y="4920840"/>
              <a:ext cx="136440" cy="260280"/>
              <a:chOff x="3181320" y="4920840"/>
              <a:chExt cx="136440" cy="260280"/>
            </a:xfrm>
          </p:grpSpPr>
          <p:sp>
            <p:nvSpPr>
              <p:cNvPr id="101" name=""/>
              <p:cNvSpPr/>
              <p:nvPr/>
            </p:nvSpPr>
            <p:spPr>
              <a:xfrm>
                <a:off x="3181320" y="5042520"/>
                <a:ext cx="136440" cy="13860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83120" y="4920840"/>
                <a:ext cx="120960" cy="1252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592440" y="4943160"/>
              <a:ext cx="218880" cy="209160"/>
              <a:chOff x="3592440" y="4943160"/>
              <a:chExt cx="218880" cy="209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592440" y="4943160"/>
                <a:ext cx="11052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701160" y="4943160"/>
                <a:ext cx="11016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3840120" y="4949640"/>
              <a:ext cx="216000" cy="20268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079720" y="4952880"/>
              <a:ext cx="226800" cy="199440"/>
              <a:chOff x="2079720" y="4952880"/>
              <a:chExt cx="226800" cy="199440"/>
            </a:xfrm>
          </p:grpSpPr>
          <p:sp>
            <p:nvSpPr>
              <p:cNvPr id="108" name=""/>
              <p:cNvSpPr/>
              <p:nvPr/>
            </p:nvSpPr>
            <p:spPr>
              <a:xfrm>
                <a:off x="2214360" y="4952880"/>
                <a:ext cx="92160" cy="19944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79720" y="4952880"/>
                <a:ext cx="92160" cy="19944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38400" y="5043960"/>
                <a:ext cx="109080" cy="1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7145280" y="4943160"/>
              <a:ext cx="220320" cy="209160"/>
              <a:chOff x="7145280" y="4943160"/>
              <a:chExt cx="220320" cy="209160"/>
            </a:xfrm>
          </p:grpSpPr>
          <p:sp>
            <p:nvSpPr>
              <p:cNvPr id="112" name=""/>
              <p:cNvSpPr/>
              <p:nvPr/>
            </p:nvSpPr>
            <p:spPr>
              <a:xfrm>
                <a:off x="7145280" y="4943160"/>
                <a:ext cx="11124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7254720" y="4943160"/>
                <a:ext cx="11088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352600" y="4954320"/>
              <a:ext cx="165240" cy="198000"/>
              <a:chOff x="2352600" y="4954320"/>
              <a:chExt cx="165240" cy="198000"/>
            </a:xfrm>
          </p:grpSpPr>
          <p:sp>
            <p:nvSpPr>
              <p:cNvPr id="115" name=""/>
              <p:cNvSpPr/>
              <p:nvPr/>
            </p:nvSpPr>
            <p:spPr>
              <a:xfrm>
                <a:off x="2352600" y="4954320"/>
                <a:ext cx="92160" cy="198000"/>
              </a:xfrm>
              <a:custGeom>
                <a:avLst/>
                <a:gdLst/>
                <a:ahLst/>
                <a:rect l="l" t="t" r="r" b="b"/>
                <a:pathLst>
                  <a:path w="199" h="429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9" y="426"/>
                      <a:pt x="199" y="426"/>
                    </a:cubicBezTo>
                    <a:cubicBezTo>
                      <a:pt x="149" y="423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354040" y="4954680"/>
                <a:ext cx="148680" cy="51120"/>
              </a:xfrm>
              <a:custGeom>
                <a:avLst/>
                <a:gdLst/>
                <a:ahLst/>
                <a:rect l="l" t="t" r="r" b="b"/>
                <a:pathLst>
                  <a:path w="321" h="111">
                    <a:moveTo>
                      <a:pt x="0" y="0"/>
                    </a:moveTo>
                    <a:lnTo>
                      <a:pt x="319" y="0"/>
                    </a:lnTo>
                    <a:lnTo>
                      <a:pt x="321" y="111"/>
                    </a:lnTo>
                    <a:lnTo>
                      <a:pt x="292" y="111"/>
                    </a:lnTo>
                    <a:cubicBezTo>
                      <a:pt x="276" y="35"/>
                      <a:pt x="249" y="28"/>
                      <a:pt x="148" y="33"/>
                    </a:cubicBezTo>
                    <a:cubicBezTo>
                      <a:pt x="130" y="33"/>
                      <a:pt x="125" y="40"/>
                      <a:pt x="118" y="3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54400" y="5101560"/>
                <a:ext cx="163440" cy="50040"/>
              </a:xfrm>
              <a:custGeom>
                <a:avLst/>
                <a:gdLst/>
                <a:ahLst/>
                <a:rect l="l" t="t" r="r" b="b"/>
                <a:pathLst>
                  <a:path w="353" h="109">
                    <a:moveTo>
                      <a:pt x="0" y="109"/>
                    </a:moveTo>
                    <a:lnTo>
                      <a:pt x="347" y="109"/>
                    </a:lnTo>
                    <a:lnTo>
                      <a:pt x="353" y="0"/>
                    </a:lnTo>
                    <a:lnTo>
                      <a:pt x="324" y="0"/>
                    </a:lnTo>
                    <a:cubicBezTo>
                      <a:pt x="324" y="75"/>
                      <a:pt x="270" y="84"/>
                      <a:pt x="213" y="84"/>
                    </a:cubicBezTo>
                    <a:cubicBezTo>
                      <a:pt x="156" y="84"/>
                      <a:pt x="146" y="60"/>
                      <a:pt x="111" y="63"/>
                    </a:cubicBez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95440" y="5008320"/>
                <a:ext cx="74520" cy="81000"/>
              </a:xfrm>
              <a:custGeom>
                <a:avLst/>
                <a:gdLst/>
                <a:ahLst/>
                <a:rect l="l" t="t" r="r" b="b"/>
                <a:pathLst>
                  <a:path w="161" h="176">
                    <a:moveTo>
                      <a:pt x="161" y="0"/>
                    </a:moveTo>
                    <a:cubicBezTo>
                      <a:pt x="159" y="18"/>
                      <a:pt x="155" y="59"/>
                      <a:pt x="155" y="88"/>
                    </a:cubicBezTo>
                    <a:cubicBezTo>
                      <a:pt x="155" y="117"/>
                      <a:pt x="158" y="151"/>
                      <a:pt x="159" y="176"/>
                    </a:cubicBezTo>
                    <a:cubicBezTo>
                      <a:pt x="147" y="176"/>
                      <a:pt x="134" y="176"/>
                      <a:pt x="134" y="176"/>
                    </a:cubicBezTo>
                    <a:cubicBezTo>
                      <a:pt x="118" y="77"/>
                      <a:pt x="26" y="111"/>
                      <a:pt x="1" y="109"/>
                    </a:cubicBezTo>
                    <a:lnTo>
                      <a:pt x="0" y="79"/>
                    </a:lnTo>
                    <a:cubicBezTo>
                      <a:pt x="30" y="70"/>
                      <a:pt x="121" y="110"/>
                      <a:pt x="134" y="0"/>
                    </a:cubicBezTo>
                    <a:cubicBezTo>
                      <a:pt x="134" y="0"/>
                      <a:pt x="161" y="0"/>
                      <a:pt x="16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7664400" y="4952880"/>
              <a:ext cx="160560" cy="199440"/>
              <a:chOff x="7664400" y="4952880"/>
              <a:chExt cx="160560" cy="199440"/>
            </a:xfrm>
          </p:grpSpPr>
          <p:sp>
            <p:nvSpPr>
              <p:cNvPr id="120" name=""/>
              <p:cNvSpPr/>
              <p:nvPr/>
            </p:nvSpPr>
            <p:spPr>
              <a:xfrm>
                <a:off x="7664400" y="4952880"/>
                <a:ext cx="91440" cy="19944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720200" y="4953240"/>
                <a:ext cx="104760" cy="115200"/>
              </a:xfrm>
              <a:custGeom>
                <a:avLst/>
                <a:gdLst/>
                <a:ahLst/>
                <a:rect l="l" t="t" r="r" b="b"/>
                <a:pathLst>
                  <a:path w="226" h="249">
                    <a:moveTo>
                      <a:pt x="69" y="3"/>
                    </a:moveTo>
                    <a:cubicBezTo>
                      <a:pt x="187" y="0"/>
                      <a:pt x="223" y="75"/>
                      <a:pt x="220" y="112"/>
                    </a:cubicBezTo>
                    <a:cubicBezTo>
                      <a:pt x="217" y="149"/>
                      <a:pt x="226" y="249"/>
                      <a:pt x="0" y="234"/>
                    </a:cubicBezTo>
                    <a:cubicBezTo>
                      <a:pt x="0" y="218"/>
                      <a:pt x="9" y="204"/>
                      <a:pt x="9" y="204"/>
                    </a:cubicBezTo>
                    <a:cubicBezTo>
                      <a:pt x="69" y="214"/>
                      <a:pt x="129" y="207"/>
                      <a:pt x="132" y="122"/>
                    </a:cubicBezTo>
                    <a:cubicBezTo>
                      <a:pt x="136" y="36"/>
                      <a:pt x="64" y="20"/>
                      <a:pt x="16" y="34"/>
                    </a:cubicBezTo>
                    <a:cubicBezTo>
                      <a:pt x="17" y="14"/>
                      <a:pt x="69" y="3"/>
                      <a:pt x="69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927840" y="4951080"/>
              <a:ext cx="194760" cy="200880"/>
              <a:chOff x="6927840" y="4951080"/>
              <a:chExt cx="194760" cy="200880"/>
            </a:xfrm>
          </p:grpSpPr>
          <p:sp>
            <p:nvSpPr>
              <p:cNvPr id="123" name=""/>
              <p:cNvSpPr/>
              <p:nvPr/>
            </p:nvSpPr>
            <p:spPr>
              <a:xfrm>
                <a:off x="6927840" y="4952160"/>
                <a:ext cx="91800" cy="19800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83280" y="4951080"/>
                <a:ext cx="102600" cy="11232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21" y="2"/>
                    </a:moveTo>
                    <a:cubicBezTo>
                      <a:pt x="62" y="0"/>
                      <a:pt x="65" y="24"/>
                      <a:pt x="65" y="34"/>
                    </a:cubicBezTo>
                    <a:cubicBezTo>
                      <a:pt x="64" y="45"/>
                      <a:pt x="63" y="71"/>
                      <a:pt x="1" y="70"/>
                    </a:cubicBezTo>
                    <a:cubicBezTo>
                      <a:pt x="1" y="65"/>
                      <a:pt x="3" y="61"/>
                      <a:pt x="3" y="61"/>
                    </a:cubicBezTo>
                    <a:cubicBezTo>
                      <a:pt x="21" y="64"/>
                      <a:pt x="42" y="60"/>
                      <a:pt x="42" y="36"/>
                    </a:cubicBezTo>
                    <a:cubicBezTo>
                      <a:pt x="42" y="12"/>
                      <a:pt x="19" y="7"/>
                      <a:pt x="5" y="11"/>
                    </a:cubicBezTo>
                    <a:cubicBezTo>
                      <a:pt x="0" y="6"/>
                      <a:pt x="21" y="2"/>
                      <a:pt x="2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84720" y="5050440"/>
                <a:ext cx="137880" cy="101520"/>
              </a:xfrm>
              <a:custGeom>
                <a:avLst/>
                <a:gdLst/>
                <a:ahLst/>
                <a:rect l="l" t="t" r="r" b="b"/>
                <a:pathLst>
                  <a:path w="300" h="219">
                    <a:moveTo>
                      <a:pt x="109" y="6"/>
                    </a:moveTo>
                    <a:lnTo>
                      <a:pt x="232" y="145"/>
                    </a:lnTo>
                    <a:cubicBezTo>
                      <a:pt x="232" y="145"/>
                      <a:pt x="262" y="186"/>
                      <a:pt x="300" y="190"/>
                    </a:cubicBezTo>
                    <a:cubicBezTo>
                      <a:pt x="300" y="203"/>
                      <a:pt x="300" y="217"/>
                      <a:pt x="300" y="217"/>
                    </a:cubicBezTo>
                    <a:cubicBezTo>
                      <a:pt x="283" y="217"/>
                      <a:pt x="257" y="214"/>
                      <a:pt x="238" y="214"/>
                    </a:cubicBezTo>
                    <a:cubicBezTo>
                      <a:pt x="219" y="214"/>
                      <a:pt x="205" y="217"/>
                      <a:pt x="186" y="219"/>
                    </a:cubicBezTo>
                    <a:cubicBezTo>
                      <a:pt x="154" y="191"/>
                      <a:pt x="74" y="75"/>
                      <a:pt x="43" y="43"/>
                    </a:cubicBezTo>
                    <a:cubicBezTo>
                      <a:pt x="25" y="15"/>
                      <a:pt x="0" y="27"/>
                      <a:pt x="0" y="27"/>
                    </a:cubicBezTo>
                    <a:lnTo>
                      <a:pt x="0" y="0"/>
                    </a:lnTo>
                    <a:lnTo>
                      <a:pt x="10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6608880" y="4865760"/>
              <a:ext cx="290520" cy="286920"/>
            </a:xfrm>
            <a:custGeom>
              <a:avLst/>
              <a:gdLst/>
              <a:ahLst/>
              <a:rect l="l" t="t" r="r" b="b"/>
              <a:pathLst>
                <a:path w="183" h="181">
                  <a:moveTo>
                    <a:pt x="149" y="6"/>
                  </a:moveTo>
                  <a:lnTo>
                    <a:pt x="156" y="6"/>
                  </a:lnTo>
                  <a:lnTo>
                    <a:pt x="153" y="62"/>
                  </a:lnTo>
                  <a:cubicBezTo>
                    <a:pt x="153" y="62"/>
                    <a:pt x="153" y="71"/>
                    <a:pt x="143" y="62"/>
                  </a:cubicBezTo>
                  <a:cubicBezTo>
                    <a:pt x="143" y="37"/>
                    <a:pt x="123" y="10"/>
                    <a:pt x="94" y="10"/>
                  </a:cubicBezTo>
                  <a:cubicBezTo>
                    <a:pt x="65" y="10"/>
                    <a:pt x="30" y="32"/>
                    <a:pt x="32" y="91"/>
                  </a:cubicBezTo>
                  <a:cubicBezTo>
                    <a:pt x="34" y="150"/>
                    <a:pt x="69" y="172"/>
                    <a:pt x="94" y="172"/>
                  </a:cubicBezTo>
                  <a:cubicBezTo>
                    <a:pt x="118" y="172"/>
                    <a:pt x="135" y="156"/>
                    <a:pt x="137" y="137"/>
                  </a:cubicBezTo>
                  <a:cubicBezTo>
                    <a:pt x="137" y="131"/>
                    <a:pt x="137" y="114"/>
                    <a:pt x="111" y="114"/>
                  </a:cubicBezTo>
                  <a:cubicBezTo>
                    <a:pt x="111" y="109"/>
                    <a:pt x="111" y="104"/>
                    <a:pt x="111" y="104"/>
                  </a:cubicBezTo>
                  <a:lnTo>
                    <a:pt x="183" y="104"/>
                  </a:lnTo>
                  <a:cubicBezTo>
                    <a:pt x="183" y="104"/>
                    <a:pt x="183" y="109"/>
                    <a:pt x="183" y="114"/>
                  </a:cubicBezTo>
                  <a:cubicBezTo>
                    <a:pt x="173" y="115"/>
                    <a:pt x="167" y="119"/>
                    <a:pt x="168" y="135"/>
                  </a:cubicBezTo>
                  <a:cubicBezTo>
                    <a:pt x="168" y="135"/>
                    <a:pt x="168" y="147"/>
                    <a:pt x="168" y="160"/>
                  </a:cubicBezTo>
                  <a:cubicBezTo>
                    <a:pt x="162" y="160"/>
                    <a:pt x="152" y="158"/>
                    <a:pt x="142" y="166"/>
                  </a:cubicBezTo>
                  <a:cubicBezTo>
                    <a:pt x="128" y="175"/>
                    <a:pt x="115" y="181"/>
                    <a:pt x="84" y="181"/>
                  </a:cubicBezTo>
                  <a:cubicBezTo>
                    <a:pt x="54" y="181"/>
                    <a:pt x="0" y="162"/>
                    <a:pt x="0" y="96"/>
                  </a:cubicBezTo>
                  <a:cubicBezTo>
                    <a:pt x="0" y="30"/>
                    <a:pt x="48" y="3"/>
                    <a:pt x="93" y="2"/>
                  </a:cubicBezTo>
                  <a:cubicBezTo>
                    <a:pt x="125" y="0"/>
                    <a:pt x="139" y="13"/>
                    <a:pt x="144" y="15"/>
                  </a:cubicBezTo>
                  <a:cubicBezTo>
                    <a:pt x="146" y="11"/>
                    <a:pt x="149" y="6"/>
                    <a:pt x="14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02680" y="4949640"/>
              <a:ext cx="214200" cy="20268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483080" y="4943160"/>
              <a:ext cx="218880" cy="209160"/>
              <a:chOff x="4483080" y="4943160"/>
              <a:chExt cx="218880" cy="209160"/>
            </a:xfrm>
          </p:grpSpPr>
          <p:sp>
            <p:nvSpPr>
              <p:cNvPr id="129" name=""/>
              <p:cNvSpPr/>
              <p:nvPr/>
            </p:nvSpPr>
            <p:spPr>
              <a:xfrm>
                <a:off x="4483080" y="4943160"/>
                <a:ext cx="11052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591800" y="4943160"/>
                <a:ext cx="11016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735440" y="4949640"/>
              <a:ext cx="216000" cy="20268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997520" y="4920840"/>
              <a:ext cx="136440" cy="260280"/>
              <a:chOff x="4997520" y="4920840"/>
              <a:chExt cx="136440" cy="260280"/>
            </a:xfrm>
          </p:grpSpPr>
          <p:sp>
            <p:nvSpPr>
              <p:cNvPr id="133" name=""/>
              <p:cNvSpPr/>
              <p:nvPr/>
            </p:nvSpPr>
            <p:spPr>
              <a:xfrm>
                <a:off x="4997520" y="5042520"/>
                <a:ext cx="136440" cy="13860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999320" y="4920840"/>
                <a:ext cx="120960" cy="1252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75360" y="4951080"/>
              <a:ext cx="214200" cy="20124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427720" y="4951080"/>
              <a:ext cx="174600" cy="199800"/>
              <a:chOff x="5427720" y="4951080"/>
              <a:chExt cx="174600" cy="199800"/>
            </a:xfrm>
          </p:grpSpPr>
          <p:sp>
            <p:nvSpPr>
              <p:cNvPr id="137" name=""/>
              <p:cNvSpPr/>
              <p:nvPr/>
            </p:nvSpPr>
            <p:spPr>
              <a:xfrm>
                <a:off x="5427720" y="4951080"/>
                <a:ext cx="92160" cy="199800"/>
              </a:xfrm>
              <a:custGeom>
                <a:avLst/>
                <a:gdLst/>
                <a:ahLst/>
                <a:rect l="l" t="t" r="r" b="b"/>
                <a:pathLst>
                  <a:path w="58" h="126">
                    <a:moveTo>
                      <a:pt x="0" y="0"/>
                    </a:moveTo>
                    <a:cubicBezTo>
                      <a:pt x="6" y="1"/>
                      <a:pt x="19" y="2"/>
                      <a:pt x="29" y="2"/>
                    </a:cubicBezTo>
                    <a:cubicBezTo>
                      <a:pt x="39" y="2"/>
                      <a:pt x="50" y="1"/>
                      <a:pt x="58" y="1"/>
                    </a:cubicBezTo>
                    <a:cubicBezTo>
                      <a:pt x="58" y="4"/>
                      <a:pt x="58" y="8"/>
                      <a:pt x="58" y="8"/>
                    </a:cubicBezTo>
                    <a:cubicBezTo>
                      <a:pt x="38" y="9"/>
                      <a:pt x="41" y="9"/>
                      <a:pt x="40" y="64"/>
                    </a:cubicBezTo>
                    <a:cubicBezTo>
                      <a:pt x="39" y="118"/>
                      <a:pt x="40" y="117"/>
                      <a:pt x="58" y="119"/>
                    </a:cubicBezTo>
                    <a:cubicBezTo>
                      <a:pt x="58" y="123"/>
                      <a:pt x="53" y="124"/>
                      <a:pt x="53" y="124"/>
                    </a:cubicBezTo>
                    <a:cubicBezTo>
                      <a:pt x="38" y="123"/>
                      <a:pt x="29" y="121"/>
                      <a:pt x="29" y="121"/>
                    </a:cubicBezTo>
                    <a:cubicBezTo>
                      <a:pt x="29" y="121"/>
                      <a:pt x="14" y="126"/>
                      <a:pt x="0" y="126"/>
                    </a:cubicBezTo>
                    <a:cubicBezTo>
                      <a:pt x="0" y="126"/>
                      <a:pt x="0" y="123"/>
                      <a:pt x="0" y="119"/>
                    </a:cubicBezTo>
                    <a:cubicBezTo>
                      <a:pt x="18" y="116"/>
                      <a:pt x="18" y="118"/>
                      <a:pt x="18" y="64"/>
                    </a:cubicBezTo>
                    <a:cubicBezTo>
                      <a:pt x="17" y="10"/>
                      <a:pt x="19" y="10"/>
                      <a:pt x="0" y="8"/>
                    </a:cubicBezTo>
                    <a:cubicBezTo>
                      <a:pt x="0" y="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27720" y="5095440"/>
                <a:ext cx="174600" cy="55440"/>
              </a:xfrm>
              <a:custGeom>
                <a:avLst/>
                <a:gdLst/>
                <a:ahLst/>
                <a:rect l="l" t="t" r="r" b="b"/>
                <a:pathLst>
                  <a:path w="374" h="121">
                    <a:moveTo>
                      <a:pt x="0" y="120"/>
                    </a:moveTo>
                    <a:lnTo>
                      <a:pt x="246" y="120"/>
                    </a:lnTo>
                    <a:cubicBezTo>
                      <a:pt x="307" y="120"/>
                      <a:pt x="308" y="117"/>
                      <a:pt x="369" y="121"/>
                    </a:cubicBezTo>
                    <a:cubicBezTo>
                      <a:pt x="371" y="60"/>
                      <a:pt x="374" y="0"/>
                      <a:pt x="374" y="0"/>
                    </a:cubicBezTo>
                    <a:lnTo>
                      <a:pt x="347" y="0"/>
                    </a:lnTo>
                    <a:cubicBezTo>
                      <a:pt x="332" y="61"/>
                      <a:pt x="318" y="93"/>
                      <a:pt x="228" y="93"/>
                    </a:cubicBezTo>
                    <a:cubicBezTo>
                      <a:pt x="138" y="93"/>
                      <a:pt x="140" y="79"/>
                      <a:pt x="131" y="0"/>
                    </a:cubicBezTo>
                    <a:cubicBezTo>
                      <a:pt x="100" y="47"/>
                      <a:pt x="69" y="94"/>
                      <a:pt x="69" y="94"/>
                    </a:cubicBez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870520" y="4954320"/>
              <a:ext cx="92160" cy="198000"/>
            </a:xfrm>
            <a:custGeom>
              <a:avLst/>
              <a:gdLst/>
              <a:ahLst/>
              <a:rect l="l" t="t" r="r" b="b"/>
              <a:pathLst>
                <a:path w="198" h="431">
                  <a:moveTo>
                    <a:pt x="0" y="0"/>
                  </a:moveTo>
                  <a:cubicBezTo>
                    <a:pt x="20" y="2"/>
                    <a:pt x="66" y="6"/>
                    <a:pt x="99" y="6"/>
                  </a:cubicBezTo>
                  <a:cubicBezTo>
                    <a:pt x="132" y="6"/>
                    <a:pt x="170" y="3"/>
                    <a:pt x="198" y="2"/>
                  </a:cubicBezTo>
                  <a:cubicBezTo>
                    <a:pt x="198" y="14"/>
                    <a:pt x="198" y="27"/>
                    <a:pt x="198" y="27"/>
                  </a:cubicBezTo>
                  <a:cubicBezTo>
                    <a:pt x="129" y="32"/>
                    <a:pt x="140" y="30"/>
                    <a:pt x="137" y="216"/>
                  </a:cubicBezTo>
                  <a:cubicBezTo>
                    <a:pt x="134" y="402"/>
                    <a:pt x="137" y="398"/>
                    <a:pt x="198" y="405"/>
                  </a:cubicBezTo>
                  <a:cubicBezTo>
                    <a:pt x="198" y="418"/>
                    <a:pt x="198" y="431"/>
                    <a:pt x="198" y="431"/>
                  </a:cubicBezTo>
                  <a:cubicBezTo>
                    <a:pt x="148" y="428"/>
                    <a:pt x="99" y="426"/>
                    <a:pt x="99" y="426"/>
                  </a:cubicBezTo>
                  <a:cubicBezTo>
                    <a:pt x="99" y="426"/>
                    <a:pt x="49" y="427"/>
                    <a:pt x="0" y="429"/>
                  </a:cubicBezTo>
                  <a:cubicBezTo>
                    <a:pt x="0" y="429"/>
                    <a:pt x="0" y="417"/>
                    <a:pt x="0" y="405"/>
                  </a:cubicBezTo>
                  <a:cubicBezTo>
                    <a:pt x="63" y="395"/>
                    <a:pt x="62" y="401"/>
                    <a:pt x="60" y="218"/>
                  </a:cubicBezTo>
                  <a:cubicBezTo>
                    <a:pt x="58" y="35"/>
                    <a:pt x="66" y="33"/>
                    <a:pt x="0" y="27"/>
                  </a:cubicBezTo>
                  <a:cubicBezTo>
                    <a:pt x="0" y="2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7600" y="4949640"/>
              <a:ext cx="216000" cy="20268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64360" y="4944960"/>
              <a:ext cx="209520" cy="207360"/>
            </a:xfrm>
            <a:custGeom>
              <a:avLst/>
              <a:gdLst/>
              <a:ahLst/>
              <a:rect l="l" t="t" r="r" b="b"/>
              <a:pathLst>
                <a:path w="451" h="447">
                  <a:moveTo>
                    <a:pt x="366" y="15"/>
                  </a:moveTo>
                  <a:lnTo>
                    <a:pt x="385" y="15"/>
                  </a:lnTo>
                  <a:lnTo>
                    <a:pt x="376" y="152"/>
                  </a:lnTo>
                  <a:cubicBezTo>
                    <a:pt x="376" y="152"/>
                    <a:pt x="364" y="152"/>
                    <a:pt x="352" y="152"/>
                  </a:cubicBezTo>
                  <a:cubicBezTo>
                    <a:pt x="352" y="92"/>
                    <a:pt x="306" y="33"/>
                    <a:pt x="234" y="32"/>
                  </a:cubicBezTo>
                  <a:cubicBezTo>
                    <a:pt x="162" y="31"/>
                    <a:pt x="88" y="87"/>
                    <a:pt x="93" y="233"/>
                  </a:cubicBezTo>
                  <a:cubicBezTo>
                    <a:pt x="98" y="379"/>
                    <a:pt x="168" y="419"/>
                    <a:pt x="228" y="419"/>
                  </a:cubicBezTo>
                  <a:cubicBezTo>
                    <a:pt x="288" y="419"/>
                    <a:pt x="324" y="377"/>
                    <a:pt x="327" y="332"/>
                  </a:cubicBezTo>
                  <a:cubicBezTo>
                    <a:pt x="327" y="317"/>
                    <a:pt x="337" y="282"/>
                    <a:pt x="274" y="282"/>
                  </a:cubicBezTo>
                  <a:cubicBezTo>
                    <a:pt x="274" y="270"/>
                    <a:pt x="274" y="258"/>
                    <a:pt x="274" y="258"/>
                  </a:cubicBezTo>
                  <a:lnTo>
                    <a:pt x="451" y="258"/>
                  </a:lnTo>
                  <a:cubicBezTo>
                    <a:pt x="451" y="258"/>
                    <a:pt x="451" y="269"/>
                    <a:pt x="451" y="281"/>
                  </a:cubicBezTo>
                  <a:cubicBezTo>
                    <a:pt x="426" y="285"/>
                    <a:pt x="411" y="294"/>
                    <a:pt x="414" y="333"/>
                  </a:cubicBezTo>
                  <a:cubicBezTo>
                    <a:pt x="414" y="333"/>
                    <a:pt x="414" y="364"/>
                    <a:pt x="414" y="396"/>
                  </a:cubicBezTo>
                  <a:cubicBezTo>
                    <a:pt x="400" y="396"/>
                    <a:pt x="375" y="390"/>
                    <a:pt x="349" y="410"/>
                  </a:cubicBezTo>
                  <a:cubicBezTo>
                    <a:pt x="315" y="432"/>
                    <a:pt x="283" y="447"/>
                    <a:pt x="208" y="447"/>
                  </a:cubicBezTo>
                  <a:cubicBezTo>
                    <a:pt x="133" y="447"/>
                    <a:pt x="0" y="399"/>
                    <a:pt x="0" y="236"/>
                  </a:cubicBezTo>
                  <a:cubicBezTo>
                    <a:pt x="0" y="73"/>
                    <a:pt x="119" y="8"/>
                    <a:pt x="228" y="5"/>
                  </a:cubicBezTo>
                  <a:cubicBezTo>
                    <a:pt x="309" y="0"/>
                    <a:pt x="342" y="33"/>
                    <a:pt x="355" y="38"/>
                  </a:cubicBezTo>
                  <a:cubicBezTo>
                    <a:pt x="360" y="26"/>
                    <a:pt x="366" y="15"/>
                    <a:pt x="36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5160" y="4867200"/>
              <a:ext cx="250920" cy="28512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46" y="5"/>
                  </a:moveTo>
                  <a:lnTo>
                    <a:pt x="155" y="5"/>
                  </a:lnTo>
                  <a:lnTo>
                    <a:pt x="156" y="58"/>
                  </a:lnTo>
                  <a:cubicBezTo>
                    <a:pt x="156" y="58"/>
                    <a:pt x="156" y="67"/>
                    <a:pt x="145" y="58"/>
                  </a:cubicBezTo>
                  <a:cubicBezTo>
                    <a:pt x="145" y="47"/>
                    <a:pt x="127" y="7"/>
                    <a:pt x="93" y="7"/>
                  </a:cubicBezTo>
                  <a:cubicBezTo>
                    <a:pt x="60" y="7"/>
                    <a:pt x="30" y="51"/>
                    <a:pt x="30" y="91"/>
                  </a:cubicBezTo>
                  <a:cubicBezTo>
                    <a:pt x="31" y="131"/>
                    <a:pt x="51" y="171"/>
                    <a:pt x="93" y="171"/>
                  </a:cubicBezTo>
                  <a:cubicBezTo>
                    <a:pt x="136" y="171"/>
                    <a:pt x="147" y="125"/>
                    <a:pt x="148" y="114"/>
                  </a:cubicBezTo>
                  <a:cubicBezTo>
                    <a:pt x="153" y="114"/>
                    <a:pt x="158" y="114"/>
                    <a:pt x="158" y="114"/>
                  </a:cubicBezTo>
                  <a:lnTo>
                    <a:pt x="158" y="174"/>
                  </a:lnTo>
                  <a:lnTo>
                    <a:pt x="150" y="174"/>
                  </a:lnTo>
                  <a:cubicBezTo>
                    <a:pt x="150" y="174"/>
                    <a:pt x="147" y="169"/>
                    <a:pt x="145" y="164"/>
                  </a:cubicBezTo>
                  <a:cubicBezTo>
                    <a:pt x="137" y="168"/>
                    <a:pt x="119" y="180"/>
                    <a:pt x="90" y="180"/>
                  </a:cubicBezTo>
                  <a:cubicBezTo>
                    <a:pt x="61" y="179"/>
                    <a:pt x="0" y="169"/>
                    <a:pt x="0" y="91"/>
                  </a:cubicBezTo>
                  <a:cubicBezTo>
                    <a:pt x="1" y="12"/>
                    <a:pt x="69" y="0"/>
                    <a:pt x="92" y="0"/>
                  </a:cubicBezTo>
                  <a:cubicBezTo>
                    <a:pt x="115" y="0"/>
                    <a:pt x="136" y="8"/>
                    <a:pt x="143" y="13"/>
                  </a:cubicBezTo>
                  <a:cubicBezTo>
                    <a:pt x="144" y="9"/>
                    <a:pt x="146" y="5"/>
                    <a:pt x="14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82720" y="4879800"/>
              <a:ext cx="252360" cy="2725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641680" y="4875120"/>
              <a:ext cx="242640" cy="276840"/>
              <a:chOff x="2641680" y="4875120"/>
              <a:chExt cx="242640" cy="276840"/>
            </a:xfrm>
          </p:grpSpPr>
          <p:sp>
            <p:nvSpPr>
              <p:cNvPr id="145" name=""/>
              <p:cNvSpPr/>
              <p:nvPr/>
            </p:nvSpPr>
            <p:spPr>
              <a:xfrm>
                <a:off x="2641680" y="4876200"/>
                <a:ext cx="122040" cy="275760"/>
              </a:xfrm>
              <a:custGeom>
                <a:avLst/>
                <a:gdLst/>
                <a:ahLst/>
                <a:rect l="l" t="t" r="r" b="b"/>
                <a:pathLst>
                  <a:path w="253" h="573">
                    <a:moveTo>
                      <a:pt x="0" y="17"/>
                    </a:moveTo>
                    <a:cubicBezTo>
                      <a:pt x="0" y="8"/>
                      <a:pt x="0" y="0"/>
                      <a:pt x="0" y="0"/>
                    </a:cubicBezTo>
                    <a:lnTo>
                      <a:pt x="198" y="0"/>
                    </a:lnTo>
                    <a:cubicBezTo>
                      <a:pt x="198" y="0"/>
                      <a:pt x="198" y="13"/>
                      <a:pt x="198" y="26"/>
                    </a:cubicBezTo>
                    <a:cubicBezTo>
                      <a:pt x="174" y="26"/>
                      <a:pt x="171" y="38"/>
                      <a:pt x="171" y="53"/>
                    </a:cubicBezTo>
                    <a:cubicBezTo>
                      <a:pt x="171" y="53"/>
                      <a:pt x="171" y="259"/>
                      <a:pt x="171" y="465"/>
                    </a:cubicBezTo>
                    <a:cubicBezTo>
                      <a:pt x="171" y="465"/>
                      <a:pt x="168" y="540"/>
                      <a:pt x="253" y="549"/>
                    </a:cubicBezTo>
                    <a:cubicBezTo>
                      <a:pt x="253" y="559"/>
                      <a:pt x="253" y="570"/>
                      <a:pt x="253" y="570"/>
                    </a:cubicBezTo>
                    <a:cubicBezTo>
                      <a:pt x="232" y="573"/>
                      <a:pt x="166" y="564"/>
                      <a:pt x="124" y="564"/>
                    </a:cubicBezTo>
                    <a:cubicBezTo>
                      <a:pt x="82" y="564"/>
                      <a:pt x="21" y="572"/>
                      <a:pt x="0" y="570"/>
                    </a:cubicBezTo>
                    <a:cubicBezTo>
                      <a:pt x="0" y="570"/>
                      <a:pt x="0" y="562"/>
                      <a:pt x="0" y="554"/>
                    </a:cubicBezTo>
                    <a:cubicBezTo>
                      <a:pt x="24" y="551"/>
                      <a:pt x="76" y="560"/>
                      <a:pt x="78" y="480"/>
                    </a:cubicBezTo>
                    <a:cubicBezTo>
                      <a:pt x="78" y="283"/>
                      <a:pt x="78" y="86"/>
                      <a:pt x="78" y="86"/>
                    </a:cubicBezTo>
                    <a:cubicBezTo>
                      <a:pt x="79" y="44"/>
                      <a:pt x="72" y="20"/>
                      <a:pt x="0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21240" y="4875120"/>
                <a:ext cx="163080" cy="276840"/>
              </a:xfrm>
              <a:custGeom>
                <a:avLst/>
                <a:gdLst/>
                <a:ahLst/>
                <a:rect l="l" t="t" r="r" b="b"/>
                <a:pathLst>
                  <a:path w="338" h="575">
                    <a:moveTo>
                      <a:pt x="30" y="3"/>
                    </a:moveTo>
                    <a:cubicBezTo>
                      <a:pt x="150" y="0"/>
                      <a:pt x="274" y="21"/>
                      <a:pt x="276" y="129"/>
                    </a:cubicBezTo>
                    <a:cubicBezTo>
                      <a:pt x="278" y="237"/>
                      <a:pt x="183" y="254"/>
                      <a:pt x="151" y="272"/>
                    </a:cubicBezTo>
                    <a:cubicBezTo>
                      <a:pt x="184" y="276"/>
                      <a:pt x="336" y="284"/>
                      <a:pt x="337" y="426"/>
                    </a:cubicBezTo>
                    <a:cubicBezTo>
                      <a:pt x="338" y="568"/>
                      <a:pt x="178" y="572"/>
                      <a:pt x="81" y="575"/>
                    </a:cubicBezTo>
                    <a:cubicBezTo>
                      <a:pt x="81" y="575"/>
                      <a:pt x="81" y="563"/>
                      <a:pt x="81" y="552"/>
                    </a:cubicBezTo>
                    <a:cubicBezTo>
                      <a:pt x="135" y="551"/>
                      <a:pt x="223" y="549"/>
                      <a:pt x="226" y="419"/>
                    </a:cubicBezTo>
                    <a:cubicBezTo>
                      <a:pt x="229" y="289"/>
                      <a:pt x="126" y="279"/>
                      <a:pt x="0" y="284"/>
                    </a:cubicBezTo>
                    <a:cubicBezTo>
                      <a:pt x="0" y="273"/>
                      <a:pt x="1" y="263"/>
                      <a:pt x="1" y="263"/>
                    </a:cubicBezTo>
                    <a:cubicBezTo>
                      <a:pt x="87" y="260"/>
                      <a:pt x="178" y="263"/>
                      <a:pt x="178" y="143"/>
                    </a:cubicBezTo>
                    <a:cubicBezTo>
                      <a:pt x="178" y="23"/>
                      <a:pt x="57" y="27"/>
                      <a:pt x="30" y="27"/>
                    </a:cubicBezTo>
                    <a:cubicBezTo>
                      <a:pt x="30" y="27"/>
                      <a:pt x="28" y="15"/>
                      <a:pt x="3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341520" y="4954320"/>
              <a:ext cx="212760" cy="19800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14920" y="4954320"/>
              <a:ext cx="212760" cy="19800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0488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NA ABRUMADORA MAYORÍA DE LAS EMPRESAS CONSIDERAN LA INNOVACIÓN COMO UNA PRIORIDAD ESTRATÉGIC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373480" y="2009880"/>
          <a:ext cx="567180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2009880"/>
                    <a:ext cx="567180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681240" y="5715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78000" y="1521360"/>
            <a:ext cx="597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Qué posición ocupa la innovación dentro de las prioridades estratégicas de su compañí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9680" y="2590920"/>
            <a:ext cx="24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imera prio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3276720"/>
            <a:ext cx="239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ntro de las primeras 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3962520"/>
            <a:ext cx="239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ntro de las primeras se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4572000"/>
            <a:ext cx="239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ntro de las primeras di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61120" y="3352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11760" y="45720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24120" y="27288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11760" y="3962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Y EXISTE UNA FUERTE EXPECTATIVA DE AUMENTO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 INVERSIÓN EN INNOVAC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013360" y="2207880"/>
            <a:ext cx="4178160" cy="3526560"/>
            <a:chOff x="5013360" y="2207880"/>
            <a:chExt cx="4178160" cy="3526560"/>
          </a:xfrm>
        </p:grpSpPr>
        <p:graphicFrame>
          <p:nvGraphicFramePr>
            <p:cNvPr id="278" name=""/>
            <p:cNvGraphicFramePr/>
            <p:nvPr/>
          </p:nvGraphicFramePr>
          <p:xfrm>
            <a:off x="5626080" y="2670120"/>
            <a:ext cx="3565440" cy="290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26080" y="2670120"/>
                      <a:ext cx="3565440" cy="29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>
              <a:off x="8262360" y="5581800"/>
              <a:ext cx="81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1160" y="2207880"/>
              <a:ext cx="311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recimiento esperado de inversión en innovación 2005 -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13360" y="4648320"/>
              <a:ext cx="685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Nega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13360" y="427824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0%-1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13360" y="388764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0%-2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3720" y="46530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13360" y="3497400"/>
              <a:ext cx="685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0%-3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13360" y="312408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Más de 3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60680" y="4267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35320" y="3962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38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60680" y="3505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55840" y="3124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09680" y="2207880"/>
            <a:ext cx="4193640" cy="3507480"/>
            <a:chOff x="409680" y="2207880"/>
            <a:chExt cx="4193640" cy="3507480"/>
          </a:xfrm>
        </p:grpSpPr>
        <p:graphicFrame>
          <p:nvGraphicFramePr>
            <p:cNvPr id="293" name=""/>
            <p:cNvGraphicFramePr/>
            <p:nvPr/>
          </p:nvGraphicFramePr>
          <p:xfrm>
            <a:off x="1011240" y="2666880"/>
            <a:ext cx="3565440" cy="290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11240" y="2666880"/>
                      <a:ext cx="3565440" cy="29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1171440" y="2207880"/>
              <a:ext cx="3305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n innovación 2006 entre compañías chil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9680" y="312408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umenta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perceptiblem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9680" y="35812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umenta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levem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9680" y="4087800"/>
              <a:ext cx="685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Se mantend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9680" y="44956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Disminui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levem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87080" y="45720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01440" y="3657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67920" y="3200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4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67880" y="4114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87200" y="5562720"/>
              <a:ext cx="81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AS EMPRESAS CHILENAS DICEN QUE LA INNOVACIÓN ES MÁS PRIORITARIA QUE LO DICHO POR EMPRESAS EN OTRAS REGIO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409760" y="1886040"/>
          <a:ext cx="657864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886040"/>
                    <a:ext cx="657864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53600" y="196524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3200" y="1492920"/>
            <a:ext cx="430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Qué posición ocupa la innovación dent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las prioridades estratégicas de su compañí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021520" y="518328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275680" y="516744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021520" y="4879800"/>
            <a:ext cx="147600" cy="15264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74240" y="486576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21520" y="4578480"/>
            <a:ext cx="147600" cy="15228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75320" y="4564080"/>
            <a:ext cx="52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021520" y="4276800"/>
            <a:ext cx="147600" cy="152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71720" y="4259160"/>
            <a:ext cx="119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mérica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021520" y="3975120"/>
            <a:ext cx="147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75320" y="395928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01000" y="3886200"/>
            <a:ext cx="1600200" cy="15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8600" y="48340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99120" y="48340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27800" y="49561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8680" y="4727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37280" y="48466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28840" y="29415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76600" y="32464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00240" y="27129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160" y="27892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08280" y="21034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09920" y="42670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57680" y="4191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4110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86240" y="44942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24640" y="3917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AS EMPRESAS CHILENAS ESPERAN MAYOR AUMENTO </a:t>
            </a:r>
            <a:br>
              <a:rPr sz="2200"/>
            </a:b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EN LA INVERSIÓN EN INNOVACIÓN QUE EL PROMEDIO GLOB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409760" y="1886040"/>
          <a:ext cx="657864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886040"/>
                    <a:ext cx="657864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53600" y="196524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58320" y="1492920"/>
            <a:ext cx="409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paración del cambio en la inversión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novación de compañías globales y chil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21520" y="518328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73520" y="516744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21520" y="4879800"/>
            <a:ext cx="147600" cy="15264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73520" y="486576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4495680"/>
            <a:ext cx="1501920" cy="91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94360" y="5024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41600" y="4043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98800" y="4424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22680" y="28386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79880" y="2457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7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89640" y="5024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37200" y="51148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6000" y="4653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237080" y="20858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021520" y="4578480"/>
            <a:ext cx="147600" cy="15228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72800" y="456408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ile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15520" y="5913360"/>
            <a:ext cx="175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versión en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104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OS EJECUTIVOS CHILENOS DECLARAN MAYOR SATISFACCIÓN RESPECTO AL IMPACTO DE LA INNOVACIÓN </a:t>
            </a:r>
            <a:br>
              <a:rPr sz="2200"/>
            </a:b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QUE SUS PARES EN OTRAS REGIO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568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uestas a la pregunta: ¿Está usted satisfecho con el retorno financiero de sus inversiones en innovació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043000" y="2452680"/>
          <a:ext cx="522468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3000" y="2452680"/>
                    <a:ext cx="522468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921960" y="248436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71440" y="3429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12040" y="575784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5840" y="5742000"/>
            <a:ext cx="14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412040" y="5454720"/>
            <a:ext cx="147600" cy="15228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66200" y="54403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24560" y="5334120"/>
            <a:ext cx="600120" cy="6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85840" y="3551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76480" y="3429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86200" y="3352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00600" y="2819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44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584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7648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8620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0060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EMPRESAS USAN UNA VARIEDAD DE INDICADORES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ARA MEDIR EL ÉXITO DE LA INNOVAC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04920" y="1728000"/>
            <a:ext cx="7778160" cy="4320720"/>
            <a:chOff x="304920" y="1728000"/>
            <a:chExt cx="7778160" cy="4320720"/>
          </a:xfrm>
        </p:grpSpPr>
        <p:graphicFrame>
          <p:nvGraphicFramePr>
            <p:cNvPr id="380" name=""/>
            <p:cNvGraphicFramePr/>
            <p:nvPr/>
          </p:nvGraphicFramePr>
          <p:xfrm>
            <a:off x="2411280" y="2003400"/>
            <a:ext cx="567180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003400"/>
                      <a:ext cx="567180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2" name=""/>
            <p:cNvSpPr/>
            <p:nvPr/>
          </p:nvSpPr>
          <p:spPr>
            <a:xfrm>
              <a:off x="6719400" y="586584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74720" y="1728000"/>
              <a:ext cx="527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¿Cómo mide su compañía el éxito en innovación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71440" y="40291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920" y="2435400"/>
              <a:ext cx="228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atisfacción del cl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1040" y="281628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úmero nvos. productos/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040" y="321156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orcentaje de ventas de nuevos productos/serv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1040" y="365436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recimiento total de las ven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040" y="409248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econocimiento pop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71440" y="43959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62160" y="36511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4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62200" y="3240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5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63800" y="24638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1040" y="4473720"/>
              <a:ext cx="2269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recios más al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1040" y="490068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27200" y="28447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6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4840" y="48243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2235240"/>
            <a:ext cx="3673440" cy="26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l crecimiento orgánico a través de la innovación es esencial para el éxito en mi ind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Se requieren innovaciones significativas para ser un ganador en mi ind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La globalización está teniendo un importante impacto en cómo mi compañía encar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733920" y="2057400"/>
          <a:ext cx="4012920" cy="31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057400"/>
                    <a:ext cx="401292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 INNOVACIÓN APARECE COMO UNA PALANCA CENTRAL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ARA GANAR COMPETITIVIDAD EN CHILE Y EL MUND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12160" y="410688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265600" y="409104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12160" y="3803760"/>
            <a:ext cx="147600" cy="15228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3800" y="378936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924680" y="3683160"/>
            <a:ext cx="1447920" cy="6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895000" y="5207040"/>
            <a:ext cx="184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 positivas</a:t>
            </a:r>
            <a:r>
              <a:rPr b="1" lang="es-E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2400" y="6482520"/>
            <a:ext cx="446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76040" indent="-176040">
              <a:buClr>
                <a:srgbClr val="000000"/>
              </a:buClr>
              <a:buFont typeface="Arial"/>
              <a:buAutoNum type="arabicParenR"/>
              <a:tabLst>
                <a:tab algn="l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Respuestas positivas: contestadas como fuertemente de acuerdo o muy de acuer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24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RESULTADOS ENCUESTA A LÍDERES CHILENOS</a:t>
            </a:r>
            <a:br>
              <a:rPr sz="22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s de innov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295280"/>
            <a:ext cx="3673440" cy="56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 apoyo a los equipos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yo del equipo de comercialización más allá del lanz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patrocinio del nivel ejecutivo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mentar una cultura que promuev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s fondos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sarrollar un profundo conocimiento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Hacer cumplir los hitos de los que depende el éxito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la participación temprana de las principales funciones aguas 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Balancear riesgos, tiempos, y retornos de inversión del portafolio 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overse rápidamente de la generación de la idea a la primera v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apturar ideas de sus provee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rtes para la innovación a través de múltiples divisiones y regiones geo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886200" y="1143000"/>
          <a:ext cx="417816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143000"/>
                    <a:ext cx="417816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8197920" y="3124080"/>
            <a:ext cx="125280" cy="13032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457840" y="1947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u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86760" y="2843280"/>
            <a:ext cx="125280" cy="12852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458200" y="228600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97920" y="2590920"/>
            <a:ext cx="125280" cy="12996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457840" y="246708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97920" y="2257560"/>
            <a:ext cx="125280" cy="1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457840" y="2766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1905120"/>
            <a:ext cx="1230480" cy="15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96120" y="2028960"/>
            <a:ext cx="125640" cy="1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05360" y="31240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24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RESULTADOS ENCUESTA GLOBAL BCG</a:t>
            </a:r>
            <a:br>
              <a:rPr sz="22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ntes de innov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295280"/>
            <a:ext cx="367344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 apoyo a los equipos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yo del equipo de comercialización más allá del lanz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patrocinio del nivel ejecutivo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mentar una cultura que promuev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s fondos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sarrollar un profundo conocimiento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Hacer cumplir los hitos de los que depende el éxito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la participación temprana de las principales funciones aguas 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Balancear riesgos, tiempos, y retornos de inversión del portafolio 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overse rápidamente de la generación de la idea a la primera v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apturar ideas de sus provee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rtes para la innovación a través de múltiples divisiones y regiones geo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97920" y="3124080"/>
            <a:ext cx="125280" cy="13032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457840" y="1947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u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86760" y="2843280"/>
            <a:ext cx="125280" cy="12852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458200" y="228600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197920" y="2590920"/>
            <a:ext cx="125280" cy="12996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457840" y="246708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97920" y="2257560"/>
            <a:ext cx="125280" cy="1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457840" y="2766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53280" y="1905120"/>
            <a:ext cx="1230480" cy="15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96120" y="2028960"/>
            <a:ext cx="125640" cy="1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505360" y="31240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886200" y="1143000"/>
          <a:ext cx="420372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143000"/>
                    <a:ext cx="420372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RESPUESTAS RECIBIDAS REPRESENTAN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NA AMPLIA GAMA DE INDUSTRI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8040" y="121572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cuestas envi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8040" y="1674720"/>
            <a:ext cx="11048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8040" y="167472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8040" y="6473880"/>
            <a:ext cx="11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3320" y="121572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úmero de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3320" y="1674720"/>
            <a:ext cx="11048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3320" y="167472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3320" y="6473880"/>
            <a:ext cx="11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0800" y="139824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ond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70800" y="1674720"/>
            <a:ext cx="11048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70800" y="167472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70800" y="6473880"/>
            <a:ext cx="11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9240" y="1398240"/>
            <a:ext cx="9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2040" y="1674720"/>
            <a:ext cx="2082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2040" y="6473880"/>
            <a:ext cx="2082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2040" y="1674720"/>
            <a:ext cx="213336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limentos proces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inanciera-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nv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etalúr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groind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Servici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anufa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esqu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omerci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Vitivin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ombustible-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Beb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re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Laboratorios farmacéu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MIX DE EXPORTADO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44800" y="1816200"/>
          <a:ext cx="580392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4800" y="1816200"/>
                    <a:ext cx="580392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3080" y="190512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2960" y="571500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 -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89160" y="1645560"/>
            <a:ext cx="522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Qué porcentaje de sus ventas proviene de exportacion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2332080"/>
            <a:ext cx="71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081320" y="4465800"/>
            <a:ext cx="71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604840" y="507528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476400" y="419112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16800" y="571500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% -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4880" y="571500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 - 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60640" y="5715000"/>
            <a:ext cx="52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á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51800" y="5638680"/>
            <a:ext cx="157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ventas proven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 expor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3880" y="57150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876200" y="446580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NNOVACIÓN DEFINIDA COMO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UENTE DE CREACIÓN DE VAL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1718280"/>
            <a:ext cx="8763120" cy="4320720"/>
            <a:chOff x="228600" y="1718280"/>
            <a:chExt cx="8763120" cy="4320720"/>
          </a:xfrm>
        </p:grpSpPr>
        <p:graphicFrame>
          <p:nvGraphicFramePr>
            <p:cNvPr id="186" name=""/>
            <p:cNvGraphicFramePr/>
            <p:nvPr/>
          </p:nvGraphicFramePr>
          <p:xfrm>
            <a:off x="3319560" y="1993680"/>
            <a:ext cx="567216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9560" y="1993680"/>
                      <a:ext cx="567216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7627680" y="58561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83000" y="1718280"/>
              <a:ext cx="528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¿Cómo definiría usted la innovación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16480" y="26352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4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71880" y="30924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3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05000" y="36255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800" y="41590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0" y="46162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" y="2460600"/>
              <a:ext cx="335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nvertir conocimiento en valor para la empresa y sus clie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2939760"/>
              <a:ext cx="335268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ar nuevos conocimientos y/o aplicarlos para crear valor para la socie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3471840"/>
              <a:ext cx="33526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ejorar productos y procesos productivos a través de la incorporación de nuevas tecnolog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" y="4082760"/>
              <a:ext cx="335268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enerar nuevos conoc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00" y="4464000"/>
              <a:ext cx="33526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Hacer las cosas de una manera distinta generando mejoras, no necesariamente pasa por usar tecnologí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DUCACIÓN E INNOVACIÓN PERCIBIDAS COMO LAS PRINCIPALES PALANCAS PARA IMPULSAR EL DESARROLLO EN CH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30200" y="1706040"/>
            <a:ext cx="6946920" cy="4349160"/>
            <a:chOff x="1330200" y="1706040"/>
            <a:chExt cx="6946920" cy="4349160"/>
          </a:xfrm>
        </p:grpSpPr>
        <p:graphicFrame>
          <p:nvGraphicFramePr>
            <p:cNvPr id="202" name=""/>
            <p:cNvGraphicFramePr/>
            <p:nvPr/>
          </p:nvGraphicFramePr>
          <p:xfrm>
            <a:off x="2604960" y="2009880"/>
            <a:ext cx="567216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04960" y="2009880"/>
                      <a:ext cx="567216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7141680" y="58723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90320" y="1706040"/>
              <a:ext cx="326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pulsores del desarrollo para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61040" y="47703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0200" y="2514600"/>
              <a:ext cx="1490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n edu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0200" y="2911320"/>
              <a:ext cx="14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n innov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30200" y="3368520"/>
              <a:ext cx="14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quilibrio macroeconóm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0200" y="3809880"/>
              <a:ext cx="14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xtranj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0200" y="4191120"/>
              <a:ext cx="1478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uevos tratados de libre comerc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30200" y="4648320"/>
              <a:ext cx="1478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chilena en el ex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6480" y="43243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78040" y="38862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080" y="3429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73480" y="29718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07000" y="25146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593640"/>
            <a:ext cx="883944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UERTE PERCEPCIÓN DE LA INNOVACIÓN COMO PILAR DEL DESARROLLO, DADA LA VOLATILIDAD DEL DÓLAR EN CH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73480" y="2009880"/>
          <a:ext cx="567180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2009880"/>
                    <a:ext cx="567180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6681240" y="5715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78000" y="1521360"/>
            <a:ext cx="597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ción de mayor impacto en el desarrollo y crecimiento del país dada la volatilidad del precio del dó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4120" y="2590920"/>
            <a:ext cx="1901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novación para desarrollar productos de valor agre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2040" y="3276720"/>
            <a:ext cx="188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tención de costos por parte de export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2040" y="3962520"/>
            <a:ext cx="188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tervención del tipo de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040" y="4572000"/>
            <a:ext cx="188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tras 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33800" y="3352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57600" y="4572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07040" y="27288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59080" y="3962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PERCEPCIONES LOCAL Y GLOBAL DE LAS COMPAÑÍAS MÁS INNOVADORAS SON SIMILA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5880600"/>
            <a:ext cx="502920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sector tecnológico es considerado el más innovador a nivel mu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9760" y="2133720"/>
            <a:ext cx="424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crosoft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ll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9760" y="16135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pañías más innovadoras del mundo de acuerdo encuesta global de B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2800" y="16135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pañía más innovadoras del mundo de acuerdo a encuesta a líderes chile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9760" y="2133720"/>
            <a:ext cx="424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2800" y="2133720"/>
            <a:ext cx="424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22800" y="2133720"/>
            <a:ext cx="424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pl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t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CTORES PERCIBIDOS COMO MÁS INNOVADORES EN CH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8266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213372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2133720"/>
            <a:ext cx="2116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ducción de al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ursos na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16040" y="1190520"/>
            <a:ext cx="8953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úmer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n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16040" y="2133720"/>
            <a:ext cx="895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2133720"/>
            <a:ext cx="895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03600" y="1403280"/>
            <a:ext cx="8953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n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03600" y="2133720"/>
            <a:ext cx="895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02160" y="2133720"/>
            <a:ext cx="895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572000" y="1826640"/>
            <a:ext cx="4799880" cy="2108880"/>
            <a:chOff x="4572000" y="1826640"/>
            <a:chExt cx="4799880" cy="2108880"/>
          </a:xfrm>
        </p:grpSpPr>
        <p:sp>
          <p:nvSpPr>
            <p:cNvPr id="250" name=""/>
            <p:cNvSpPr/>
            <p:nvPr/>
          </p:nvSpPr>
          <p:spPr>
            <a:xfrm>
              <a:off x="4572000" y="1826640"/>
              <a:ext cx="47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jemplos de empresas nombr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0" y="2133720"/>
              <a:ext cx="479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0" y="2133720"/>
              <a:ext cx="4799880" cy="18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tel, V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grosuper, Soprole, Salmone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encosud, Falabella, Casa &amp; Ideas, Sodim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nco BCI, Banco Santander Santia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delco, Cop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onda, Fundación Chile, Constructora Aconcagua, Gerdau Aza, Invert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09160" y="6482520"/>
            <a:ext cx="462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76040" indent="-176040">
              <a:buClr>
                <a:srgbClr val="000000"/>
              </a:buClr>
              <a:buFont typeface="Arial"/>
              <a:buAutoNum type="arabicParenR"/>
              <a:tabLst>
                <a:tab algn="l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cluye compañías de los  sectores tecnología, construcción, metalúrgico y consultorí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LGUNAS CITAS RESPECTO A LA RAZÓN DE LA ELECCIÓN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 EMPRESA CHILENA MÁS INNOVADOR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857240"/>
            <a:ext cx="21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213372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2133720"/>
            <a:ext cx="211608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oducción de ali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cursos 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1" lang="es-E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0080" y="1857240"/>
            <a:ext cx="69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azones Mencion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40080" y="2133720"/>
            <a:ext cx="6987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2133720"/>
            <a:ext cx="6988320" cy="35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tel: fue capaz de reconvertirse completamente y ha mantenido el liderazgo en una industria muy competi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grosuper: con un constante crecimiento aplicando procesos innovadores y tecnología de p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sa &amp; Ideas: generó una nueva experiencia de compra en el tema ho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encosud: ha liderado el desarrollo del retail adelantándose al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CI: por la capacidad de ofrecer nuevos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pec: se ha reinventado año tras año, manteniendo un perfil de empresa cuidadosa pero ág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delco: ha logrado innovar sus procesos productivos, logrando reducir costos y aumentar la 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undación Chile: investiga, desarrolla y aplica, gran apor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onda: continuamente líder en su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tructora Aconcagua: por revolucionar el modelo de construcción de viviendas e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9160" y="6482520"/>
            <a:ext cx="462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76040" indent="-176040">
              <a:buClr>
                <a:srgbClr val="000000"/>
              </a:buClr>
              <a:buFont typeface="Arial"/>
              <a:buAutoNum type="arabicParenR"/>
              <a:tabLst>
                <a:tab algn="l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cluye compañías de los  sectores tecnología, construcción, metalúrgico y consultorí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3:44:06Z</dcterms:created>
  <dc:creator>alamos pedro</dc:creator>
  <dc:description/>
  <dc:language>en-US</dc:language>
  <cp:lastModifiedBy>Jorge Lara</cp:lastModifiedBy>
  <dcterms:modified xsi:type="dcterms:W3CDTF">2007-07-13T03:19:25Z</dcterms:modified>
  <cp:revision>129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20041127</vt:lpwstr>
  </property>
</Properties>
</file>