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BCGFooter"/>
          <p:cNvSpPr/>
          <p:nvPr/>
        </p:nvSpPr>
        <p:spPr>
          <a:xfrm>
            <a:off x="237600" y="6681600"/>
            <a:ext cx="231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Resultados Encuesta InnovaciónBCG-País Digital 2005.pp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97680" y="6649920"/>
            <a:ext cx="76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57F81D1-53F5-4FA9-B8D9-58B7AC9B70C7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924360" y="6699240"/>
            <a:ext cx="1752480" cy="84240"/>
            <a:chOff x="3924360" y="6699240"/>
            <a:chExt cx="1752480" cy="84240"/>
          </a:xfrm>
        </p:grpSpPr>
        <p:grpSp>
          <p:nvGrpSpPr>
            <p:cNvPr id="5" name=""/>
            <p:cNvGrpSpPr/>
            <p:nvPr/>
          </p:nvGrpSpPr>
          <p:grpSpPr>
            <a:xfrm>
              <a:off x="4255920" y="6719760"/>
              <a:ext cx="63360" cy="55800"/>
              <a:chOff x="4255920" y="6719760"/>
              <a:chExt cx="63360" cy="55800"/>
            </a:xfrm>
          </p:grpSpPr>
          <p:sp>
            <p:nvSpPr>
              <p:cNvPr id="6" name=""/>
              <p:cNvSpPr/>
              <p:nvPr/>
            </p:nvSpPr>
            <p:spPr>
              <a:xfrm>
                <a:off x="4255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4286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4329720" y="6714000"/>
              <a:ext cx="39240" cy="69480"/>
              <a:chOff x="4329720" y="6714000"/>
              <a:chExt cx="39240" cy="69480"/>
            </a:xfrm>
          </p:grpSpPr>
          <p:sp>
            <p:nvSpPr>
              <p:cNvPr id="9" name=""/>
              <p:cNvSpPr/>
              <p:nvPr/>
            </p:nvSpPr>
            <p:spPr>
              <a:xfrm>
                <a:off x="432972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3008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4449240" y="6719760"/>
              <a:ext cx="63000" cy="55800"/>
              <a:chOff x="4449240" y="6719760"/>
              <a:chExt cx="63000" cy="55800"/>
            </a:xfrm>
          </p:grpSpPr>
          <p:sp>
            <p:nvSpPr>
              <p:cNvPr id="12" name=""/>
              <p:cNvSpPr/>
              <p:nvPr/>
            </p:nvSpPr>
            <p:spPr>
              <a:xfrm>
                <a:off x="44492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47984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452088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"/>
            <p:cNvGrpSpPr/>
            <p:nvPr/>
          </p:nvGrpSpPr>
          <p:grpSpPr>
            <a:xfrm>
              <a:off x="4010400" y="6722280"/>
              <a:ext cx="65520" cy="53280"/>
              <a:chOff x="4010400" y="6722280"/>
              <a:chExt cx="65520" cy="53280"/>
            </a:xfrm>
          </p:grpSpPr>
          <p:sp>
            <p:nvSpPr>
              <p:cNvPr id="16" name=""/>
              <p:cNvSpPr/>
              <p:nvPr/>
            </p:nvSpPr>
            <p:spPr>
              <a:xfrm>
                <a:off x="404928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01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027320" y="6746760"/>
                <a:ext cx="313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479920" y="6719760"/>
              <a:ext cx="63360" cy="55800"/>
              <a:chOff x="5479920" y="6719760"/>
              <a:chExt cx="63360" cy="55800"/>
            </a:xfrm>
          </p:grpSpPr>
          <p:sp>
            <p:nvSpPr>
              <p:cNvPr id="20" name=""/>
              <p:cNvSpPr/>
              <p:nvPr/>
            </p:nvSpPr>
            <p:spPr>
              <a:xfrm>
                <a:off x="547992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551088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4089600" y="6723000"/>
              <a:ext cx="47880" cy="52920"/>
              <a:chOff x="4089600" y="6723000"/>
              <a:chExt cx="47880" cy="52920"/>
            </a:xfrm>
          </p:grpSpPr>
          <p:sp>
            <p:nvSpPr>
              <p:cNvPr id="23" name=""/>
              <p:cNvSpPr/>
              <p:nvPr/>
            </p:nvSpPr>
            <p:spPr>
              <a:xfrm>
                <a:off x="4089600" y="672300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089960" y="6723000"/>
                <a:ext cx="43200" cy="1368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089960" y="676260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101840" y="6737400"/>
                <a:ext cx="21600" cy="216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"/>
            <p:cNvGrpSpPr/>
            <p:nvPr/>
          </p:nvGrpSpPr>
          <p:grpSpPr>
            <a:xfrm>
              <a:off x="5630400" y="6722280"/>
              <a:ext cx="46440" cy="53280"/>
              <a:chOff x="5630400" y="6722280"/>
              <a:chExt cx="46440" cy="53280"/>
            </a:xfrm>
          </p:grpSpPr>
          <p:sp>
            <p:nvSpPr>
              <p:cNvPr id="28" name=""/>
              <p:cNvSpPr/>
              <p:nvPr/>
            </p:nvSpPr>
            <p:spPr>
              <a:xfrm>
                <a:off x="5630400" y="672228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646600" y="6722280"/>
                <a:ext cx="30240" cy="3096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5416560" y="6721920"/>
              <a:ext cx="56520" cy="53640"/>
              <a:chOff x="5416560" y="6721920"/>
              <a:chExt cx="56520" cy="53640"/>
            </a:xfrm>
          </p:grpSpPr>
          <p:sp>
            <p:nvSpPr>
              <p:cNvPr id="31" name=""/>
              <p:cNvSpPr/>
              <p:nvPr/>
            </p:nvSpPr>
            <p:spPr>
              <a:xfrm>
                <a:off x="5416560" y="6722280"/>
                <a:ext cx="26640" cy="5292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432760" y="6721920"/>
                <a:ext cx="29880" cy="2988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5433120" y="674856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" name=""/>
            <p:cNvSpPr/>
            <p:nvPr/>
          </p:nvSpPr>
          <p:spPr>
            <a:xfrm>
              <a:off x="5324040" y="6699240"/>
              <a:ext cx="84240" cy="766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554440" y="6721560"/>
              <a:ext cx="61920" cy="5400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" name=""/>
            <p:cNvGrpSpPr/>
            <p:nvPr/>
          </p:nvGrpSpPr>
          <p:grpSpPr>
            <a:xfrm>
              <a:off x="4707360" y="6719760"/>
              <a:ext cx="63000" cy="55800"/>
              <a:chOff x="4707360" y="6719760"/>
              <a:chExt cx="63000" cy="55800"/>
            </a:xfrm>
          </p:grpSpPr>
          <p:sp>
            <p:nvSpPr>
              <p:cNvPr id="37" name=""/>
              <p:cNvSpPr/>
              <p:nvPr/>
            </p:nvSpPr>
            <p:spPr>
              <a:xfrm>
                <a:off x="47073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4737960" y="671976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478080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"/>
            <p:cNvGrpSpPr/>
            <p:nvPr/>
          </p:nvGrpSpPr>
          <p:grpSpPr>
            <a:xfrm>
              <a:off x="4856760" y="6714000"/>
              <a:ext cx="39240" cy="69480"/>
              <a:chOff x="4856760" y="6714000"/>
              <a:chExt cx="39240" cy="69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56760" y="6746400"/>
                <a:ext cx="39240" cy="3708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857120" y="6714000"/>
                <a:ext cx="34920" cy="334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4908240" y="6721920"/>
              <a:ext cx="61920" cy="536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981680" y="6721920"/>
              <a:ext cx="50400" cy="53280"/>
              <a:chOff x="4981680" y="6721920"/>
              <a:chExt cx="50400" cy="53280"/>
            </a:xfrm>
          </p:grpSpPr>
          <p:sp>
            <p:nvSpPr>
              <p:cNvPr id="45" name=""/>
              <p:cNvSpPr/>
              <p:nvPr/>
            </p:nvSpPr>
            <p:spPr>
              <a:xfrm>
                <a:off x="4981680" y="6721920"/>
                <a:ext cx="26640" cy="5328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981680" y="6760440"/>
                <a:ext cx="50400" cy="1476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109840" y="6723000"/>
              <a:ext cx="26640" cy="5292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46920" y="6721560"/>
              <a:ext cx="62640" cy="5400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24320" y="6720480"/>
              <a:ext cx="60480" cy="5544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26720" y="6699600"/>
              <a:ext cx="72720" cy="763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6702840"/>
              <a:ext cx="73080" cy="727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4173480" y="6701760"/>
              <a:ext cx="70200" cy="74160"/>
              <a:chOff x="4173480" y="6701760"/>
              <a:chExt cx="70200" cy="74160"/>
            </a:xfrm>
          </p:grpSpPr>
          <p:sp>
            <p:nvSpPr>
              <p:cNvPr id="53" name=""/>
              <p:cNvSpPr/>
              <p:nvPr/>
            </p:nvSpPr>
            <p:spPr>
              <a:xfrm>
                <a:off x="4173480" y="6702120"/>
                <a:ext cx="35280" cy="7380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96520" y="6701760"/>
                <a:ext cx="47160" cy="7416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37652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35680" y="6723000"/>
              <a:ext cx="61560" cy="529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0440" y="3697200"/>
            <a:ext cx="8686800" cy="2747880"/>
          </a:xfrm>
          <a:prstGeom prst="rect">
            <a:avLst/>
          </a:prstGeom>
          <a:solidFill>
            <a:srgbClr val="00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9302760" cy="655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871560"/>
            <a:ext cx="8991360" cy="2171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ndación País Digital</a:t>
            </a:r>
            <a:br>
              <a:rPr sz="2200"/>
            </a:b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, SIGUIENTE PASO PARA EL DESARROLLO</a:t>
            </a:r>
            <a:br>
              <a:rPr sz="2200"/>
            </a:b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dos de encuesta a líderes empresariales chilenos</a:t>
            </a:r>
            <a:br>
              <a:rPr sz="1800"/>
            </a:br>
            <a:br>
              <a:rPr sz="18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1 de octubre de 20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782720" y="4865760"/>
            <a:ext cx="6042240" cy="315360"/>
            <a:chOff x="1782720" y="4865760"/>
            <a:chExt cx="6042240" cy="315360"/>
          </a:xfrm>
        </p:grpSpPr>
        <p:grpSp>
          <p:nvGrpSpPr>
            <p:cNvPr id="97" name=""/>
            <p:cNvGrpSpPr/>
            <p:nvPr/>
          </p:nvGrpSpPr>
          <p:grpSpPr>
            <a:xfrm>
              <a:off x="2925720" y="4943160"/>
              <a:ext cx="220320" cy="209160"/>
              <a:chOff x="2925720" y="4943160"/>
              <a:chExt cx="220320" cy="209160"/>
            </a:xfrm>
          </p:grpSpPr>
          <p:sp>
            <p:nvSpPr>
              <p:cNvPr id="98" name=""/>
              <p:cNvSpPr/>
              <p:nvPr/>
            </p:nvSpPr>
            <p:spPr>
              <a:xfrm>
                <a:off x="292572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303516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3181320" y="4920840"/>
              <a:ext cx="136440" cy="260280"/>
              <a:chOff x="3181320" y="4920840"/>
              <a:chExt cx="136440" cy="260280"/>
            </a:xfrm>
          </p:grpSpPr>
          <p:sp>
            <p:nvSpPr>
              <p:cNvPr id="101" name=""/>
              <p:cNvSpPr/>
              <p:nvPr/>
            </p:nvSpPr>
            <p:spPr>
              <a:xfrm>
                <a:off x="31813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831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592440" y="4943160"/>
              <a:ext cx="218880" cy="209160"/>
              <a:chOff x="3592440" y="4943160"/>
              <a:chExt cx="218880" cy="209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59244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370116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384012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79720" y="4952880"/>
              <a:ext cx="226800" cy="199440"/>
              <a:chOff x="2079720" y="4952880"/>
              <a:chExt cx="226800" cy="1994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436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79720" y="4952880"/>
                <a:ext cx="9216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38400" y="5043960"/>
                <a:ext cx="1090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7145280" y="4943160"/>
              <a:ext cx="220320" cy="209160"/>
              <a:chOff x="7145280" y="4943160"/>
              <a:chExt cx="220320" cy="209160"/>
            </a:xfrm>
          </p:grpSpPr>
          <p:sp>
            <p:nvSpPr>
              <p:cNvPr id="112" name=""/>
              <p:cNvSpPr/>
              <p:nvPr/>
            </p:nvSpPr>
            <p:spPr>
              <a:xfrm>
                <a:off x="7145280" y="4943160"/>
                <a:ext cx="11124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254720" y="4943160"/>
                <a:ext cx="11088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352600" y="4954320"/>
              <a:ext cx="165240" cy="198000"/>
              <a:chOff x="2352600" y="4954320"/>
              <a:chExt cx="165240" cy="198000"/>
            </a:xfrm>
          </p:grpSpPr>
          <p:sp>
            <p:nvSpPr>
              <p:cNvPr id="115" name=""/>
              <p:cNvSpPr/>
              <p:nvPr/>
            </p:nvSpPr>
            <p:spPr>
              <a:xfrm>
                <a:off x="2352600" y="4954320"/>
                <a:ext cx="92160" cy="198000"/>
              </a:xfrm>
              <a:custGeom>
                <a:avLst/>
                <a:gdLst/>
                <a:ahLst/>
                <a:rect l="l" t="t" r="r" b="b"/>
                <a:pathLst>
                  <a:path w="199" h="429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98" y="14"/>
                      <a:pt x="198" y="27"/>
                      <a:pt x="198" y="27"/>
                    </a:cubicBezTo>
                    <a:cubicBezTo>
                      <a:pt x="129" y="32"/>
                      <a:pt x="140" y="30"/>
                      <a:pt x="137" y="216"/>
                    </a:cubicBezTo>
                    <a:cubicBezTo>
                      <a:pt x="134" y="402"/>
                      <a:pt x="137" y="398"/>
                      <a:pt x="198" y="405"/>
                    </a:cubicBezTo>
                    <a:cubicBezTo>
                      <a:pt x="198" y="418"/>
                      <a:pt x="199" y="426"/>
                      <a:pt x="199" y="426"/>
                    </a:cubicBezTo>
                    <a:cubicBezTo>
                      <a:pt x="149" y="423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354040" y="4954680"/>
                <a:ext cx="148680" cy="51120"/>
              </a:xfrm>
              <a:custGeom>
                <a:avLst/>
                <a:gdLst/>
                <a:ahLst/>
                <a:rect l="l" t="t" r="r" b="b"/>
                <a:pathLst>
                  <a:path w="321" h="111">
                    <a:moveTo>
                      <a:pt x="0" y="0"/>
                    </a:moveTo>
                    <a:lnTo>
                      <a:pt x="319" y="0"/>
                    </a:lnTo>
                    <a:lnTo>
                      <a:pt x="321" y="111"/>
                    </a:lnTo>
                    <a:lnTo>
                      <a:pt x="292" y="111"/>
                    </a:lnTo>
                    <a:cubicBezTo>
                      <a:pt x="276" y="35"/>
                      <a:pt x="249" y="28"/>
                      <a:pt x="148" y="33"/>
                    </a:cubicBezTo>
                    <a:cubicBezTo>
                      <a:pt x="130" y="33"/>
                      <a:pt x="125" y="40"/>
                      <a:pt x="118" y="3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54400" y="5101560"/>
                <a:ext cx="163440" cy="50040"/>
              </a:xfrm>
              <a:custGeom>
                <a:avLst/>
                <a:gdLst/>
                <a:ahLst/>
                <a:rect l="l" t="t" r="r" b="b"/>
                <a:pathLst>
                  <a:path w="353" h="109">
                    <a:moveTo>
                      <a:pt x="0" y="109"/>
                    </a:moveTo>
                    <a:lnTo>
                      <a:pt x="347" y="109"/>
                    </a:lnTo>
                    <a:lnTo>
                      <a:pt x="353" y="0"/>
                    </a:lnTo>
                    <a:lnTo>
                      <a:pt x="324" y="0"/>
                    </a:lnTo>
                    <a:cubicBezTo>
                      <a:pt x="324" y="75"/>
                      <a:pt x="270" y="84"/>
                      <a:pt x="213" y="84"/>
                    </a:cubicBezTo>
                    <a:cubicBezTo>
                      <a:pt x="156" y="84"/>
                      <a:pt x="146" y="60"/>
                      <a:pt x="111" y="63"/>
                    </a:cubicBez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95440" y="500832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161" h="176">
                    <a:moveTo>
                      <a:pt x="161" y="0"/>
                    </a:moveTo>
                    <a:cubicBezTo>
                      <a:pt x="159" y="18"/>
                      <a:pt x="155" y="59"/>
                      <a:pt x="155" y="88"/>
                    </a:cubicBezTo>
                    <a:cubicBezTo>
                      <a:pt x="155" y="117"/>
                      <a:pt x="158" y="151"/>
                      <a:pt x="159" y="176"/>
                    </a:cubicBezTo>
                    <a:cubicBezTo>
                      <a:pt x="147" y="176"/>
                      <a:pt x="134" y="176"/>
                      <a:pt x="134" y="176"/>
                    </a:cubicBezTo>
                    <a:cubicBezTo>
                      <a:pt x="118" y="77"/>
                      <a:pt x="26" y="111"/>
                      <a:pt x="1" y="109"/>
                    </a:cubicBezTo>
                    <a:lnTo>
                      <a:pt x="0" y="79"/>
                    </a:lnTo>
                    <a:cubicBezTo>
                      <a:pt x="30" y="70"/>
                      <a:pt x="121" y="110"/>
                      <a:pt x="134" y="0"/>
                    </a:cubicBezTo>
                    <a:cubicBezTo>
                      <a:pt x="134" y="0"/>
                      <a:pt x="161" y="0"/>
                      <a:pt x="161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664400" y="4952880"/>
              <a:ext cx="160560" cy="199440"/>
              <a:chOff x="7664400" y="4952880"/>
              <a:chExt cx="160560" cy="199440"/>
            </a:xfrm>
          </p:grpSpPr>
          <p:sp>
            <p:nvSpPr>
              <p:cNvPr id="120" name=""/>
              <p:cNvSpPr/>
              <p:nvPr/>
            </p:nvSpPr>
            <p:spPr>
              <a:xfrm>
                <a:off x="7664400" y="4952880"/>
                <a:ext cx="91440" cy="19944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20200" y="4953240"/>
                <a:ext cx="104760" cy="115200"/>
              </a:xfrm>
              <a:custGeom>
                <a:avLst/>
                <a:gdLst/>
                <a:ahLst/>
                <a:rect l="l" t="t" r="r" b="b"/>
                <a:pathLst>
                  <a:path w="226" h="249">
                    <a:moveTo>
                      <a:pt x="69" y="3"/>
                    </a:moveTo>
                    <a:cubicBezTo>
                      <a:pt x="187" y="0"/>
                      <a:pt x="223" y="75"/>
                      <a:pt x="220" y="112"/>
                    </a:cubicBezTo>
                    <a:cubicBezTo>
                      <a:pt x="217" y="149"/>
                      <a:pt x="226" y="249"/>
                      <a:pt x="0" y="234"/>
                    </a:cubicBezTo>
                    <a:cubicBezTo>
                      <a:pt x="0" y="218"/>
                      <a:pt x="9" y="204"/>
                      <a:pt x="9" y="204"/>
                    </a:cubicBezTo>
                    <a:cubicBezTo>
                      <a:pt x="69" y="214"/>
                      <a:pt x="129" y="207"/>
                      <a:pt x="132" y="122"/>
                    </a:cubicBezTo>
                    <a:cubicBezTo>
                      <a:pt x="136" y="36"/>
                      <a:pt x="64" y="20"/>
                      <a:pt x="16" y="34"/>
                    </a:cubicBezTo>
                    <a:cubicBezTo>
                      <a:pt x="17" y="14"/>
                      <a:pt x="69" y="3"/>
                      <a:pt x="69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27840" y="4951080"/>
              <a:ext cx="194760" cy="200880"/>
              <a:chOff x="6927840" y="4951080"/>
              <a:chExt cx="194760" cy="200880"/>
            </a:xfrm>
          </p:grpSpPr>
          <p:sp>
            <p:nvSpPr>
              <p:cNvPr id="123" name=""/>
              <p:cNvSpPr/>
              <p:nvPr/>
            </p:nvSpPr>
            <p:spPr>
              <a:xfrm>
                <a:off x="6927840" y="4952160"/>
                <a:ext cx="91800" cy="198000"/>
              </a:xfrm>
              <a:custGeom>
                <a:avLst/>
                <a:gdLst/>
                <a:ahLst/>
                <a:rect l="l" t="t" r="r" b="b"/>
                <a:pathLst>
                  <a:path w="198" h="431">
                    <a:moveTo>
                      <a:pt x="0" y="0"/>
                    </a:moveTo>
                    <a:cubicBezTo>
                      <a:pt x="20" y="2"/>
                      <a:pt x="66" y="6"/>
                      <a:pt x="99" y="6"/>
                    </a:cubicBezTo>
                    <a:cubicBezTo>
                      <a:pt x="132" y="6"/>
                      <a:pt x="170" y="3"/>
                      <a:pt x="198" y="2"/>
                    </a:cubicBezTo>
                    <a:cubicBezTo>
                      <a:pt x="182" y="25"/>
                      <a:pt x="198" y="27"/>
                      <a:pt x="198" y="27"/>
                    </a:cubicBezTo>
                    <a:cubicBezTo>
                      <a:pt x="186" y="34"/>
                      <a:pt x="160" y="26"/>
                      <a:pt x="140" y="26"/>
                    </a:cubicBezTo>
                    <a:cubicBezTo>
                      <a:pt x="130" y="58"/>
                      <a:pt x="139" y="37"/>
                      <a:pt x="137" y="216"/>
                    </a:cubicBezTo>
                    <a:cubicBezTo>
                      <a:pt x="135" y="395"/>
                      <a:pt x="124" y="395"/>
                      <a:pt x="198" y="405"/>
                    </a:cubicBezTo>
                    <a:cubicBezTo>
                      <a:pt x="198" y="418"/>
                      <a:pt x="198" y="431"/>
                      <a:pt x="198" y="431"/>
                    </a:cubicBezTo>
                    <a:cubicBezTo>
                      <a:pt x="148" y="428"/>
                      <a:pt x="99" y="426"/>
                      <a:pt x="99" y="426"/>
                    </a:cubicBezTo>
                    <a:cubicBezTo>
                      <a:pt x="99" y="426"/>
                      <a:pt x="49" y="427"/>
                      <a:pt x="0" y="429"/>
                    </a:cubicBezTo>
                    <a:cubicBezTo>
                      <a:pt x="0" y="429"/>
                      <a:pt x="0" y="417"/>
                      <a:pt x="0" y="405"/>
                    </a:cubicBezTo>
                    <a:cubicBezTo>
                      <a:pt x="63" y="395"/>
                      <a:pt x="62" y="401"/>
                      <a:pt x="60" y="218"/>
                    </a:cubicBezTo>
                    <a:cubicBezTo>
                      <a:pt x="58" y="35"/>
                      <a:pt x="66" y="33"/>
                      <a:pt x="0" y="27"/>
                    </a:cubicBezTo>
                    <a:cubicBezTo>
                      <a:pt x="0" y="27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83280" y="4951080"/>
                <a:ext cx="102600" cy="112320"/>
              </a:xfrm>
              <a:custGeom>
                <a:avLst/>
                <a:gdLst/>
                <a:ahLst/>
                <a:rect l="l" t="t" r="r" b="b"/>
                <a:pathLst>
                  <a:path w="65" h="71">
                    <a:moveTo>
                      <a:pt x="21" y="2"/>
                    </a:moveTo>
                    <a:cubicBezTo>
                      <a:pt x="62" y="0"/>
                      <a:pt x="65" y="24"/>
                      <a:pt x="65" y="34"/>
                    </a:cubicBezTo>
                    <a:cubicBezTo>
                      <a:pt x="64" y="45"/>
                      <a:pt x="63" y="71"/>
                      <a:pt x="1" y="70"/>
                    </a:cubicBezTo>
                    <a:cubicBezTo>
                      <a:pt x="1" y="65"/>
                      <a:pt x="3" y="61"/>
                      <a:pt x="3" y="61"/>
                    </a:cubicBezTo>
                    <a:cubicBezTo>
                      <a:pt x="21" y="64"/>
                      <a:pt x="42" y="60"/>
                      <a:pt x="42" y="36"/>
                    </a:cubicBezTo>
                    <a:cubicBezTo>
                      <a:pt x="42" y="12"/>
                      <a:pt x="19" y="7"/>
                      <a:pt x="5" y="11"/>
                    </a:cubicBezTo>
                    <a:cubicBezTo>
                      <a:pt x="0" y="6"/>
                      <a:pt x="21" y="2"/>
                      <a:pt x="21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84720" y="505044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300" h="219">
                    <a:moveTo>
                      <a:pt x="109" y="6"/>
                    </a:moveTo>
                    <a:lnTo>
                      <a:pt x="232" y="145"/>
                    </a:lnTo>
                    <a:cubicBezTo>
                      <a:pt x="232" y="145"/>
                      <a:pt x="262" y="186"/>
                      <a:pt x="300" y="190"/>
                    </a:cubicBezTo>
                    <a:cubicBezTo>
                      <a:pt x="300" y="203"/>
                      <a:pt x="300" y="217"/>
                      <a:pt x="300" y="217"/>
                    </a:cubicBezTo>
                    <a:cubicBezTo>
                      <a:pt x="283" y="217"/>
                      <a:pt x="257" y="214"/>
                      <a:pt x="238" y="214"/>
                    </a:cubicBezTo>
                    <a:cubicBezTo>
                      <a:pt x="219" y="214"/>
                      <a:pt x="205" y="217"/>
                      <a:pt x="186" y="219"/>
                    </a:cubicBezTo>
                    <a:cubicBezTo>
                      <a:pt x="154" y="191"/>
                      <a:pt x="74" y="75"/>
                      <a:pt x="43" y="43"/>
                    </a:cubicBezTo>
                    <a:cubicBezTo>
                      <a:pt x="25" y="15"/>
                      <a:pt x="0" y="27"/>
                      <a:pt x="0" y="27"/>
                    </a:cubicBezTo>
                    <a:lnTo>
                      <a:pt x="0" y="0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6608880" y="4865760"/>
              <a:ext cx="290520" cy="28692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49" y="6"/>
                  </a:moveTo>
                  <a:lnTo>
                    <a:pt x="156" y="6"/>
                  </a:lnTo>
                  <a:lnTo>
                    <a:pt x="153" y="62"/>
                  </a:lnTo>
                  <a:cubicBezTo>
                    <a:pt x="153" y="62"/>
                    <a:pt x="153" y="71"/>
                    <a:pt x="143" y="62"/>
                  </a:cubicBezTo>
                  <a:cubicBezTo>
                    <a:pt x="143" y="37"/>
                    <a:pt x="123" y="10"/>
                    <a:pt x="94" y="10"/>
                  </a:cubicBezTo>
                  <a:cubicBezTo>
                    <a:pt x="65" y="10"/>
                    <a:pt x="30" y="32"/>
                    <a:pt x="32" y="91"/>
                  </a:cubicBezTo>
                  <a:cubicBezTo>
                    <a:pt x="34" y="150"/>
                    <a:pt x="69" y="172"/>
                    <a:pt x="94" y="172"/>
                  </a:cubicBezTo>
                  <a:cubicBezTo>
                    <a:pt x="118" y="172"/>
                    <a:pt x="135" y="156"/>
                    <a:pt x="137" y="137"/>
                  </a:cubicBezTo>
                  <a:cubicBezTo>
                    <a:pt x="137" y="131"/>
                    <a:pt x="137" y="114"/>
                    <a:pt x="111" y="114"/>
                  </a:cubicBezTo>
                  <a:cubicBezTo>
                    <a:pt x="111" y="109"/>
                    <a:pt x="111" y="104"/>
                    <a:pt x="111" y="104"/>
                  </a:cubicBezTo>
                  <a:lnTo>
                    <a:pt x="183" y="104"/>
                  </a:lnTo>
                  <a:cubicBezTo>
                    <a:pt x="183" y="104"/>
                    <a:pt x="183" y="109"/>
                    <a:pt x="183" y="114"/>
                  </a:cubicBezTo>
                  <a:cubicBezTo>
                    <a:pt x="173" y="115"/>
                    <a:pt x="167" y="119"/>
                    <a:pt x="168" y="135"/>
                  </a:cubicBezTo>
                  <a:cubicBezTo>
                    <a:pt x="168" y="135"/>
                    <a:pt x="168" y="147"/>
                    <a:pt x="168" y="160"/>
                  </a:cubicBezTo>
                  <a:cubicBezTo>
                    <a:pt x="162" y="160"/>
                    <a:pt x="152" y="158"/>
                    <a:pt x="142" y="166"/>
                  </a:cubicBezTo>
                  <a:cubicBezTo>
                    <a:pt x="128" y="175"/>
                    <a:pt x="115" y="181"/>
                    <a:pt x="84" y="181"/>
                  </a:cubicBezTo>
                  <a:cubicBezTo>
                    <a:pt x="54" y="181"/>
                    <a:pt x="0" y="162"/>
                    <a:pt x="0" y="96"/>
                  </a:cubicBezTo>
                  <a:cubicBezTo>
                    <a:pt x="0" y="30"/>
                    <a:pt x="48" y="3"/>
                    <a:pt x="93" y="2"/>
                  </a:cubicBezTo>
                  <a:cubicBezTo>
                    <a:pt x="125" y="0"/>
                    <a:pt x="139" y="13"/>
                    <a:pt x="144" y="15"/>
                  </a:cubicBezTo>
                  <a:cubicBezTo>
                    <a:pt x="146" y="11"/>
                    <a:pt x="149" y="6"/>
                    <a:pt x="14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02680" y="4949640"/>
              <a:ext cx="214200" cy="20268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483080" y="4943160"/>
              <a:ext cx="218880" cy="209160"/>
              <a:chOff x="4483080" y="4943160"/>
              <a:chExt cx="218880" cy="209160"/>
            </a:xfrm>
          </p:grpSpPr>
          <p:sp>
            <p:nvSpPr>
              <p:cNvPr id="129" name=""/>
              <p:cNvSpPr/>
              <p:nvPr/>
            </p:nvSpPr>
            <p:spPr>
              <a:xfrm>
                <a:off x="4483080" y="4943160"/>
                <a:ext cx="11052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4591800" y="4943160"/>
                <a:ext cx="110160" cy="209160"/>
              </a:xfrm>
              <a:custGeom>
                <a:avLst/>
                <a:gdLst/>
                <a:ahLst/>
                <a:rect l="l" t="t" r="r" b="b"/>
                <a:pathLst>
                  <a:path w="237" h="449">
                    <a:moveTo>
                      <a:pt x="236" y="3"/>
                    </a:moveTo>
                    <a:cubicBezTo>
                      <a:pt x="236" y="16"/>
                      <a:pt x="236" y="30"/>
                      <a:pt x="236" y="30"/>
                    </a:cubicBezTo>
                    <a:cubicBezTo>
                      <a:pt x="182" y="35"/>
                      <a:pt x="93" y="69"/>
                      <a:pt x="92" y="225"/>
                    </a:cubicBezTo>
                    <a:cubicBezTo>
                      <a:pt x="91" y="381"/>
                      <a:pt x="191" y="419"/>
                      <a:pt x="237" y="417"/>
                    </a:cubicBezTo>
                    <a:cubicBezTo>
                      <a:pt x="237" y="417"/>
                      <a:pt x="237" y="431"/>
                      <a:pt x="237" y="446"/>
                    </a:cubicBezTo>
                    <a:cubicBezTo>
                      <a:pt x="182" y="449"/>
                      <a:pt x="0" y="417"/>
                      <a:pt x="0" y="228"/>
                    </a:cubicBezTo>
                    <a:cubicBezTo>
                      <a:pt x="0" y="39"/>
                      <a:pt x="173" y="0"/>
                      <a:pt x="236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3544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97520" y="4920840"/>
              <a:ext cx="136440" cy="260280"/>
              <a:chOff x="4997520" y="4920840"/>
              <a:chExt cx="136440" cy="260280"/>
            </a:xfrm>
          </p:grpSpPr>
          <p:sp>
            <p:nvSpPr>
              <p:cNvPr id="133" name=""/>
              <p:cNvSpPr/>
              <p:nvPr/>
            </p:nvSpPr>
            <p:spPr>
              <a:xfrm>
                <a:off x="4997520" y="5042520"/>
                <a:ext cx="136440" cy="138600"/>
              </a:xfrm>
              <a:custGeom>
                <a:avLst/>
                <a:gdLst/>
                <a:ahLst/>
                <a:rect l="l" t="t" r="r" b="b"/>
                <a:pathLst>
                  <a:path w="292" h="297">
                    <a:moveTo>
                      <a:pt x="27" y="93"/>
                    </a:moveTo>
                    <a:cubicBezTo>
                      <a:pt x="13" y="93"/>
                      <a:pt x="0" y="93"/>
                      <a:pt x="0" y="93"/>
                    </a:cubicBezTo>
                    <a:lnTo>
                      <a:pt x="0" y="227"/>
                    </a:lnTo>
                    <a:lnTo>
                      <a:pt x="19" y="227"/>
                    </a:lnTo>
                    <a:cubicBezTo>
                      <a:pt x="19" y="227"/>
                      <a:pt x="23" y="218"/>
                      <a:pt x="28" y="209"/>
                    </a:cubicBezTo>
                    <a:cubicBezTo>
                      <a:pt x="231" y="297"/>
                      <a:pt x="289" y="171"/>
                      <a:pt x="292" y="111"/>
                    </a:cubicBezTo>
                    <a:cubicBezTo>
                      <a:pt x="291" y="60"/>
                      <a:pt x="265" y="24"/>
                      <a:pt x="232" y="0"/>
                    </a:cubicBezTo>
                    <a:cubicBezTo>
                      <a:pt x="137" y="0"/>
                      <a:pt x="66" y="2"/>
                      <a:pt x="43" y="0"/>
                    </a:cubicBezTo>
                    <a:cubicBezTo>
                      <a:pt x="60" y="33"/>
                      <a:pt x="222" y="63"/>
                      <a:pt x="222" y="134"/>
                    </a:cubicBezTo>
                    <a:cubicBezTo>
                      <a:pt x="220" y="227"/>
                      <a:pt x="55" y="257"/>
                      <a:pt x="27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999320" y="4920840"/>
                <a:ext cx="120960" cy="125280"/>
              </a:xfrm>
              <a:custGeom>
                <a:avLst/>
                <a:gdLst/>
                <a:ahLst/>
                <a:rect l="l" t="t" r="r" b="b"/>
                <a:pathLst>
                  <a:path w="259" h="269">
                    <a:moveTo>
                      <a:pt x="235" y="182"/>
                    </a:moveTo>
                    <a:cubicBezTo>
                      <a:pt x="247" y="182"/>
                      <a:pt x="259" y="182"/>
                      <a:pt x="259" y="182"/>
                    </a:cubicBezTo>
                    <a:lnTo>
                      <a:pt x="257" y="65"/>
                    </a:lnTo>
                    <a:lnTo>
                      <a:pt x="236" y="66"/>
                    </a:lnTo>
                    <a:lnTo>
                      <a:pt x="233" y="81"/>
                    </a:lnTo>
                    <a:cubicBezTo>
                      <a:pt x="53" y="0"/>
                      <a:pt x="3" y="110"/>
                      <a:pt x="0" y="165"/>
                    </a:cubicBezTo>
                    <a:cubicBezTo>
                      <a:pt x="1" y="213"/>
                      <a:pt x="21" y="247"/>
                      <a:pt x="50" y="269"/>
                    </a:cubicBezTo>
                    <a:cubicBezTo>
                      <a:pt x="134" y="269"/>
                      <a:pt x="212" y="265"/>
                      <a:pt x="233" y="267"/>
                    </a:cubicBezTo>
                    <a:cubicBezTo>
                      <a:pt x="213" y="239"/>
                      <a:pt x="60" y="203"/>
                      <a:pt x="66" y="144"/>
                    </a:cubicBezTo>
                    <a:cubicBezTo>
                      <a:pt x="75" y="80"/>
                      <a:pt x="176" y="39"/>
                      <a:pt x="235" y="1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75360" y="4951080"/>
              <a:ext cx="214200" cy="201240"/>
            </a:xfrm>
            <a:custGeom>
              <a:avLst/>
              <a:gdLst/>
              <a:ahLst/>
              <a:rect l="l" t="t" r="r" b="b"/>
              <a:pathLst>
                <a:path w="462" h="435">
                  <a:moveTo>
                    <a:pt x="0" y="0"/>
                  </a:moveTo>
                  <a:cubicBezTo>
                    <a:pt x="48" y="3"/>
                    <a:pt x="67" y="6"/>
                    <a:pt x="97" y="6"/>
                  </a:cubicBezTo>
                  <a:cubicBezTo>
                    <a:pt x="127" y="6"/>
                    <a:pt x="146" y="3"/>
                    <a:pt x="196" y="0"/>
                  </a:cubicBezTo>
                  <a:cubicBezTo>
                    <a:pt x="196" y="13"/>
                    <a:pt x="196" y="27"/>
                    <a:pt x="196" y="27"/>
                  </a:cubicBezTo>
                  <a:cubicBezTo>
                    <a:pt x="130" y="25"/>
                    <a:pt x="135" y="61"/>
                    <a:pt x="135" y="117"/>
                  </a:cubicBezTo>
                  <a:cubicBezTo>
                    <a:pt x="135" y="195"/>
                    <a:pt x="135" y="273"/>
                    <a:pt x="135" y="273"/>
                  </a:cubicBezTo>
                  <a:cubicBezTo>
                    <a:pt x="136" y="328"/>
                    <a:pt x="151" y="403"/>
                    <a:pt x="250" y="402"/>
                  </a:cubicBezTo>
                  <a:cubicBezTo>
                    <a:pt x="349" y="401"/>
                    <a:pt x="372" y="328"/>
                    <a:pt x="372" y="271"/>
                  </a:cubicBezTo>
                  <a:cubicBezTo>
                    <a:pt x="372" y="194"/>
                    <a:pt x="372" y="154"/>
                    <a:pt x="372" y="117"/>
                  </a:cubicBezTo>
                  <a:cubicBezTo>
                    <a:pt x="372" y="64"/>
                    <a:pt x="372" y="31"/>
                    <a:pt x="309" y="25"/>
                  </a:cubicBezTo>
                  <a:cubicBezTo>
                    <a:pt x="309" y="25"/>
                    <a:pt x="309" y="13"/>
                    <a:pt x="309" y="1"/>
                  </a:cubicBezTo>
                  <a:cubicBezTo>
                    <a:pt x="347" y="3"/>
                    <a:pt x="354" y="6"/>
                    <a:pt x="385" y="6"/>
                  </a:cubicBezTo>
                  <a:cubicBezTo>
                    <a:pt x="416" y="6"/>
                    <a:pt x="423" y="3"/>
                    <a:pt x="462" y="0"/>
                  </a:cubicBezTo>
                  <a:cubicBezTo>
                    <a:pt x="462" y="14"/>
                    <a:pt x="462" y="28"/>
                    <a:pt x="462" y="28"/>
                  </a:cubicBezTo>
                  <a:cubicBezTo>
                    <a:pt x="408" y="30"/>
                    <a:pt x="402" y="49"/>
                    <a:pt x="403" y="117"/>
                  </a:cubicBezTo>
                  <a:cubicBezTo>
                    <a:pt x="403" y="117"/>
                    <a:pt x="403" y="195"/>
                    <a:pt x="403" y="273"/>
                  </a:cubicBezTo>
                  <a:cubicBezTo>
                    <a:pt x="399" y="304"/>
                    <a:pt x="417" y="435"/>
                    <a:pt x="232" y="435"/>
                  </a:cubicBezTo>
                  <a:cubicBezTo>
                    <a:pt x="47" y="435"/>
                    <a:pt x="60" y="319"/>
                    <a:pt x="61" y="271"/>
                  </a:cubicBezTo>
                  <a:cubicBezTo>
                    <a:pt x="61" y="271"/>
                    <a:pt x="61" y="194"/>
                    <a:pt x="61" y="117"/>
                  </a:cubicBezTo>
                  <a:cubicBezTo>
                    <a:pt x="57" y="58"/>
                    <a:pt x="67" y="28"/>
                    <a:pt x="1" y="27"/>
                  </a:cubicBezTo>
                  <a:cubicBezTo>
                    <a:pt x="1" y="27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427720" y="4951080"/>
              <a:ext cx="174600" cy="199800"/>
              <a:chOff x="5427720" y="4951080"/>
              <a:chExt cx="174600" cy="199800"/>
            </a:xfrm>
          </p:grpSpPr>
          <p:sp>
            <p:nvSpPr>
              <p:cNvPr id="137" name=""/>
              <p:cNvSpPr/>
              <p:nvPr/>
            </p:nvSpPr>
            <p:spPr>
              <a:xfrm>
                <a:off x="5427720" y="4951080"/>
                <a:ext cx="92160" cy="199800"/>
              </a:xfrm>
              <a:custGeom>
                <a:avLst/>
                <a:gdLst/>
                <a:ahLst/>
                <a:rect l="l" t="t" r="r" b="b"/>
                <a:pathLst>
                  <a:path w="58" h="126">
                    <a:moveTo>
                      <a:pt x="0" y="0"/>
                    </a:moveTo>
                    <a:cubicBezTo>
                      <a:pt x="6" y="1"/>
                      <a:pt x="19" y="2"/>
                      <a:pt x="29" y="2"/>
                    </a:cubicBezTo>
                    <a:cubicBezTo>
                      <a:pt x="39" y="2"/>
                      <a:pt x="50" y="1"/>
                      <a:pt x="58" y="1"/>
                    </a:cubicBezTo>
                    <a:cubicBezTo>
                      <a:pt x="58" y="4"/>
                      <a:pt x="58" y="8"/>
                      <a:pt x="58" y="8"/>
                    </a:cubicBezTo>
                    <a:cubicBezTo>
                      <a:pt x="38" y="9"/>
                      <a:pt x="41" y="9"/>
                      <a:pt x="40" y="64"/>
                    </a:cubicBezTo>
                    <a:cubicBezTo>
                      <a:pt x="39" y="118"/>
                      <a:pt x="40" y="117"/>
                      <a:pt x="58" y="119"/>
                    </a:cubicBezTo>
                    <a:cubicBezTo>
                      <a:pt x="58" y="123"/>
                      <a:pt x="53" y="124"/>
                      <a:pt x="53" y="124"/>
                    </a:cubicBezTo>
                    <a:cubicBezTo>
                      <a:pt x="38" y="123"/>
                      <a:pt x="29" y="121"/>
                      <a:pt x="29" y="121"/>
                    </a:cubicBezTo>
                    <a:cubicBezTo>
                      <a:pt x="29" y="121"/>
                      <a:pt x="14" y="126"/>
                      <a:pt x="0" y="126"/>
                    </a:cubicBezTo>
                    <a:cubicBezTo>
                      <a:pt x="0" y="126"/>
                      <a:pt x="0" y="123"/>
                      <a:pt x="0" y="119"/>
                    </a:cubicBezTo>
                    <a:cubicBezTo>
                      <a:pt x="18" y="116"/>
                      <a:pt x="18" y="118"/>
                      <a:pt x="18" y="64"/>
                    </a:cubicBezTo>
                    <a:cubicBezTo>
                      <a:pt x="17" y="10"/>
                      <a:pt x="19" y="10"/>
                      <a:pt x="0" y="8"/>
                    </a:cubicBezTo>
                    <a:cubicBezTo>
                      <a:pt x="0" y="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27720" y="5095440"/>
                <a:ext cx="174600" cy="55440"/>
              </a:xfrm>
              <a:custGeom>
                <a:avLst/>
                <a:gdLst/>
                <a:ahLst/>
                <a:rect l="l" t="t" r="r" b="b"/>
                <a:pathLst>
                  <a:path w="374" h="121">
                    <a:moveTo>
                      <a:pt x="0" y="120"/>
                    </a:moveTo>
                    <a:lnTo>
                      <a:pt x="246" y="120"/>
                    </a:lnTo>
                    <a:cubicBezTo>
                      <a:pt x="307" y="120"/>
                      <a:pt x="308" y="117"/>
                      <a:pt x="369" y="121"/>
                    </a:cubicBezTo>
                    <a:cubicBezTo>
                      <a:pt x="371" y="60"/>
                      <a:pt x="374" y="0"/>
                      <a:pt x="374" y="0"/>
                    </a:cubicBezTo>
                    <a:lnTo>
                      <a:pt x="347" y="0"/>
                    </a:lnTo>
                    <a:cubicBezTo>
                      <a:pt x="332" y="61"/>
                      <a:pt x="318" y="93"/>
                      <a:pt x="228" y="93"/>
                    </a:cubicBezTo>
                    <a:cubicBezTo>
                      <a:pt x="138" y="93"/>
                      <a:pt x="140" y="79"/>
                      <a:pt x="131" y="0"/>
                    </a:cubicBezTo>
                    <a:cubicBezTo>
                      <a:pt x="100" y="47"/>
                      <a:pt x="69" y="94"/>
                      <a:pt x="69" y="94"/>
                    </a:cubicBez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870520" y="4954320"/>
              <a:ext cx="92160" cy="198000"/>
            </a:xfrm>
            <a:custGeom>
              <a:avLst/>
              <a:gdLst/>
              <a:ahLst/>
              <a:rect l="l" t="t" r="r" b="b"/>
              <a:pathLst>
                <a:path w="198" h="431">
                  <a:moveTo>
                    <a:pt x="0" y="0"/>
                  </a:moveTo>
                  <a:cubicBezTo>
                    <a:pt x="20" y="2"/>
                    <a:pt x="66" y="6"/>
                    <a:pt x="99" y="6"/>
                  </a:cubicBezTo>
                  <a:cubicBezTo>
                    <a:pt x="132" y="6"/>
                    <a:pt x="170" y="3"/>
                    <a:pt x="198" y="2"/>
                  </a:cubicBezTo>
                  <a:cubicBezTo>
                    <a:pt x="198" y="14"/>
                    <a:pt x="198" y="27"/>
                    <a:pt x="198" y="27"/>
                  </a:cubicBezTo>
                  <a:cubicBezTo>
                    <a:pt x="129" y="32"/>
                    <a:pt x="140" y="30"/>
                    <a:pt x="137" y="216"/>
                  </a:cubicBezTo>
                  <a:cubicBezTo>
                    <a:pt x="134" y="402"/>
                    <a:pt x="137" y="398"/>
                    <a:pt x="198" y="405"/>
                  </a:cubicBezTo>
                  <a:cubicBezTo>
                    <a:pt x="198" y="418"/>
                    <a:pt x="198" y="431"/>
                    <a:pt x="198" y="431"/>
                  </a:cubicBezTo>
                  <a:cubicBezTo>
                    <a:pt x="148" y="428"/>
                    <a:pt x="99" y="426"/>
                    <a:pt x="99" y="426"/>
                  </a:cubicBezTo>
                  <a:cubicBezTo>
                    <a:pt x="99" y="426"/>
                    <a:pt x="49" y="427"/>
                    <a:pt x="0" y="429"/>
                  </a:cubicBezTo>
                  <a:cubicBezTo>
                    <a:pt x="0" y="429"/>
                    <a:pt x="0" y="417"/>
                    <a:pt x="0" y="405"/>
                  </a:cubicBezTo>
                  <a:cubicBezTo>
                    <a:pt x="63" y="395"/>
                    <a:pt x="62" y="401"/>
                    <a:pt x="60" y="218"/>
                  </a:cubicBezTo>
                  <a:cubicBezTo>
                    <a:pt x="58" y="35"/>
                    <a:pt x="66" y="33"/>
                    <a:pt x="0" y="27"/>
                  </a:cubicBezTo>
                  <a:cubicBezTo>
                    <a:pt x="0" y="27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7600" y="4949640"/>
              <a:ext cx="216000" cy="202680"/>
            </a:xfrm>
            <a:custGeom>
              <a:avLst/>
              <a:gdLst/>
              <a:ahLst/>
              <a:rect l="l" t="t" r="r" b="b"/>
              <a:pathLst>
                <a:path w="463" h="436">
                  <a:moveTo>
                    <a:pt x="0" y="3"/>
                  </a:moveTo>
                  <a:cubicBezTo>
                    <a:pt x="11" y="0"/>
                    <a:pt x="48" y="7"/>
                    <a:pt x="69" y="7"/>
                  </a:cubicBezTo>
                  <a:cubicBezTo>
                    <a:pt x="90" y="7"/>
                    <a:pt x="111" y="1"/>
                    <a:pt x="126" y="1"/>
                  </a:cubicBezTo>
                  <a:cubicBezTo>
                    <a:pt x="126" y="1"/>
                    <a:pt x="252" y="157"/>
                    <a:pt x="379" y="313"/>
                  </a:cubicBezTo>
                  <a:cubicBezTo>
                    <a:pt x="373" y="66"/>
                    <a:pt x="399" y="34"/>
                    <a:pt x="313" y="30"/>
                  </a:cubicBezTo>
                  <a:cubicBezTo>
                    <a:pt x="313" y="16"/>
                    <a:pt x="313" y="3"/>
                    <a:pt x="313" y="3"/>
                  </a:cubicBezTo>
                  <a:cubicBezTo>
                    <a:pt x="328" y="3"/>
                    <a:pt x="366" y="4"/>
                    <a:pt x="391" y="4"/>
                  </a:cubicBezTo>
                  <a:cubicBezTo>
                    <a:pt x="416" y="4"/>
                    <a:pt x="451" y="1"/>
                    <a:pt x="463" y="3"/>
                  </a:cubicBezTo>
                  <a:cubicBezTo>
                    <a:pt x="463" y="3"/>
                    <a:pt x="463" y="15"/>
                    <a:pt x="463" y="28"/>
                  </a:cubicBezTo>
                  <a:cubicBezTo>
                    <a:pt x="394" y="33"/>
                    <a:pt x="411" y="84"/>
                    <a:pt x="411" y="316"/>
                  </a:cubicBezTo>
                  <a:cubicBezTo>
                    <a:pt x="411" y="376"/>
                    <a:pt x="411" y="436"/>
                    <a:pt x="411" y="436"/>
                  </a:cubicBezTo>
                  <a:cubicBezTo>
                    <a:pt x="393" y="436"/>
                    <a:pt x="376" y="436"/>
                    <a:pt x="376" y="436"/>
                  </a:cubicBezTo>
                  <a:cubicBezTo>
                    <a:pt x="376" y="436"/>
                    <a:pt x="239" y="271"/>
                    <a:pt x="103" y="106"/>
                  </a:cubicBezTo>
                  <a:cubicBezTo>
                    <a:pt x="100" y="415"/>
                    <a:pt x="102" y="393"/>
                    <a:pt x="166" y="405"/>
                  </a:cubicBezTo>
                  <a:cubicBezTo>
                    <a:pt x="166" y="418"/>
                    <a:pt x="166" y="432"/>
                    <a:pt x="166" y="432"/>
                  </a:cubicBezTo>
                  <a:cubicBezTo>
                    <a:pt x="128" y="429"/>
                    <a:pt x="90" y="427"/>
                    <a:pt x="90" y="427"/>
                  </a:cubicBezTo>
                  <a:cubicBezTo>
                    <a:pt x="90" y="427"/>
                    <a:pt x="50" y="428"/>
                    <a:pt x="10" y="430"/>
                  </a:cubicBezTo>
                  <a:cubicBezTo>
                    <a:pt x="10" y="430"/>
                    <a:pt x="10" y="417"/>
                    <a:pt x="10" y="405"/>
                  </a:cubicBezTo>
                  <a:cubicBezTo>
                    <a:pt x="84" y="399"/>
                    <a:pt x="67" y="382"/>
                    <a:pt x="69" y="109"/>
                  </a:cubicBezTo>
                  <a:cubicBezTo>
                    <a:pt x="69" y="88"/>
                    <a:pt x="69" y="67"/>
                    <a:pt x="69" y="67"/>
                  </a:cubicBezTo>
                  <a:cubicBezTo>
                    <a:pt x="43" y="25"/>
                    <a:pt x="1" y="28"/>
                    <a:pt x="1" y="28"/>
                  </a:cubicBezTo>
                  <a:cubicBezTo>
                    <a:pt x="0" y="15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64360" y="4944960"/>
              <a:ext cx="209520" cy="207360"/>
            </a:xfrm>
            <a:custGeom>
              <a:avLst/>
              <a:gdLst/>
              <a:ahLst/>
              <a:rect l="l" t="t" r="r" b="b"/>
              <a:pathLst>
                <a:path w="451" h="447">
                  <a:moveTo>
                    <a:pt x="366" y="15"/>
                  </a:moveTo>
                  <a:lnTo>
                    <a:pt x="385" y="15"/>
                  </a:lnTo>
                  <a:lnTo>
                    <a:pt x="376" y="152"/>
                  </a:lnTo>
                  <a:cubicBezTo>
                    <a:pt x="376" y="152"/>
                    <a:pt x="364" y="152"/>
                    <a:pt x="352" y="152"/>
                  </a:cubicBezTo>
                  <a:cubicBezTo>
                    <a:pt x="352" y="92"/>
                    <a:pt x="306" y="33"/>
                    <a:pt x="234" y="32"/>
                  </a:cubicBezTo>
                  <a:cubicBezTo>
                    <a:pt x="162" y="31"/>
                    <a:pt x="88" y="87"/>
                    <a:pt x="93" y="233"/>
                  </a:cubicBezTo>
                  <a:cubicBezTo>
                    <a:pt x="98" y="379"/>
                    <a:pt x="168" y="419"/>
                    <a:pt x="228" y="419"/>
                  </a:cubicBezTo>
                  <a:cubicBezTo>
                    <a:pt x="288" y="419"/>
                    <a:pt x="324" y="377"/>
                    <a:pt x="327" y="332"/>
                  </a:cubicBezTo>
                  <a:cubicBezTo>
                    <a:pt x="327" y="317"/>
                    <a:pt x="337" y="282"/>
                    <a:pt x="274" y="282"/>
                  </a:cubicBezTo>
                  <a:cubicBezTo>
                    <a:pt x="274" y="270"/>
                    <a:pt x="274" y="258"/>
                    <a:pt x="274" y="258"/>
                  </a:cubicBezTo>
                  <a:lnTo>
                    <a:pt x="451" y="258"/>
                  </a:lnTo>
                  <a:cubicBezTo>
                    <a:pt x="451" y="258"/>
                    <a:pt x="451" y="269"/>
                    <a:pt x="451" y="281"/>
                  </a:cubicBezTo>
                  <a:cubicBezTo>
                    <a:pt x="426" y="285"/>
                    <a:pt x="411" y="294"/>
                    <a:pt x="414" y="333"/>
                  </a:cubicBezTo>
                  <a:cubicBezTo>
                    <a:pt x="414" y="333"/>
                    <a:pt x="414" y="364"/>
                    <a:pt x="414" y="396"/>
                  </a:cubicBezTo>
                  <a:cubicBezTo>
                    <a:pt x="400" y="396"/>
                    <a:pt x="375" y="390"/>
                    <a:pt x="349" y="410"/>
                  </a:cubicBezTo>
                  <a:cubicBezTo>
                    <a:pt x="315" y="432"/>
                    <a:pt x="283" y="447"/>
                    <a:pt x="208" y="447"/>
                  </a:cubicBezTo>
                  <a:cubicBezTo>
                    <a:pt x="133" y="447"/>
                    <a:pt x="0" y="399"/>
                    <a:pt x="0" y="236"/>
                  </a:cubicBezTo>
                  <a:cubicBezTo>
                    <a:pt x="0" y="73"/>
                    <a:pt x="119" y="8"/>
                    <a:pt x="228" y="5"/>
                  </a:cubicBezTo>
                  <a:cubicBezTo>
                    <a:pt x="309" y="0"/>
                    <a:pt x="342" y="33"/>
                    <a:pt x="355" y="38"/>
                  </a:cubicBezTo>
                  <a:cubicBezTo>
                    <a:pt x="360" y="26"/>
                    <a:pt x="366" y="15"/>
                    <a:pt x="36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5160" y="4867200"/>
              <a:ext cx="250920" cy="285120"/>
            </a:xfrm>
            <a:custGeom>
              <a:avLst/>
              <a:gdLst/>
              <a:ahLst/>
              <a:rect l="l" t="t" r="r" b="b"/>
              <a:pathLst>
                <a:path w="158" h="180">
                  <a:moveTo>
                    <a:pt x="146" y="5"/>
                  </a:moveTo>
                  <a:lnTo>
                    <a:pt x="155" y="5"/>
                  </a:lnTo>
                  <a:lnTo>
                    <a:pt x="156" y="58"/>
                  </a:lnTo>
                  <a:cubicBezTo>
                    <a:pt x="156" y="58"/>
                    <a:pt x="156" y="67"/>
                    <a:pt x="145" y="58"/>
                  </a:cubicBezTo>
                  <a:cubicBezTo>
                    <a:pt x="145" y="47"/>
                    <a:pt x="127" y="7"/>
                    <a:pt x="93" y="7"/>
                  </a:cubicBezTo>
                  <a:cubicBezTo>
                    <a:pt x="60" y="7"/>
                    <a:pt x="30" y="51"/>
                    <a:pt x="30" y="91"/>
                  </a:cubicBezTo>
                  <a:cubicBezTo>
                    <a:pt x="31" y="131"/>
                    <a:pt x="51" y="171"/>
                    <a:pt x="93" y="171"/>
                  </a:cubicBezTo>
                  <a:cubicBezTo>
                    <a:pt x="136" y="171"/>
                    <a:pt x="147" y="125"/>
                    <a:pt x="148" y="114"/>
                  </a:cubicBezTo>
                  <a:cubicBezTo>
                    <a:pt x="153" y="114"/>
                    <a:pt x="158" y="114"/>
                    <a:pt x="158" y="114"/>
                  </a:cubicBezTo>
                  <a:lnTo>
                    <a:pt x="158" y="174"/>
                  </a:lnTo>
                  <a:lnTo>
                    <a:pt x="150" y="174"/>
                  </a:lnTo>
                  <a:cubicBezTo>
                    <a:pt x="150" y="174"/>
                    <a:pt x="147" y="169"/>
                    <a:pt x="145" y="164"/>
                  </a:cubicBezTo>
                  <a:cubicBezTo>
                    <a:pt x="137" y="168"/>
                    <a:pt x="119" y="180"/>
                    <a:pt x="90" y="180"/>
                  </a:cubicBezTo>
                  <a:cubicBezTo>
                    <a:pt x="61" y="179"/>
                    <a:pt x="0" y="169"/>
                    <a:pt x="0" y="91"/>
                  </a:cubicBezTo>
                  <a:cubicBezTo>
                    <a:pt x="1" y="12"/>
                    <a:pt x="69" y="0"/>
                    <a:pt x="92" y="0"/>
                  </a:cubicBezTo>
                  <a:cubicBezTo>
                    <a:pt x="115" y="0"/>
                    <a:pt x="136" y="8"/>
                    <a:pt x="143" y="13"/>
                  </a:cubicBezTo>
                  <a:cubicBezTo>
                    <a:pt x="144" y="9"/>
                    <a:pt x="146" y="5"/>
                    <a:pt x="14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82720" y="4879800"/>
              <a:ext cx="252360" cy="27252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641680" y="4875120"/>
              <a:ext cx="242640" cy="276840"/>
              <a:chOff x="2641680" y="4875120"/>
              <a:chExt cx="242640" cy="276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641680" y="4876200"/>
                <a:ext cx="122040" cy="275760"/>
              </a:xfrm>
              <a:custGeom>
                <a:avLst/>
                <a:gdLst/>
                <a:ahLst/>
                <a:rect l="l" t="t" r="r" b="b"/>
                <a:pathLst>
                  <a:path w="253" h="573">
                    <a:moveTo>
                      <a:pt x="0" y="17"/>
                    </a:moveTo>
                    <a:cubicBezTo>
                      <a:pt x="0" y="8"/>
                      <a:pt x="0" y="0"/>
                      <a:pt x="0" y="0"/>
                    </a:cubicBezTo>
                    <a:lnTo>
                      <a:pt x="198" y="0"/>
                    </a:lnTo>
                    <a:cubicBezTo>
                      <a:pt x="198" y="0"/>
                      <a:pt x="198" y="13"/>
                      <a:pt x="198" y="26"/>
                    </a:cubicBezTo>
                    <a:cubicBezTo>
                      <a:pt x="174" y="26"/>
                      <a:pt x="171" y="38"/>
                      <a:pt x="171" y="53"/>
                    </a:cubicBezTo>
                    <a:cubicBezTo>
                      <a:pt x="171" y="53"/>
                      <a:pt x="171" y="259"/>
                      <a:pt x="171" y="465"/>
                    </a:cubicBezTo>
                    <a:cubicBezTo>
                      <a:pt x="171" y="465"/>
                      <a:pt x="168" y="540"/>
                      <a:pt x="253" y="549"/>
                    </a:cubicBezTo>
                    <a:cubicBezTo>
                      <a:pt x="253" y="559"/>
                      <a:pt x="253" y="570"/>
                      <a:pt x="253" y="570"/>
                    </a:cubicBezTo>
                    <a:cubicBezTo>
                      <a:pt x="232" y="573"/>
                      <a:pt x="166" y="564"/>
                      <a:pt x="124" y="564"/>
                    </a:cubicBezTo>
                    <a:cubicBezTo>
                      <a:pt x="82" y="564"/>
                      <a:pt x="21" y="572"/>
                      <a:pt x="0" y="570"/>
                    </a:cubicBezTo>
                    <a:cubicBezTo>
                      <a:pt x="0" y="570"/>
                      <a:pt x="0" y="562"/>
                      <a:pt x="0" y="554"/>
                    </a:cubicBezTo>
                    <a:cubicBezTo>
                      <a:pt x="24" y="551"/>
                      <a:pt x="76" y="560"/>
                      <a:pt x="78" y="480"/>
                    </a:cubicBezTo>
                    <a:cubicBezTo>
                      <a:pt x="78" y="283"/>
                      <a:pt x="78" y="86"/>
                      <a:pt x="78" y="86"/>
                    </a:cubicBezTo>
                    <a:cubicBezTo>
                      <a:pt x="79" y="44"/>
                      <a:pt x="72" y="20"/>
                      <a:pt x="0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21240" y="4875120"/>
                <a:ext cx="163080" cy="276840"/>
              </a:xfrm>
              <a:custGeom>
                <a:avLst/>
                <a:gdLst/>
                <a:ahLst/>
                <a:rect l="l" t="t" r="r" b="b"/>
                <a:pathLst>
                  <a:path w="338" h="575">
                    <a:moveTo>
                      <a:pt x="30" y="3"/>
                    </a:moveTo>
                    <a:cubicBezTo>
                      <a:pt x="150" y="0"/>
                      <a:pt x="274" y="21"/>
                      <a:pt x="276" y="129"/>
                    </a:cubicBezTo>
                    <a:cubicBezTo>
                      <a:pt x="278" y="237"/>
                      <a:pt x="183" y="254"/>
                      <a:pt x="151" y="272"/>
                    </a:cubicBezTo>
                    <a:cubicBezTo>
                      <a:pt x="184" y="276"/>
                      <a:pt x="336" y="284"/>
                      <a:pt x="337" y="426"/>
                    </a:cubicBezTo>
                    <a:cubicBezTo>
                      <a:pt x="338" y="568"/>
                      <a:pt x="178" y="572"/>
                      <a:pt x="81" y="575"/>
                    </a:cubicBezTo>
                    <a:cubicBezTo>
                      <a:pt x="81" y="575"/>
                      <a:pt x="81" y="563"/>
                      <a:pt x="81" y="552"/>
                    </a:cubicBezTo>
                    <a:cubicBezTo>
                      <a:pt x="135" y="551"/>
                      <a:pt x="223" y="549"/>
                      <a:pt x="226" y="419"/>
                    </a:cubicBezTo>
                    <a:cubicBezTo>
                      <a:pt x="229" y="289"/>
                      <a:pt x="126" y="279"/>
                      <a:pt x="0" y="284"/>
                    </a:cubicBezTo>
                    <a:cubicBezTo>
                      <a:pt x="0" y="273"/>
                      <a:pt x="1" y="263"/>
                      <a:pt x="1" y="263"/>
                    </a:cubicBezTo>
                    <a:cubicBezTo>
                      <a:pt x="87" y="260"/>
                      <a:pt x="178" y="263"/>
                      <a:pt x="178" y="143"/>
                    </a:cubicBezTo>
                    <a:cubicBezTo>
                      <a:pt x="178" y="23"/>
                      <a:pt x="57" y="27"/>
                      <a:pt x="30" y="27"/>
                    </a:cubicBezTo>
                    <a:cubicBezTo>
                      <a:pt x="30" y="27"/>
                      <a:pt x="28" y="15"/>
                      <a:pt x="30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3415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14920" y="4954320"/>
              <a:ext cx="212760" cy="198000"/>
            </a:xfrm>
            <a:custGeom>
              <a:avLst/>
              <a:gdLst/>
              <a:ahLst/>
              <a:rect l="l" t="t" r="r" b="b"/>
              <a:pathLst>
                <a:path w="528" h="572">
                  <a:moveTo>
                    <a:pt x="0" y="132"/>
                  </a:moveTo>
                  <a:lnTo>
                    <a:pt x="0" y="0"/>
                  </a:lnTo>
                  <a:lnTo>
                    <a:pt x="528" y="0"/>
                  </a:lnTo>
                  <a:lnTo>
                    <a:pt x="528" y="132"/>
                  </a:lnTo>
                  <a:cubicBezTo>
                    <a:pt x="528" y="132"/>
                    <a:pt x="517" y="132"/>
                    <a:pt x="507" y="132"/>
                  </a:cubicBezTo>
                  <a:cubicBezTo>
                    <a:pt x="509" y="24"/>
                    <a:pt x="426" y="25"/>
                    <a:pt x="390" y="25"/>
                  </a:cubicBezTo>
                  <a:cubicBezTo>
                    <a:pt x="356" y="25"/>
                    <a:pt x="319" y="27"/>
                    <a:pt x="314" y="48"/>
                  </a:cubicBezTo>
                  <a:cubicBezTo>
                    <a:pt x="314" y="271"/>
                    <a:pt x="315" y="490"/>
                    <a:pt x="315" y="490"/>
                  </a:cubicBezTo>
                  <a:cubicBezTo>
                    <a:pt x="320" y="558"/>
                    <a:pt x="408" y="553"/>
                    <a:pt x="408" y="553"/>
                  </a:cubicBezTo>
                  <a:cubicBezTo>
                    <a:pt x="408" y="561"/>
                    <a:pt x="408" y="570"/>
                    <a:pt x="408" y="570"/>
                  </a:cubicBezTo>
                  <a:cubicBezTo>
                    <a:pt x="385" y="572"/>
                    <a:pt x="317" y="564"/>
                    <a:pt x="270" y="564"/>
                  </a:cubicBezTo>
                  <a:cubicBezTo>
                    <a:pt x="223" y="564"/>
                    <a:pt x="149" y="572"/>
                    <a:pt x="125" y="571"/>
                  </a:cubicBezTo>
                  <a:cubicBezTo>
                    <a:pt x="125" y="571"/>
                    <a:pt x="125" y="563"/>
                    <a:pt x="125" y="555"/>
                  </a:cubicBezTo>
                  <a:cubicBezTo>
                    <a:pt x="137" y="549"/>
                    <a:pt x="204" y="564"/>
                    <a:pt x="222" y="495"/>
                  </a:cubicBezTo>
                  <a:cubicBezTo>
                    <a:pt x="222" y="270"/>
                    <a:pt x="222" y="45"/>
                    <a:pt x="222" y="45"/>
                  </a:cubicBezTo>
                  <a:cubicBezTo>
                    <a:pt x="215" y="24"/>
                    <a:pt x="182" y="25"/>
                    <a:pt x="140" y="25"/>
                  </a:cubicBezTo>
                  <a:cubicBezTo>
                    <a:pt x="104" y="28"/>
                    <a:pt x="32" y="10"/>
                    <a:pt x="21" y="132"/>
                  </a:cubicBezTo>
                  <a:cubicBezTo>
                    <a:pt x="10" y="132"/>
                    <a:pt x="0" y="132"/>
                    <a:pt x="0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0488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BRUMADORA MAYORÍA DE LAS EMPRESAS CONSIDERAN LA INNOVACIÓN COMO UNA PRIORIDAD ESTRATÉG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9680" y="2590920"/>
            <a:ext cx="241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imera prio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32767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3962520"/>
            <a:ext cx="239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se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4572000"/>
            <a:ext cx="239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ntro de las primeras di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6112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11760" y="4572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2412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11760" y="3962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Y EXISTE UNA FUERTE EXPECTATIVA DE AUMENTO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INVERSIÓN EN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13360" y="2207880"/>
            <a:ext cx="4178160" cy="3526560"/>
            <a:chOff x="5013360" y="2207880"/>
            <a:chExt cx="4178160" cy="3526560"/>
          </a:xfrm>
        </p:grpSpPr>
        <p:graphicFrame>
          <p:nvGraphicFramePr>
            <p:cNvPr id="278" name=""/>
            <p:cNvGraphicFramePr/>
            <p:nvPr/>
          </p:nvGraphicFramePr>
          <p:xfrm>
            <a:off x="5626080" y="2670120"/>
            <a:ext cx="3565440" cy="290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26080" y="267012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8262360" y="558180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1160" y="2207880"/>
              <a:ext cx="311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esperado de inversión en innovación 2005 -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13360" y="464832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Neg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42782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0%-1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388764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0%-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03720" y="4653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13360" y="34974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-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Más de 3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60680" y="4267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35320" y="39625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8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0680" y="350532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55840" y="312408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09680" y="2207880"/>
            <a:ext cx="4193640" cy="3507480"/>
            <a:chOff x="409680" y="2207880"/>
            <a:chExt cx="4193640" cy="3507480"/>
          </a:xfrm>
        </p:grpSpPr>
        <p:graphicFrame>
          <p:nvGraphicFramePr>
            <p:cNvPr id="293" name=""/>
            <p:cNvGraphicFramePr/>
            <p:nvPr/>
          </p:nvGraphicFramePr>
          <p:xfrm>
            <a:off x="1011240" y="2666880"/>
            <a:ext cx="3565440" cy="2900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11240" y="2666880"/>
                      <a:ext cx="3565440" cy="290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5" name=""/>
            <p:cNvSpPr/>
            <p:nvPr/>
          </p:nvSpPr>
          <p:spPr>
            <a:xfrm>
              <a:off x="1171440" y="2207880"/>
              <a:ext cx="33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 2006 entre compañías chil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9680" y="3124080"/>
              <a:ext cx="68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perceptibl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9680" y="35812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umenta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9680" y="4087800"/>
              <a:ext cx="6858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Se mantend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9680" y="44956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Disminuir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levem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080" y="45720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01440" y="36576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36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7920" y="32004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42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7880" y="411480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87200" y="5562720"/>
              <a:ext cx="81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DICEN QUE LA INNOVACIÓN ES MÁS PRIORITARIA QUE LO DICHO POR EMPRESA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3200" y="1492920"/>
            <a:ext cx="430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sición ocupa la innovación den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las prioridades estratégicas de su compañí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75680" y="5167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274240" y="486576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75320" y="456408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21520" y="4276800"/>
            <a:ext cx="147600" cy="152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71720" y="4259160"/>
            <a:ext cx="119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mérica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021520" y="3975120"/>
            <a:ext cx="147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75320" y="395928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3886200"/>
            <a:ext cx="1600200" cy="15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860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99120" y="48340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27800" y="4956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8680" y="4727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37280" y="48466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28840" y="29415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476600" y="3246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00240" y="27129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160" y="27892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08280" y="21034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09920" y="42670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57680" y="4191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4110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86240" y="4494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24640" y="3917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AS EMPRESAS CHILENAS ESPERAN MAYOR AUMENTO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N LA INVERSIÓN EN INNOVACIÓN QUE EL PROMEDIO GLOB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09760" y="1886040"/>
          <a:ext cx="657864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886040"/>
                    <a:ext cx="657864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53600" y="196524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58320" y="1492920"/>
            <a:ext cx="409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ración del cambio en la inversión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novación de compañías globales y chil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21520" y="51832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73520" y="51674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21520" y="4879800"/>
            <a:ext cx="147600" cy="15264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73520" y="48657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1000" y="4495680"/>
            <a:ext cx="15019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9436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41600" y="4043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798800" y="4424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322680" y="28386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79880" y="245736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789640" y="50245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37200" y="511488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6000" y="4653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7080" y="20858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021520" y="4578480"/>
            <a:ext cx="147600" cy="15228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72800" y="456408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15520" y="5913360"/>
            <a:ext cx="175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versión en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10486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LOS EJECUTIVOS CHILENOS DECLARAN MAYOR SATISFACCIÓN RESPECTO AL IMPACTO DE LA INNOVACIÓN </a:t>
            </a:r>
            <a:br>
              <a:rPr sz="2200"/>
            </a:b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QUE SUS PARES EN OTRAS REGIO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568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uestas a la pregunta: ¿Está usted satisfecho con el retorno financiero de sus inversiones en innovació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043000" y="2452680"/>
          <a:ext cx="522468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2452680"/>
                    <a:ext cx="5224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921960" y="248436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44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12040" y="575784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5840" y="5742000"/>
            <a:ext cx="14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412040" y="545472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66200" y="54403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24560" y="5334120"/>
            <a:ext cx="6001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5840" y="35514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76480" y="3429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862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0600" y="2819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4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584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7648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62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600600" y="49528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EMPRESAS USAN UNA VARIEDAD DE INDICADORES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MEDIR EL ÉXITO DE LA INNOV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04920" y="1728000"/>
            <a:ext cx="7778160" cy="4320720"/>
            <a:chOff x="304920" y="1728000"/>
            <a:chExt cx="7778160" cy="4320720"/>
          </a:xfrm>
        </p:grpSpPr>
        <p:graphicFrame>
          <p:nvGraphicFramePr>
            <p:cNvPr id="380" name=""/>
            <p:cNvGraphicFramePr/>
            <p:nvPr/>
          </p:nvGraphicFramePr>
          <p:xfrm>
            <a:off x="2411280" y="2003400"/>
            <a:ext cx="567180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003400"/>
                      <a:ext cx="567180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"/>
            <p:cNvSpPr/>
            <p:nvPr/>
          </p:nvSpPr>
          <p:spPr>
            <a:xfrm>
              <a:off x="6719400" y="586584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4720" y="1728000"/>
              <a:ext cx="52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mide su compañía el éxito en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71440" y="4029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920" y="2435400"/>
              <a:ext cx="228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atisfacción del cl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040" y="28162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úmero nvos. productos/ 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040" y="32115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rcentaje de ventas de nuevos productos/serv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1040" y="365436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recimiento total de las ve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040" y="40924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Reconocimiento pop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71440" y="43959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62160" y="36511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62200" y="3240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5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63800" y="24638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040" y="4473720"/>
              <a:ext cx="2269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recios más al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040" y="4900680"/>
              <a:ext cx="2269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27200" y="2844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6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4840" y="4824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235240"/>
            <a:ext cx="3673440" cy="26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l crecimiento orgánico a través de la innovación es esencial para el éxito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 requieren innovaciones significativas para ser un ganador en mi 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6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 globalización está teniendo un importante impacto en cómo mi compañía encar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733920" y="2057400"/>
          <a:ext cx="401292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401292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 INNOVACIÓN APARECE COMO UNA PALANCA CENTRAL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GANAR COMPETITIVIDAD EN CHILE Y EL MUN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12160" y="4106880"/>
            <a:ext cx="147600" cy="15228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265600" y="4091040"/>
            <a:ext cx="37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12160" y="3803760"/>
            <a:ext cx="147600" cy="15228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3800" y="378936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loba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3683160"/>
            <a:ext cx="1447920" cy="65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95000" y="5207040"/>
            <a:ext cx="18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 positiva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" y="6482520"/>
            <a:ext cx="446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spuestas positivas: contestadas como fuertemente de acuerdo o muy de acuer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RESULTADOS ENCUESTA A LÍDERES CHILENOS</a:t>
            </a:r>
            <a:br>
              <a:rPr sz="22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295280"/>
            <a:ext cx="3673440" cy="56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886200" y="1143000"/>
          <a:ext cx="417816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17816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RESULTADOS ENCUESTA GLOBAL BCG</a:t>
            </a:r>
            <a:br>
              <a:rPr sz="2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ntes de innov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1295280"/>
            <a:ext cx="3673440" cy="53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 apoyo a los equipos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yo del equipo de comercialización más allá del lanz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patrocinio del nivel ejecutivo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mentar una cultura que promuev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roveer suficientes fondos para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esarrollar un profundo conocimiento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Hacer cumplir los hitos de los que depende el éxito de los proyectos d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segurar la participación temprana de las principales funciones aguas aba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alancear riesgos, tiempos, y retornos de inversión del portafolio de 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overse rápidamente de la generación de la idea a la primera v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apturar ideas de sus provee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btener aportes para la innovación a través de múltiples divisiones y regiones geo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97920" y="3124080"/>
            <a:ext cx="125280" cy="130320"/>
          </a:xfrm>
          <a:prstGeom prst="rect">
            <a:avLst/>
          </a:prstGeom>
          <a:solidFill>
            <a:srgbClr val="cbd4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457840" y="1947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u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86760" y="2843280"/>
            <a:ext cx="125280" cy="128520"/>
          </a:xfrm>
          <a:prstGeom prst="rect">
            <a:avLst/>
          </a:prstGeom>
          <a:solidFill>
            <a:srgbClr val="6696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458200" y="2286000"/>
            <a:ext cx="76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97920" y="2590920"/>
            <a:ext cx="125280" cy="129960"/>
          </a:xfrm>
          <a:prstGeom prst="rect">
            <a:avLst/>
          </a:prstGeom>
          <a:solidFill>
            <a:srgbClr val="005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457840" y="246708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c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97920" y="2257560"/>
            <a:ext cx="125280" cy="1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457840" y="2766960"/>
            <a:ext cx="753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153280" y="1905120"/>
            <a:ext cx="1230480" cy="156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96120" y="2028960"/>
            <a:ext cx="125640" cy="1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505360" y="31240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886200" y="1143000"/>
          <a:ext cx="4203720" cy="56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143000"/>
                    <a:ext cx="42037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RESPUESTAS RECIBIDAS REPRESENTA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 AMPLIA GAMA DE INDUSTRI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804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cuestas envi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804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804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1804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3320" y="12157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úmero de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332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332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0800" y="139824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ond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70800" y="1674720"/>
            <a:ext cx="1104840" cy="52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70800" y="1674720"/>
            <a:ext cx="1104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70800" y="6473880"/>
            <a:ext cx="1104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9240" y="139824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2040" y="1674720"/>
            <a:ext cx="20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2040" y="6473880"/>
            <a:ext cx="2082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2040" y="1674720"/>
            <a:ext cx="213336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limentos proces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inanciera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nv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talúr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groind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ervicios púb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Pesqu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ercio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Vitivin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Combustible-Ener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Beb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Fore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Laboratorios farmacéu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IX DE EXPORTADO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44800" y="1816200"/>
          <a:ext cx="580392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4800" y="1816200"/>
                    <a:ext cx="580392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3080" y="19051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2960" y="571500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 -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89160" y="1645560"/>
            <a:ext cx="522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Qué porcentaje de sus ventas proviene de exportacion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233208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081320" y="4465800"/>
            <a:ext cx="71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604840" y="507528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76400" y="419112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1680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% -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4880" y="571500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 - 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0640" y="571500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á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51800" y="5638680"/>
            <a:ext cx="157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ventas proven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expor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3880" y="571500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76200" y="4465800"/>
            <a:ext cx="71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NOVACIÓN DEFINIDA COMO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NTE DE CREACIÓN DE VAL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1718280"/>
            <a:ext cx="8763120" cy="4320720"/>
            <a:chOff x="228600" y="1718280"/>
            <a:chExt cx="8763120" cy="4320720"/>
          </a:xfrm>
        </p:grpSpPr>
        <p:graphicFrame>
          <p:nvGraphicFramePr>
            <p:cNvPr id="186" name=""/>
            <p:cNvGraphicFramePr/>
            <p:nvPr/>
          </p:nvGraphicFramePr>
          <p:xfrm>
            <a:off x="3319560" y="19936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560" y="19936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7627680" y="58561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83000" y="1718280"/>
              <a:ext cx="528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Cómo definiría usted la innovación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16480" y="2635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49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71880" y="30924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1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05000" y="3625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0" y="41590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0" y="4616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" y="2460600"/>
              <a:ext cx="3352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onvertir conocimiento en valor para la empresa y sus clie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2939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nuevos conocimientos y/o aplicarlos para crear valor para la socie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347184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ejorar productos y procesos productivos a través de la incorporación de nuevas tecnolog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" y="4082760"/>
              <a:ext cx="335268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enerar nuevos conocimi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" y="4464000"/>
              <a:ext cx="33526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acer las cosas de una manera distinta generando mejoras, no necesariamente pasa por usar tecnologí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60120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DUCACIÓN E INNOVACIÓN PERCIBIDAS COMO LAS PRINCIPALES PALANCAS PARA IMPULSAR EL DESARROLLO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330200" y="1706040"/>
            <a:ext cx="6946920" cy="4349160"/>
            <a:chOff x="1330200" y="1706040"/>
            <a:chExt cx="6946920" cy="4349160"/>
          </a:xfrm>
        </p:grpSpPr>
        <p:graphicFrame>
          <p:nvGraphicFramePr>
            <p:cNvPr id="202" name=""/>
            <p:cNvGraphicFramePr/>
            <p:nvPr/>
          </p:nvGraphicFramePr>
          <p:xfrm>
            <a:off x="2604960" y="2009880"/>
            <a:ext cx="5672160" cy="3835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04960" y="2009880"/>
                      <a:ext cx="5672160" cy="383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141680" y="587232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% respues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90320" y="1706040"/>
              <a:ext cx="32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ulsores del desarrollo para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61040" y="47703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200" y="2514600"/>
              <a:ext cx="1490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edu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0200" y="29113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n innov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0200" y="336852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quilibrio macroeconóm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0200" y="3809880"/>
              <a:ext cx="1478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extranj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0200" y="41911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uevos tratados de libre comer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30200" y="4648320"/>
              <a:ext cx="14781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nversión chilena en el ex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6480" y="4324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2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78040" y="38862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4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080" y="34290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73480" y="29718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3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07000" y="251460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593640"/>
            <a:ext cx="883944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FUERTE PERCEPCIÓN DE LA INNOVACIÓN COMO PILAR DEL DESARROLLO, DADA LA VOLATILIDAD DEL DÓLAR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373480" y="2009880"/>
          <a:ext cx="567180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2009880"/>
                    <a:ext cx="567180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6681240" y="5715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% respue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1521360"/>
            <a:ext cx="597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de mayor impacto en el desarrollo y crecimiento del país dada la volatilidad del precio del dó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4120" y="2590920"/>
            <a:ext cx="190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novación para desarrollar productos de 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040" y="32767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tención de costos por parte de export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040" y="396252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tervención del tipo de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040" y="4572000"/>
            <a:ext cx="18860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as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3800" y="335268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45720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07040" y="272880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59080" y="39625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PERCEPCIONES LOCAL Y GLOBAL DE LAS COMPAÑÍAS MÁS INNOVADORAS SON SIMILA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880600"/>
            <a:ext cx="5029200" cy="58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sector tecnológico es considerado el más innovador a nivel mu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976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l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76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s más innovadoras del mundo de acuerdo encuesta global de B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16135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mpañía más innovadoras del mundo de acuerdo a encuesta a líderes chile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976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2800" y="2133720"/>
            <a:ext cx="424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22800" y="2133720"/>
            <a:ext cx="424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pl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ony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tel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CTORES PERCIBIDOS COMO MÁS INNOVADORES EN CHI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826640"/>
            <a:ext cx="21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2133720"/>
            <a:ext cx="21160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6040" y="1190520"/>
            <a:ext cx="8953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úmer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604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0" y="1403280"/>
            <a:ext cx="895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n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03600" y="2133720"/>
            <a:ext cx="89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02160" y="2133720"/>
            <a:ext cx="895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72000" y="1826640"/>
            <a:ext cx="4799880" cy="2108880"/>
            <a:chOff x="4572000" y="1826640"/>
            <a:chExt cx="4799880" cy="2108880"/>
          </a:xfrm>
        </p:grpSpPr>
        <p:sp>
          <p:nvSpPr>
            <p:cNvPr id="250" name=""/>
            <p:cNvSpPr/>
            <p:nvPr/>
          </p:nvSpPr>
          <p:spPr>
            <a:xfrm>
              <a:off x="4572000" y="1826640"/>
              <a:ext cx="47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jemplos de empresas nomb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0" y="2133720"/>
              <a:ext cx="479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2133720"/>
              <a:ext cx="479988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ntel, V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grosuper, Soprole, Salmon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encosud, Falabella, Casa &amp; Ideas, Sodim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Banco BCI, Banco Santander Santia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delco, Cop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onda, Fundación Chile, Constructora Aconcagua, Gerdau Aza, Invert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GUNAS CITAS RESPECTO A LA RAZÓN DE LA ELECCI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 EMPRESA CHILENA MÁS INNOVADOR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65520" y="14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857240"/>
            <a:ext cx="211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2133720"/>
            <a:ext cx="211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2133720"/>
            <a:ext cx="211608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lecomunic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ducción de ali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inanc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1" lang="es-E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0080" y="1857240"/>
            <a:ext cx="69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azones Mencion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40080" y="2133720"/>
            <a:ext cx="698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133720"/>
            <a:ext cx="6988320" cy="35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el: fue capaz de reconvertirse completamente y ha mantenido el liderazgo en una industria muy compet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grosuper: con un constante crecimiento aplicando procesos innovadores y tecnología de pu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sa &amp; Ideas: generó una nueva experiencia de compra en el tema ho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encosud: ha liderado el desarrollo del retail adelantándose al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CI: por la capacidad de ofrecer nuevos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pec: se ha reinventado año tras año, manteniendo un perfil de empresa cuidadosa pero ág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delco: ha logrado innovar sus procesos productivos, logrando reducir costos y aumentar la 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undación Chile: investiga, desarrolla y aplica, gran ap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onda: continuamente líder en su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tructora Aconcagua: por revolucionar el modelo de construcción de viviendas e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9160" y="6482520"/>
            <a:ext cx="4628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76040" indent="-176040">
              <a:buClr>
                <a:srgbClr val="000000"/>
              </a:buClr>
              <a:buFont typeface="Arial"/>
              <a:buAutoNum type="arabicParenR"/>
              <a:tabLst>
                <a:tab algn="l" pos="33984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cluye compañías de los  sectores tecnología, construcción, metalúrgico y consultorí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3:44:06Z</dcterms:created>
  <dc:creator>alamos pedro</dc:creator>
  <dc:description/>
  <dc:language>en-US</dc:language>
  <cp:lastModifiedBy>Jorge Lara</cp:lastModifiedBy>
  <dcterms:modified xsi:type="dcterms:W3CDTF">2007-07-13T03:19:25Z</dcterms:modified>
  <cp:revision>129</cp:revision>
  <dc:subject/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20041127</vt:lpwstr>
  </property>
</Properties>
</file>