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8F1-0E47-4193-AA1B-FC6BB521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3D0-6EBD-47B0-BA6C-366FD2C6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90E-51BF-457E-9DB9-CB452E97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A54-AA4E-49A6-AB2D-9CDE6A33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A27-F682-4278-88A9-F210AE08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531-7FE8-4753-B0CE-718584D4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3B2-396F-4904-BC6F-DC77CF0D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60B-F964-469E-9765-DB7FBFF2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E4A-E731-495E-BAA9-10270F3B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DAE-5509-46FE-B838-3C816A79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E54-D2BE-49C9-8EEB-82C23921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28B-D376-47C5-BE59-F7C3A9CD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1B26-5E8B-4C2E-8A52-190DC9FF95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mente los clientes de empresas de telefonía móvil, de todas las maneras posibles que se le ocurra, independiente de si el micro segmento tendrá o no masa crítica para que se justifique atend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sicione a Iquique como lugar tur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es dueño de una empresa, y ha decidido internacionalizar sus operaciones dentro de Sud América. Indique las variables que considerará y las alternativas estratégicas que prevé le darían mayores 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7-06-25T01:27:33Z</dcterms:modified>
  <cp:revision>12</cp:revision>
  <dc:subject/>
  <dc:title>Dirección de Marketing</dc:title>
</cp:coreProperties>
</file>