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2176-BA68-4949-86CF-0B5FDD86F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D7F6-F053-4A7A-9179-74E9A918E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7CA6-59A2-4CF7-BE3C-E02D572AF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7C82-2A68-433A-804E-23DC14F63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5ED3-0763-4E08-89DD-05F442E4E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EF45-8315-433D-B73C-07065AC8D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91F2-A20D-4C09-B083-E0EB26A8A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E152-3E5A-4A11-8618-F525E4A46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60DA-DC30-4E7B-B43B-BADF3A5BD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4E46-10DC-4257-9EED-89EFB17B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ED1C-F64E-4258-AD1B-6D774BB8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47F0-297D-4186-84C3-8FE5A643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A3DF4-CF13-4221-A01F-6E11EB16392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443640" y="4797360"/>
            <a:ext cx="2484360" cy="1871640"/>
            <a:chOff x="6443640" y="4797360"/>
            <a:chExt cx="2484360" cy="187164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7651800" y="5034960"/>
              <a:ext cx="970200" cy="15505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43" name=""/>
            <p:cNvGraphicFramePr/>
            <p:nvPr/>
          </p:nvGraphicFramePr>
          <p:xfrm>
            <a:off x="6443640" y="4797360"/>
            <a:ext cx="2484360" cy="1871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43640" y="4797360"/>
                      <a:ext cx="2484360" cy="187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623736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rección de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124000" y="6618240"/>
            <a:ext cx="64008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0"/>
            <a:ext cx="7777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TP #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2920" y="476280"/>
            <a:ext cx="6696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gmente los clientes de empresas de telefonía móvil, de todas las maneras posibles que se le ocurra, independiente de si el micro segmento tendrá o no masa crítica para que se justifique atender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osicione a Iquique como lugar turíst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Ud. es dueño de una empresa, y ha decidido internacionalizar sus operaciones dentro de Sud América. Indique las variables que considerará y las alternativas estratégicas que prevé le darían mayores ventajas competiti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Nota: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explicite los supuestos que utilizó para su anál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7T23:37:57Z</dcterms:created>
  <dc:creator>Jorge Lara</dc:creator>
  <dc:description/>
  <dc:language>en-US</dc:language>
  <cp:lastModifiedBy>Jorge Lara</cp:lastModifiedBy>
  <dcterms:modified xsi:type="dcterms:W3CDTF">2007-06-25T01:27:33Z</dcterms:modified>
  <cp:revision>12</cp:revision>
  <dc:subject/>
  <dc:title>Dirección de Marketing</dc:title>
</cp:coreProperties>
</file>