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112-A0A3-4379-8452-E0A55674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10AC-53C1-4F29-B83F-93E82F2C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523-A3C3-4615-B07F-3EECAB970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4A7-3F3E-4CF8-B7F6-C9A8E1D3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FB7-0879-4CDA-AF28-4D02C40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964-F91A-4DBC-AD70-C55731FB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4CC-CB8F-4705-8936-75480E88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E59-67AA-40A6-B790-0F2C6255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CB46-4C10-4D1A-A5C6-1233FDA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CCD-A731-4A46-95B9-BDCB6E83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4B7-1D48-48DB-A266-B2E41598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EF1-24D6-409B-AA78-749AA419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F893-2759-442E-85C5-061F47FFE4B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43640" y="4797360"/>
            <a:ext cx="2484360" cy="1871640"/>
            <a:chOff x="6443640" y="4797360"/>
            <a:chExt cx="2484360" cy="18716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51800" y="5034960"/>
              <a:ext cx="970200" cy="15505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3" name=""/>
            <p:cNvGraphicFramePr/>
            <p:nvPr/>
          </p:nvGraphicFramePr>
          <p:xfrm>
            <a:off x="6443640" y="4797360"/>
            <a:ext cx="2484360" cy="1871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43640" y="4797360"/>
                      <a:ext cx="2484360" cy="1871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623736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ción de Mark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124000" y="6618240"/>
            <a:ext cx="64008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0"/>
            <a:ext cx="7777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TP #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6696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gmente los clientes de empresas de telefonía móvil, de todas las maneras posibles que se le ocurra, independiente de si el micro segmento tendrá o no masa crítica para que se justifique atende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sicione a Iquique como lugar turíst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d. es dueño de una empresa, y ha decidido internacionalizar sus operaciones dentro de Sud América. Indique las variables que considerará y las alternativas estratégicas que prevé le darían mayores ventaj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ota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xplicite los supuestos que utilizó para su anál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23:37:57Z</dcterms:created>
  <dc:creator>Jorge Lara</dc:creator>
  <dc:description/>
  <dc:language>en-US</dc:language>
  <cp:lastModifiedBy>Jorge Lara</cp:lastModifiedBy>
  <dcterms:modified xsi:type="dcterms:W3CDTF">2007-06-25T01:27:33Z</dcterms:modified>
  <cp:revision>12</cp:revision>
  <dc:subject/>
  <dc:title>Dirección de Marketing</dc:title>
</cp:coreProperties>
</file>