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630-E825-4CCF-A3C8-C9D9C3F2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A704-5791-421F-BF23-3C266CD6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D04-523B-48AA-973D-4AE788A9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6019-BDE3-48A0-B19B-40F1CFBE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631-0B5A-4E36-A16F-51024332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896D-0D73-4191-9E60-889445D6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A0F-463C-4D06-ABCA-C15A8718C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D77A-B4D3-4BB3-AA99-3C5E8AA7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B44-6AF4-4D2F-B883-07D5FE63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213-4E3D-47FA-B238-40B2B4F0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354-F79A-4E50-9D73-5E394503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3349-8E44-4A46-A0A9-187897A0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694D-C33D-4BCF-A0DE-EC421960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nálisis estratégico de un plan de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clarativo: 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álisis realizado: entorno, mercado, competidor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 fij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mplementación: uso de herramientas de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sultados no sólo en términos del bottom line, sino que también del trabajo en equipo, y del proceso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5T01:26:18Z</dcterms:created>
  <dc:creator>Jorge Lara</dc:creator>
  <dc:description/>
  <dc:language>en-US</dc:language>
  <cp:lastModifiedBy>Jorge Lara</cp:lastModifiedBy>
  <dcterms:modified xsi:type="dcterms:W3CDTF">2007-06-25T01:26:53Z</dcterms:modified>
  <cp:revision>1</cp:revision>
  <dc:subject/>
  <dc:title>Análisis estratégico de un plan de marketing</dc:title>
</cp:coreProperties>
</file>