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D54D-388A-48C7-B3A0-6E12B3A7C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CDA3-835D-4F97-9A13-4307ADE7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74C7-2CF7-45C5-BC82-56EC77FB1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F7D8-B10A-4C61-872B-C0200607C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9BAB-EC07-427C-9092-04C01C45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C774-0C5B-4CF1-A97B-DBE0B0CA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3BF4-77C4-4DE8-BB09-127E7C06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7686-4A4E-467B-AD41-EDB7FD1D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B40F-DBAB-44BC-92E6-691AD646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4139-7271-4575-8734-572B5888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B27F-1131-4CEE-A0BE-67C6F2F2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7178-6F3C-4BD4-99F1-12F02787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586D-ACF7-4930-86CC-2A2BE959503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443640" y="4797360"/>
            <a:ext cx="2484360" cy="1871640"/>
            <a:chOff x="6443640" y="4797360"/>
            <a:chExt cx="2484360" cy="18716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7651800" y="5034960"/>
              <a:ext cx="970200" cy="15505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3" name=""/>
            <p:cNvGraphicFramePr/>
            <p:nvPr/>
          </p:nvGraphicFramePr>
          <p:xfrm>
            <a:off x="6443640" y="4797360"/>
            <a:ext cx="2484360" cy="1871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43640" y="4797360"/>
                      <a:ext cx="2484360" cy="18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623736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ció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124000" y="661824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0"/>
            <a:ext cx="7777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TP #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476280"/>
            <a:ext cx="6696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gmente los clientes de empresas de telefonía móvil, de todas las maneras posibles que se le ocurra, independiente de si el micro segmento tendrá o no masa crítica para que se justifique atende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osicione a Iquique como lugar turís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d. es dueño de una empresa, y ha decidido internacionalizar sus operaciones dentro de Sud América. Indique las variables que considerará y las alternativas estratégicas que prevé le darían mayores ventajas competi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Nota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explicite los supuestos que utilizó para su aná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23:37:57Z</dcterms:created>
  <dc:creator>Jorge Lara</dc:creator>
  <dc:description/>
  <dc:language>en-US</dc:language>
  <cp:lastModifiedBy>Jorge Lara</cp:lastModifiedBy>
  <dcterms:modified xsi:type="dcterms:W3CDTF">2007-06-25T01:27:33Z</dcterms:modified>
  <cp:revision>12</cp:revision>
  <dc:subject/>
  <dc:title>Dirección de Marketing</dc:title>
</cp:coreProperties>
</file>