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EAF-047F-43CC-89B0-F2B9820E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1DA4-6474-4FD3-A750-86E20CE9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526-DCDE-435F-A694-BE60AFAE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043-8D64-40B4-BAD5-B8A86CF1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00F-CEF3-4861-825B-D7D0C6BB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2F68-94F5-47DF-90D9-28DD6575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63F-70DE-4530-B649-A93A5C54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DEE-7E9E-4783-8042-A52DA399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A64-1EF2-475F-82D4-0EFAD32E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4DB-26E9-420B-9420-32F7C611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018-4966-4A1B-8662-EF16707D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BD4-C72A-4D6D-84B2-7146D03C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3B59-077A-499B-9B40-B6097E98C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nálisis estratégico de un plan de mark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clarativo: 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álisis realizado: entorno, mercado, competidor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 fij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mplementación: uso de herramientas d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sultados no sólo en términos del bottom line, sino que también del trabajo en equipo, y del proceso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1:26:18Z</dcterms:created>
  <dc:creator>Jorge Lara</dc:creator>
  <dc:description/>
  <dc:language>en-US</dc:language>
  <cp:lastModifiedBy>Jorge Lara</cp:lastModifiedBy>
  <dcterms:modified xsi:type="dcterms:W3CDTF">2007-06-25T01:26:53Z</dcterms:modified>
  <cp:revision>1</cp:revision>
  <dc:subject/>
  <dc:title>Análisis estratégico de un plan de marketing</dc:title>
</cp:coreProperties>
</file>