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F60B-F11C-4C59-B158-3FB40B2E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A51-4D7D-4546-86B7-A48F0818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22AB-7588-400D-87EB-2C7E063F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7814-9FF9-41C5-9859-13A24891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5B9-0762-4ED4-8EE5-9B34578A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225-9721-4A0A-ACE6-A720C789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664-0A8D-4849-833A-FF12D298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4BD-96E5-4AA9-B87A-1D103F77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083-3527-4EB5-B80E-D5C48693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9C50-29EF-4B09-AF7A-59436B10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A4AC-CF58-4131-9244-9157C19C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326-5411-47F1-8F1D-B8D69D0A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070C-1396-4CA8-8B93-7A5125A28E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4797360"/>
            <a:ext cx="2484360" cy="1871640"/>
            <a:chOff x="6443640" y="4797360"/>
            <a:chExt cx="2484360" cy="1871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651800" y="5034960"/>
              <a:ext cx="970200" cy="15505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6443640" y="4797360"/>
            <a:ext cx="2484360" cy="187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43640" y="4797360"/>
                      <a:ext cx="24843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23736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24000" y="661824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TP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6696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gmente los clientes de empresas de telefonía móvil, de todas las maneras posibles que se le ocurra, independiente de si el micro segmento tendrá o no masa crítica para que se justifique atend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sicione a Iquique como lugar turí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. es dueño de una empresa, y ha decidido internacionalizar sus operaciones dentro de Sud América. Indique las variables que considerará y las alternativas estratégicas que prevé le darían mayores 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ota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xplicite los supuestos que utilizó para su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3:37:57Z</dcterms:created>
  <dc:creator>Jorge Lara</dc:creator>
  <dc:description/>
  <dc:language>en-US</dc:language>
  <cp:lastModifiedBy>Jorge Lara</cp:lastModifiedBy>
  <dcterms:modified xsi:type="dcterms:W3CDTF">2007-06-25T01:27:33Z</dcterms:modified>
  <cp:revision>12</cp:revision>
  <dc:subject/>
  <dc:title>Dirección de Marketing</dc:title>
</cp:coreProperties>
</file>