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898-E330-4EC7-8C90-B91ABD4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30E-8F94-46F5-B2B4-704008A9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EB1-8873-4321-AC51-182F3562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59F-E925-44CD-AC78-AF7E28AC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A68-EB48-41E2-A7A8-4FA4424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C8E-2BD1-41DF-8BE0-1636F550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1C3-1233-406B-842E-EBFE761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F28-0770-43C0-94EB-73B0F20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23E-0C21-44F4-8BBC-6EE76C1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24D-583A-45E8-8442-9F03817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78F-A236-47B6-8A1E-DE83F32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E75-320C-43FA-A010-89098C08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188F-FDCD-4653-8210-8CBAA6D9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nálisis estratégico de un plan de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clarativo: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realizado: entorno, mercado, competido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 fij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lementación: uso de herramienta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ultados no sólo en términos del bottom line, sino que también del trabajo en equipo, y d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1:26:18Z</dcterms:created>
  <dc:creator>Jorge Lara</dc:creator>
  <dc:description/>
  <dc:language>en-US</dc:language>
  <cp:lastModifiedBy>Jorge Lara</cp:lastModifiedBy>
  <dcterms:modified xsi:type="dcterms:W3CDTF">2007-06-25T01:26:53Z</dcterms:modified>
  <cp:revision>1</cp:revision>
  <dc:subject/>
  <dc:title>Análisis estratégico de un plan de marketing</dc:title>
</cp:coreProperties>
</file>