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EAE-9B3D-40A1-9E78-F046D733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261-DD8F-4544-80DC-813BD5A6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319-44FA-40D5-ACDB-B8BB272E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486-A595-4D70-980C-1127C852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1763-33C8-4284-9E24-05CAE1A8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FDF-7165-4AF3-9274-E5032E0E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6E2-9733-4460-B79D-D8876122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3F6-63EC-46EB-BCB5-7AA98ECD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D57-3F89-4F5B-934D-909B4FBE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1E2-E45F-4478-A7AB-5303A15F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89D-0237-44E4-851E-345E76AF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7B0-1AFC-4B71-8378-B1CB59B4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7392-1CA0-4EDA-B7DB-8070FB9A4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nálisis estratégico de un plan de 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clarativo: 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álisis realizado: entorno, mercado, competido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 fij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mplementación: uso de herramientas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sultados no sólo en términos del bottom line, sino que también del trabajo en equipo, y del proceso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1:26:18Z</dcterms:created>
  <dc:creator>Jorge Lara</dc:creator>
  <dc:description/>
  <dc:language>en-US</dc:language>
  <cp:lastModifiedBy>Jorge Lara</cp:lastModifiedBy>
  <dcterms:modified xsi:type="dcterms:W3CDTF">2007-06-25T01:26:53Z</dcterms:modified>
  <cp:revision>1</cp:revision>
  <dc:subject/>
  <dc:title>Análisis estratégico de un plan de marketing</dc:title>
</cp:coreProperties>
</file>