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9EF-22F6-4F31-BA48-3DCA6BFD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300-550B-40A8-87E6-6595D002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64F-CA25-41D4-A259-8665D981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F1F-B4D2-4933-B30B-B7C72AC0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ACB-FEC7-4142-85AC-3738950C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C3C-F3C8-416A-A2CB-14475F5F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DFC-00B8-4121-A9C3-02843B29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59E4-EF9A-4CC1-8A3E-F55AEB3B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FB5-C47F-435C-95D0-23C455FA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F28-1DD3-4393-AD21-B78B25F2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D20-7B8B-44F5-A6F9-54FFD83C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E53C-D621-43AD-9E31-60478570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88DD-A04E-4082-AC43-9AFCA83E214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mente los clientes de empresas de telefonía móvil, de todas las maneras posibles que se le ocurra, independiente de si el micro segmento tendrá o no masa crítica para que se justifique atend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 a Iquique como lugar tur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es dueño de una empresa, y ha decidido internacionalizar sus operaciones dentro de Sud América. Indique las variables que considerará y las alternativas estratégicas que prevé le darían mayore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7-06-25T01:27:33Z</dcterms:modified>
  <cp:revision>12</cp:revision>
  <dc:subject/>
  <dc:title>Dirección de Marketing</dc:title>
</cp:coreProperties>
</file>