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48B-2CAF-4FD7-9F6A-CD056786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434-DEAD-4ED2-B120-36608CD1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367-AAE2-4987-A2ED-B65C8BFA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36B-7698-4B85-9670-67B4F116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B7C-12DE-4521-9446-F54AC71F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EC5-B31D-43E2-9FDE-7B2B798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3B9-B135-4A6B-BABE-D608622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C38-BF22-497C-82F9-5B0D46D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F6-8E27-47CC-AB48-34C5E80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D6F-0ADA-4B42-87A6-D1857806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B3B-CB4D-4AC0-A492-90C326F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09F-020F-4A4F-80D2-C36D75A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6C4-1E91-4B0D-9C8D-D31F5F7F4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nálisis estratégico de un plan de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clarativo: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realizado: entorno, mercado, competido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 fij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lementación: uso de herramienta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ultados no sólo en términos del bottom line, sino que también del trabajo en equipo, y d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1:26:18Z</dcterms:created>
  <dc:creator>Jorge Lara</dc:creator>
  <dc:description/>
  <dc:language>en-US</dc:language>
  <cp:lastModifiedBy>Jorge Lara</cp:lastModifiedBy>
  <dcterms:modified xsi:type="dcterms:W3CDTF">2007-06-25T01:26:53Z</dcterms:modified>
  <cp:revision>1</cp:revision>
  <dc:subject/>
  <dc:title>Análisis estratégico de un plan de marketing</dc:title>
</cp:coreProperties>
</file>