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E8F-B939-4ED5-8C2F-4E9F26CB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F75-4C07-4B89-8BB0-B94908FB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917-8E1B-472E-A6BE-E9987168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9577-67DA-4ABA-89AC-D1F0B212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625D-974E-4DB7-A7F5-D9BBD581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232-DD13-4802-9352-1F10B5DC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AAED-0F38-4128-A0B5-3F773C2D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D97-4AD1-4D64-976B-EB01C7BD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69FE-873C-4146-9FDC-C7DE673D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DF2-3EFA-4B7A-8CFC-9D3A4FC2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DC6-B6E5-4B40-B7B0-26F55F46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CFD-090F-43E1-8A9B-1891544C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518A-57E4-473D-9B60-F787CC7436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4797360"/>
            <a:ext cx="2484360" cy="1871640"/>
            <a:chOff x="6443640" y="4797360"/>
            <a:chExt cx="2484360" cy="1871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651800" y="5034960"/>
              <a:ext cx="970200" cy="15505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6443640" y="4797360"/>
            <a:ext cx="2484360" cy="187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43640" y="4797360"/>
                      <a:ext cx="24843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23736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24000" y="661824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TP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6696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gmente los clientes de empresas de telefonía móvil, de todas las maneras posibles que se le ocurra, independiente de si el micro segmento tendrá o no masa crítica para que se justifique atend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sicione a Iquique como lugar turí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. es dueño de una empresa, y ha decidido internacionalizar sus operaciones dentro de Sud América. Indique las variables que considerará y las alternativas estratégicas que prevé le darían mayores 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ota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xplicite los supuestos que utilizó para su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3:37:57Z</dcterms:created>
  <dc:creator>Jorge Lara</dc:creator>
  <dc:description/>
  <dc:language>en-US</dc:language>
  <cp:lastModifiedBy>Jorge Lara</cp:lastModifiedBy>
  <dcterms:modified xsi:type="dcterms:W3CDTF">2007-06-25T01:27:33Z</dcterms:modified>
  <cp:revision>12</cp:revision>
  <dc:subject/>
  <dc:title>Dirección de Marketing</dc:title>
</cp:coreProperties>
</file>