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AC68-E5AF-44C3-8E79-DE9CC2A0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9B1F-1674-485C-9F04-C047F8E9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10E-DEDD-4047-B42A-611D00CD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180-F3A4-4F46-B594-E7EE2DDF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4D3D-A0C7-44F9-976D-7155CDB6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CDC-8A7E-424C-825E-A55E3B29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DCA8-7E56-473D-841F-3797C3AC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9032-95B9-40FD-B8FD-F596EE44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4A0A-A8B9-444E-A48D-C8AABF06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7703-565F-44C2-B2C5-94D0FD48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265-B460-4303-B5D5-45069E53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6B1-E920-4294-8955-CD338FD3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820A-C32D-44C8-88FA-08C597D5E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77080" y="4508640"/>
            <a:ext cx="2266920" cy="1512720"/>
            <a:chOff x="6877080" y="4508640"/>
            <a:chExt cx="2266920" cy="15127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979400" y="4700520"/>
              <a:ext cx="885240" cy="1253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" name=""/>
            <p:cNvGraphicFramePr/>
            <p:nvPr/>
          </p:nvGraphicFramePr>
          <p:xfrm>
            <a:off x="6877080" y="4508640"/>
            <a:ext cx="2266920" cy="1512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77080" y="4508640"/>
                      <a:ext cx="2266920" cy="151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580500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60280"/>
            <a:ext cx="7777080" cy="48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TP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ga un análisis del comportamiento de los clientes de su empresa que le sea útil para su Plan de Marke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que el contexto y explique los factores que influyen en el comport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ga los supuestos que requi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usar sus apu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3:37:57Z</dcterms:created>
  <dc:creator>Jorge Lara</dc:creator>
  <dc:description/>
  <dc:language>en-US</dc:language>
  <cp:lastModifiedBy>William Young</cp:lastModifiedBy>
  <dcterms:modified xsi:type="dcterms:W3CDTF">2007-05-26T17:55:20Z</dcterms:modified>
  <cp:revision>9</cp:revision>
  <dc:subject/>
  <dc:title>Dirección de Marketing</dc:title>
</cp:coreProperties>
</file>