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F4168-CB0C-444F-8510-762F63739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DE76C-BD58-491B-8BDB-E14585139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A5A6A-AE84-4F8A-80DA-75DB1D24D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C03C5-1852-4460-BF99-20EB4032E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959F6-C1FF-4F28-B795-400FB4DD6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26A1E-E60B-4D9F-A75B-A41194AF4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20263-A974-4ECD-B32E-F19234BC7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DF2F4-9599-469C-AE8A-2F428BE5F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507B7-C256-4A15-A5EC-190D10D37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9237B-3A4C-4916-84E1-55522A624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52235-6BB5-4DD8-B543-E5DDB112D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C099C-3C83-4461-A41A-3E4B100A7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E0CC8-56C4-436F-9E8D-AB21A23D0E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877080" y="4508640"/>
            <a:ext cx="2266920" cy="1512720"/>
            <a:chOff x="6877080" y="4508640"/>
            <a:chExt cx="2266920" cy="1512720"/>
          </a:xfrm>
        </p:grpSpPr>
        <p:pic>
          <p:nvPicPr>
            <p:cNvPr id="42" name="" descr=""/>
            <p:cNvPicPr/>
            <p:nvPr/>
          </p:nvPicPr>
          <p:blipFill>
            <a:blip r:embed="rId1"/>
            <a:stretch/>
          </p:blipFill>
          <p:spPr>
            <a:xfrm>
              <a:off x="7979400" y="4700520"/>
              <a:ext cx="885240" cy="125316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43" name=""/>
            <p:cNvGraphicFramePr/>
            <p:nvPr/>
          </p:nvGraphicFramePr>
          <p:xfrm>
            <a:off x="6877080" y="4508640"/>
            <a:ext cx="2266920" cy="15127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4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6877080" y="4508640"/>
                      <a:ext cx="2266920" cy="1512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-360" y="5805000"/>
            <a:ext cx="7086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rección de Mark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2209680" y="6095880"/>
            <a:ext cx="640080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24000" y="260280"/>
            <a:ext cx="7777080" cy="48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TP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ga un análisis del comportamiento de los clientes de su empresa que le sea útil para su Plan de Marketin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ique el contexto y explique los factores que influyen en el comportamien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ga los supuestos que requier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ede usar sus apun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7T23:37:57Z</dcterms:created>
  <dc:creator>Jorge Lara</dc:creator>
  <dc:description/>
  <dc:language>en-US</dc:language>
  <cp:lastModifiedBy>William Young</cp:lastModifiedBy>
  <dcterms:modified xsi:type="dcterms:W3CDTF">2007-05-26T17:55:20Z</dcterms:modified>
  <cp:revision>9</cp:revision>
  <dc:subject/>
  <dc:title>Dirección de Marketing</dc:title>
</cp:coreProperties>
</file>