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B2E-DF9C-4CCD-92A0-01CE1E39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819-0B92-4331-881C-9CA9EEBC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3A8-C263-4C17-9172-A23A7B6A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643-5E79-4614-8C89-0BDBEE15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F8E-8E7E-421A-9E46-7131D66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6C7-50E0-4FCC-928C-4D9608E0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89E-B783-48FA-A7CC-9A5F0B51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B60-B45B-48C4-9EDF-9E511833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758-850A-4117-A286-59E6AAB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F2F-6EFC-4363-ACFF-378C2223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DEB-B276-4C03-A112-5B9FD934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B6B-C5EF-4167-AEA5-70475C0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683E-E623-41F1-A8F7-0B3D685C6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77080" y="4508640"/>
            <a:ext cx="2266920" cy="1512720"/>
            <a:chOff x="6877080" y="4508640"/>
            <a:chExt cx="2266920" cy="15127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979400" y="4700520"/>
              <a:ext cx="885240" cy="1253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877080" y="4508640"/>
            <a:ext cx="2266920" cy="1512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77080" y="4508640"/>
                      <a:ext cx="2266920" cy="15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580500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60280"/>
            <a:ext cx="7777080" cy="48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P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a un análisis del comportamiento de los clientes de su empresa que le sea útil para su Plan de Marke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que el contexto y explique los factores que influyen en el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a los supuestos que re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usar sus apu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William Young</cp:lastModifiedBy>
  <dcterms:modified xsi:type="dcterms:W3CDTF">2007-05-26T17:55:20Z</dcterms:modified>
  <cp:revision>9</cp:revision>
  <dc:subject/>
  <dc:title>Dirección de Marketing</dc:title>
</cp:coreProperties>
</file>