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E62-A634-401A-9B61-94155FF3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D9D-2C11-4429-B966-9D9B43B2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548-39A7-438C-B9BF-A196058E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A1A-1C75-42FE-8A1D-839ED0FD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E4C-EDA6-4B33-B037-2BCB2641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1D6-6E45-4780-AFF9-79FBB9F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95F-56B0-49F2-9497-937AEA75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835-922A-46C6-8ACB-05806E6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527-4EF0-4AB6-87FD-617A0ADA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115-633A-4A57-8F58-FB47645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1F8-38D8-4FE9-A0F0-E1FAB12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BAC-508B-407E-BB97-621A91E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90D7-FAAA-41D1-B487-E410EF50C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77080" y="4508640"/>
            <a:ext cx="2266920" cy="1512720"/>
            <a:chOff x="6877080" y="4508640"/>
            <a:chExt cx="2266920" cy="1512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979400" y="4700520"/>
              <a:ext cx="885240" cy="1253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877080" y="4508640"/>
            <a:ext cx="2266920" cy="151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77080" y="4508640"/>
                      <a:ext cx="2266920" cy="15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80500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60280"/>
            <a:ext cx="777708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P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un análisis del comportamiento de los clientes de su empresa que le sea útil para su Plan d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que el contexto y explique los factores que influyen en el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los supuestos que re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usar sus apu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William Young</cp:lastModifiedBy>
  <dcterms:modified xsi:type="dcterms:W3CDTF">2007-05-26T17:55:20Z</dcterms:modified>
  <cp:revision>9</cp:revision>
  <dc:subject/>
  <dc:title>Dirección de Marketing</dc:title>
</cp:coreProperties>
</file>