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9378E-6B99-40DE-8EDE-783C2297F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B40897-BE9D-414E-A8D3-98D62903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9C25A-C15C-4290-87B8-3A62050A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AA9BE-78F4-4EEF-AADD-933F7148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78A6FB-C3AD-49A8-897C-CE4DDA5D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E6163F-63C5-4F29-950B-077C0B0A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C073D9-1EFA-4B7B-8218-9C4AF838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9F590-8875-4C4E-A489-984E8A49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FEDFD-EBBE-49C3-B216-52B33F3E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98D14-5836-4079-B1B9-DF9909EE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AB121-E55A-486C-9737-78117AA54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09E78-A827-4F9B-884A-0F11431E0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280" y="6244920"/>
            <a:ext cx="7993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esarrollo y Evaluación de Negocios                                Otoño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860D-CDCD-4A6C-9A24-F97A9689D3F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Estructura de las Presentacion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69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iseño y Evaluación de Negocios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imera Present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502920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o de Negocio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en general, identificando variables relevant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5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duct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5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5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5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lient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5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clusiones de Porter (competidores, productos alternativos, provee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5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clusiones del análisis interno y externo (FOD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5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amaño del negocio (p*q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5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nálisis de entorn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5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Qué necesita saber? ¿Qué voy a pregunta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5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Verdana"/>
              </a:rPr>
              <a:t>Escuch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egunda Present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7967520" cy="533412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o de Negocio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Verdana"/>
              </a:rPr>
              <a:t>con datos duros para las variables relevante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duct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estándares, oportunidad, materiales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ercado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localización, participación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ecio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disposición a pagar, elasticidad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liente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¿Quién(es) paga(n)?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etidores, productos alternativos, proveedores, etc.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todo lo relevante de Porte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13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organización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quienes, donde, que cuesta, que aportan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actores críticos éxito/fraca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trategia de desarrollo del negoc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amaño del negocio (p*q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cc"/>
                </a:solidFill>
                <a:latin typeface="Verdana"/>
              </a:rPr>
              <a:t>Escuche y Defi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Resultados Final 2a Etapa y 2o infor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7967520" cy="533412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odelo de Negocios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Verdana"/>
              </a:rPr>
              <a:t>con datos duros para las variables relevant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2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oducto</a:t>
            </a: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estándares, oportunidad, materiales, etc.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mercado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localización, participación, etc.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ecio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disposición a pagar, elasticidad, etc.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liente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¿Quién(es) paga(n)?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mpetidores, productos alternativos, proveedores, etc.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todo lo relevante de Porter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organización 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(quienes, donde, que cuesta, que aportan, etc.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13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13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factores críticos éxito/fracas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5000"/>
              </a:lnSpc>
              <a:spcBef>
                <a:spcPts val="13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amaño del negocio (p*q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trategia de desarrollo y crecimiento del negoc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1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lan de trabaj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Tercera Present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763120" cy="525780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lan de Nego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Marketing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medios, inversión en marketing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Vent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Operaciones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nivel y costos de producción, abastecimiento, turnos, distribución, etc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tructura organizacional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ganigrama, cargos, planilla de remuneraciones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Financiamient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igen del capital para invertir y capital de trabajo (fondos, inversionistas, socios, ist. Financieras, etc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valuación Financiera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igen y uso de fondos, flujo de caja, VAN,TIR y cualquier otra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cc"/>
                </a:solidFill>
                <a:latin typeface="Verdana"/>
              </a:rPr>
              <a:t>Defi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ecomendaciones para las presenta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e preparado para fundamentar sus antecedentes y argumen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utilice (ni presente en forma oral o escrita) algo que no sea importante para el negocio que evalúa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dique siempre la fuente de su inform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utilizó una herramienta (encuesta, modelo, etc.) este preparado para mostrarla y defenderl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jústese al tiempo de la presentación eligiendo lo importa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xplique para reforzar sólo lo crít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8T15:16:49Z</dcterms:created>
  <dc:creator>Antonio Holgado</dc:creator>
  <dc:description/>
  <dc:language>en-US</dc:language>
  <cp:lastModifiedBy> </cp:lastModifiedBy>
  <dcterms:modified xsi:type="dcterms:W3CDTF">2006-09-27T16:56:46Z</dcterms:modified>
  <cp:revision>11</cp:revision>
  <dc:subject/>
  <dc:title>Sin título de diapositiva</dc:title>
</cp:coreProperties>
</file>