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B4E8A-E44B-4277-967F-1647290A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EDA6B-20D6-4A23-898C-B0D8947C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94337-4EAA-46C3-AE5C-BC9E0247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A4B7F-E02A-4E7F-A855-C670EA9C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A4CB8-9704-4228-BCB8-48545272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8C3A3-1739-4EEE-A14D-E0E29FB8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F23A9-CFAF-4C06-9545-255A8FC2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A85F6-06CE-4EE7-915D-FEA07730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FDECB-EE3E-40AB-98D0-099070F6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E4032-3F63-4B02-9F4C-2C7DFEB5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5540F-C252-48E9-A6DD-7F8DBAA0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8C630-B3C3-4BFC-B1F4-A6D746E1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B465-A4A0-4295-BA0E-695FEBF654B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lusiones de Porter (competidores, productos alternativos, provee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lusiones del análisis interno y externo (FO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necesita saber? ¿Qué voy a pregunt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 </cp:lastModifiedBy>
  <dcterms:modified xsi:type="dcterms:W3CDTF">2006-09-27T16:56:46Z</dcterms:modified>
  <cp:revision>11</cp:revision>
  <dc:subject/>
  <dc:title>Sin título de diapositiva</dc:title>
</cp:coreProperties>
</file>