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4B4BB-1C81-4D56-AD33-06009ADA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5D6DA-9B88-46D6-9570-85C586EE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A303A-CDB4-4EDC-A769-71E14A31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92C1A-003E-4345-AD90-C0221FDE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C1073-E049-4C26-8D08-0AA4C22F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21283-0A4B-45E3-AB02-9199A879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49FFE-F2E5-48A7-8C95-3E10C3D0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3CD0B-DA31-4C40-A32B-5E8808E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C8AC0-0BCE-47C8-86A8-C3DF7DDF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7B108-3B04-4B0B-BC2A-937F07AC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A2AA7-9C22-40D3-A8D8-8DAD7F1E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356B5-E0FB-4B70-A93D-1C27044F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2338-DBB3-405D-96F7-988FD935767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lusiones de Porter (competidores, productos alternativos, provee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lusiones del análisis interno y externo (FO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necesita saber? ¿Qué voy a pregunt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 </cp:lastModifiedBy>
  <dcterms:modified xsi:type="dcterms:W3CDTF">2006-09-27T16:56:46Z</dcterms:modified>
  <cp:revision>11</cp:revision>
  <dc:subject/>
  <dc:title>Sin título de diapositiva</dc:title>
</cp:coreProperties>
</file>