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54964-13D5-41C9-88F7-C0A24FC03E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ADE4-08E7-47B2-A73C-49D8C987ACA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81FEE-7B1D-4934-8C6C-24593F2540E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D08A-9B4A-4009-8990-51CAE4C45D9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77E04-93F3-479B-AB98-41E16E17D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BDC99C-2989-4F2C-8E96-CC97E8F2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C0ACD3-7986-47ED-B934-794F695B1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92862-356A-4F0A-8FF5-FA74021DD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D07F38-0CA5-4E4F-BC76-5B4C66E3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4EF1A-81DA-4E12-84BD-B320BA50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90BBE4-3E5C-418E-98C8-A003A4D4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122E07-903E-4F38-8E61-3228EF6B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24856-E838-404A-BDF6-0C149D88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388EE-4B72-46F2-A8AD-64A81411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DD13A1-DC75-429F-A49B-C5E56AE60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F30664-AC8D-4B2B-9350-A7F22B8A7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-460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89560" indent="-427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278720" indent="-3873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59600" indent="-37944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1640" indent="-38988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1640" indent="-38988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Otoño 2007   1-</a:t>
            </a:r>
            <a:fld id="{D5825851-DBF5-488D-A01F-2952DE0311F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B8BE8-08EC-40B2-9B87-79E394FFAF5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ii.cl/" TargetMode="External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83818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Introducción a la organizaci</a:t>
            </a:r>
            <a:r>
              <a:rPr b="0" lang="es-ES_tradnl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, las decisiones y la informació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62120" y="4647960"/>
            <a:ext cx="7772400" cy="13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6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R.HH.  Encargada de la gest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recurso más valioso de la empresa: las personas, contrata cursos, bienestar de personal, gestiona conveni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ing. Prepara las campañas de difusión de las actividades de la empresa, sobre todo en lo concerniente a la venta de sus productos y servici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Ventas. Lleva el control de las ventas diarias y por sobre todo de la fuerza de venta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quisiciones. Se encarga de las compras de insumos de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7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C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o hacemos para que la empresa funcion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veces nos cuesta ponernos de acuerdo respecto del pub donde iremos tre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arle vida a una empresa no es una empresa fácil!!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ntes de que aparecieran las TIC-Tecnologías de Información y Comunicaciones (ICT del inglés) todo era a base de ordenes verbales y papeles, muuuchooos papeles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o anterior no es malo, pero en una sociedad globalizada donde la inform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luye y el conocimiento universal se duplica cada  5 años, el modelo anterior tal vez no sirv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que una empresa pueda competir en el mercado, tiene que entender que su competencia no está al frente de su local, sino en el mundo enter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s TIC pueden ser la respuesta para hacer que la empresa compita en el merc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66280" y="1860480"/>
            <a:ext cx="4437000" cy="408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vergenci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ut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unica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Global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tegración de negoc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ción de holgur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ndenci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4427640" y="2060640"/>
            <a:ext cx="4390560" cy="3552840"/>
            <a:chOff x="4427640" y="2060640"/>
            <a:chExt cx="4390560" cy="3552840"/>
          </a:xfrm>
        </p:grpSpPr>
        <p:grpSp>
          <p:nvGrpSpPr>
            <p:cNvPr id="151" name=""/>
            <p:cNvGrpSpPr/>
            <p:nvPr/>
          </p:nvGrpSpPr>
          <p:grpSpPr>
            <a:xfrm>
              <a:off x="4427640" y="2414520"/>
              <a:ext cx="4326480" cy="3096720"/>
              <a:chOff x="4427640" y="2414520"/>
              <a:chExt cx="4326480" cy="3096720"/>
            </a:xfrm>
          </p:grpSpPr>
          <p:grpSp>
            <p:nvGrpSpPr>
              <p:cNvPr id="152" name=""/>
              <p:cNvGrpSpPr/>
              <p:nvPr/>
            </p:nvGrpSpPr>
            <p:grpSpPr>
              <a:xfrm>
                <a:off x="4427640" y="2414520"/>
                <a:ext cx="4326480" cy="3094200"/>
                <a:chOff x="4427640" y="2414520"/>
                <a:chExt cx="4326480" cy="309420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5205240" y="2503800"/>
                  <a:ext cx="609480" cy="718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5879160" y="2414520"/>
                  <a:ext cx="6080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717800" y="2873160"/>
                  <a:ext cx="60840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427640" y="3505680"/>
                  <a:ext cx="609840" cy="7203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4636800" y="4844880"/>
                  <a:ext cx="471600" cy="5565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584960" y="4150080"/>
                  <a:ext cx="357480" cy="4212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538520" y="4417560"/>
                  <a:ext cx="398880" cy="4687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428080" y="4958280"/>
                  <a:ext cx="1031040" cy="55044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950520" y="2556000"/>
                  <a:ext cx="608040" cy="72216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931880" y="2478240"/>
                  <a:ext cx="414720" cy="49680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743600" y="2665440"/>
                  <a:ext cx="305640" cy="359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7857720" y="2683440"/>
                  <a:ext cx="896400" cy="10612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8120160" y="4254480"/>
                  <a:ext cx="514800" cy="61632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717680" y="4451760"/>
                  <a:ext cx="687600" cy="820080"/>
                </a:xfrm>
                <a:prstGeom prst="ellipse">
                  <a:avLst/>
                </a:prstGeom>
                <a:solidFill>
                  <a:srgbClr val="ff9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4479480" y="2424240"/>
                <a:ext cx="4212720" cy="3087000"/>
                <a:chOff x="4479480" y="2424240"/>
                <a:chExt cx="4212720" cy="308700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5267520" y="2559960"/>
                  <a:ext cx="527040" cy="604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582800" y="4499280"/>
                  <a:ext cx="3610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8094240" y="393876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7430760" y="2733120"/>
                  <a:ext cx="392040" cy="46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930640" y="2555640"/>
                  <a:ext cx="35928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11400" y="2745360"/>
                  <a:ext cx="362520" cy="41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343920" y="4964040"/>
                  <a:ext cx="360720" cy="4150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571800" y="2649600"/>
                  <a:ext cx="485280" cy="510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075720" y="242424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6945120" y="2613600"/>
                  <a:ext cx="56700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769640" y="2949120"/>
                  <a:ext cx="618120" cy="64260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79480" y="3557520"/>
                  <a:ext cx="568440" cy="654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8021880" y="4237920"/>
                  <a:ext cx="566640" cy="6523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337160" y="4559040"/>
                  <a:ext cx="568440" cy="65448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080320" y="4844880"/>
                  <a:ext cx="608400" cy="666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86480" y="4868640"/>
                  <a:ext cx="485280" cy="558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741800" y="4475520"/>
                  <a:ext cx="587520" cy="678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634080" y="4403520"/>
                  <a:ext cx="815400" cy="9421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51840" y="4271760"/>
                  <a:ext cx="1045440" cy="11552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35000" y="4178160"/>
                  <a:ext cx="298800" cy="342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166960" y="3653280"/>
                  <a:ext cx="297360" cy="3434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7773120" y="2709000"/>
                  <a:ext cx="919080" cy="105984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" name=""/>
              <p:cNvSpPr/>
              <p:nvPr/>
            </p:nvSpPr>
            <p:spPr>
              <a:xfrm>
                <a:off x="4937400" y="2925360"/>
                <a:ext cx="3589200" cy="2262600"/>
              </a:xfrm>
              <a:custGeom>
                <a:avLst/>
                <a:gdLst/>
                <a:ahLst/>
                <a:rect l="l" t="t" r="r" b="b"/>
                <a:pathLst>
                  <a:path w="2077" h="1134">
                    <a:moveTo>
                      <a:pt x="425" y="54"/>
                    </a:moveTo>
                    <a:lnTo>
                      <a:pt x="192" y="84"/>
                    </a:lnTo>
                    <a:lnTo>
                      <a:pt x="0" y="812"/>
                    </a:lnTo>
                    <a:lnTo>
                      <a:pt x="150" y="1026"/>
                    </a:lnTo>
                    <a:lnTo>
                      <a:pt x="575" y="1014"/>
                    </a:lnTo>
                    <a:lnTo>
                      <a:pt x="1024" y="1134"/>
                    </a:lnTo>
                    <a:lnTo>
                      <a:pt x="1258" y="1056"/>
                    </a:lnTo>
                    <a:lnTo>
                      <a:pt x="1892" y="925"/>
                    </a:lnTo>
                    <a:lnTo>
                      <a:pt x="1994" y="830"/>
                    </a:lnTo>
                    <a:lnTo>
                      <a:pt x="1970" y="633"/>
                    </a:lnTo>
                    <a:lnTo>
                      <a:pt x="2077" y="441"/>
                    </a:lnTo>
                    <a:lnTo>
                      <a:pt x="1790" y="197"/>
                    </a:lnTo>
                    <a:lnTo>
                      <a:pt x="1664" y="96"/>
                    </a:lnTo>
                    <a:lnTo>
                      <a:pt x="928" y="0"/>
                    </a:lnTo>
                    <a:lnTo>
                      <a:pt x="425" y="54"/>
                    </a:lnTo>
                    <a:close/>
                  </a:path>
                </a:pathLst>
              </a:custGeom>
              <a:solidFill>
                <a:srgbClr val="ffb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4659120" y="2952720"/>
                <a:ext cx="3884040" cy="2288160"/>
                <a:chOff x="4659120" y="2952720"/>
                <a:chExt cx="3884040" cy="228816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804200" y="45151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659120" y="340560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973280" y="2952720"/>
                  <a:ext cx="56988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952400" y="3882600"/>
                  <a:ext cx="466560" cy="5346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07360" y="348984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842360" y="4551120"/>
                  <a:ext cx="597600" cy="6897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907760" y="3012840"/>
                  <a:ext cx="597240" cy="6879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34680" y="3846600"/>
                  <a:ext cx="51516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79640" y="3750840"/>
                  <a:ext cx="551160" cy="594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749120" y="3763080"/>
                  <a:ext cx="516240" cy="594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7651800" y="3024360"/>
                  <a:ext cx="572040" cy="65448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659000" y="3084120"/>
                  <a:ext cx="516240" cy="59472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049240" y="4287960"/>
                  <a:ext cx="376920" cy="44064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021880" y="4311360"/>
                  <a:ext cx="348480" cy="405360"/>
                </a:xfrm>
                <a:prstGeom prst="ellipse">
                  <a:avLst/>
                </a:pr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6" name=""/>
            <p:cNvGrpSpPr/>
            <p:nvPr/>
          </p:nvGrpSpPr>
          <p:grpSpPr>
            <a:xfrm>
              <a:off x="4744800" y="2063520"/>
              <a:ext cx="1133280" cy="1084320"/>
              <a:chOff x="4744800" y="2063520"/>
              <a:chExt cx="1133280" cy="1084320"/>
            </a:xfrm>
          </p:grpSpPr>
          <p:grpSp>
            <p:nvGrpSpPr>
              <p:cNvPr id="207" name=""/>
              <p:cNvGrpSpPr/>
              <p:nvPr/>
            </p:nvGrpSpPr>
            <p:grpSpPr>
              <a:xfrm>
                <a:off x="4746240" y="2063520"/>
                <a:ext cx="1129680" cy="995400"/>
                <a:chOff x="4746240" y="2063520"/>
                <a:chExt cx="1129680" cy="995400"/>
              </a:xfrm>
            </p:grpSpPr>
            <p:sp>
              <p:nvSpPr>
                <p:cNvPr id="208" name=""/>
                <p:cNvSpPr/>
                <p:nvPr/>
              </p:nvSpPr>
              <p:spPr>
                <a:xfrm rot="10800000">
                  <a:off x="4746240" y="2063520"/>
                  <a:ext cx="1129680" cy="9954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10800000">
                  <a:off x="4746240" y="2063520"/>
                  <a:ext cx="1129680" cy="882000"/>
                </a:xfrm>
                <a:prstGeom prst="rect">
                  <a:avLst/>
                </a:prstGeom>
                <a:solidFill>
                  <a:srgbClr val="7f5f3f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 rot="10800000">
                <a:off x="4744800" y="3060360"/>
                <a:ext cx="1133280" cy="87480"/>
              </a:xfrm>
              <a:custGeom>
                <a:avLst/>
                <a:gdLst/>
                <a:ahLst/>
                <a:rect l="l" t="t" r="r" b="b"/>
                <a:pathLst>
                  <a:path w="2856" h="221">
                    <a:moveTo>
                      <a:pt x="0" y="221"/>
                    </a:moveTo>
                    <a:lnTo>
                      <a:pt x="2856" y="221"/>
                    </a:lnTo>
                    <a:lnTo>
                      <a:pt x="2703" y="0"/>
                    </a:lnTo>
                    <a:lnTo>
                      <a:pt x="152" y="0"/>
                    </a:lnTo>
                    <a:lnTo>
                      <a:pt x="0" y="221"/>
                    </a:lnTo>
                    <a:close/>
                  </a:path>
                </a:pathLst>
              </a:custGeom>
              <a:solidFill>
                <a:srgbClr val="9f3f0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4769640" y="2973600"/>
                <a:ext cx="1085400" cy="63360"/>
                <a:chOff x="4769640" y="2973600"/>
                <a:chExt cx="1085400" cy="63360"/>
              </a:xfrm>
            </p:grpSpPr>
            <p:grpSp>
              <p:nvGrpSpPr>
                <p:cNvPr id="212" name=""/>
                <p:cNvGrpSpPr/>
                <p:nvPr/>
              </p:nvGrpSpPr>
              <p:grpSpPr>
                <a:xfrm>
                  <a:off x="4769640" y="2973600"/>
                  <a:ext cx="1085400" cy="63360"/>
                  <a:chOff x="4769640" y="2973600"/>
                  <a:chExt cx="1085400" cy="63360"/>
                </a:xfrm>
              </p:grpSpPr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4769640" y="2973600"/>
                    <a:ext cx="1085400" cy="63360"/>
                    <a:chOff x="4769640" y="2973600"/>
                    <a:chExt cx="1085400" cy="6336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rot="10800000">
                      <a:off x="4769640" y="2973600"/>
                      <a:ext cx="1085400" cy="6336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560" bIns="16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rot="10800000">
                      <a:off x="4770000" y="2974320"/>
                      <a:ext cx="1084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5" h="159">
                          <a:moveTo>
                            <a:pt x="0" y="159"/>
                          </a:moveTo>
                          <a:lnTo>
                            <a:pt x="0" y="0"/>
                          </a:lnTo>
                          <a:lnTo>
                            <a:pt x="2735" y="0"/>
                          </a:lnTo>
                        </a:path>
                      </a:pathLst>
                    </a:custGeom>
                    <a:noFill/>
                    <a:ln w="7920">
                      <a:solidFill>
                        <a:srgbClr val="c0c0c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rot="10800000">
                      <a:off x="5274000" y="2986200"/>
                      <a:ext cx="568800" cy="37440"/>
                    </a:xfrm>
                    <a:prstGeom prst="rect">
                      <a:avLst/>
                    </a:prstGeom>
                    <a:solidFill>
                      <a:srgbClr val="9f9f9f"/>
                    </a:solidFill>
                    <a:ln w="792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 rot="10800000">
                    <a:off x="4795920" y="2988000"/>
                    <a:ext cx="450720" cy="33480"/>
                  </a:xfrm>
                  <a:prstGeom prst="rect">
                    <a:avLst/>
                  </a:prstGeom>
                  <a:solidFill>
                    <a:srgbClr val="000000"/>
                  </a:solidFill>
                  <a:ln w="792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8" name=""/>
                <p:cNvGrpSpPr/>
                <p:nvPr/>
              </p:nvGrpSpPr>
              <p:grpSpPr>
                <a:xfrm>
                  <a:off x="4807080" y="2991600"/>
                  <a:ext cx="424440" cy="26640"/>
                  <a:chOff x="4807080" y="2991600"/>
                  <a:chExt cx="424440" cy="26640"/>
                </a:xfrm>
              </p:grpSpPr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4922280" y="2992320"/>
                    <a:ext cx="309240" cy="25920"/>
                    <a:chOff x="4922280" y="2992320"/>
                    <a:chExt cx="309240" cy="25920"/>
                  </a:xfrm>
                </p:grpSpPr>
                <p:grpSp>
                  <p:nvGrpSpPr>
                    <p:cNvPr id="220" name=""/>
                    <p:cNvGrpSpPr/>
                    <p:nvPr/>
                  </p:nvGrpSpPr>
                  <p:grpSpPr>
                    <a:xfrm>
                      <a:off x="5126760" y="2993040"/>
                      <a:ext cx="104760" cy="23040"/>
                      <a:chOff x="5126760" y="2993040"/>
                      <a:chExt cx="104760" cy="23040"/>
                    </a:xfrm>
                  </p:grpSpPr>
                  <p:sp>
                    <p:nvSpPr>
                      <p:cNvPr id="221" name=""/>
                      <p:cNvSpPr/>
                      <p:nvPr/>
                    </p:nvSpPr>
                    <p:spPr>
                      <a:xfrm rot="10800000">
                        <a:off x="522756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2" name=""/>
                      <p:cNvSpPr/>
                      <p:nvPr/>
                    </p:nvSpPr>
                    <p:spPr>
                      <a:xfrm rot="10800000">
                        <a:off x="52023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3" name=""/>
                      <p:cNvSpPr/>
                      <p:nvPr/>
                    </p:nvSpPr>
                    <p:spPr>
                      <a:xfrm rot="10800000">
                        <a:off x="5177160" y="2993040"/>
                        <a:ext cx="540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4" name=""/>
                      <p:cNvSpPr/>
                      <p:nvPr/>
                    </p:nvSpPr>
                    <p:spPr>
                      <a:xfrm rot="10800000">
                        <a:off x="5152320" y="2993040"/>
                        <a:ext cx="396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5" name=""/>
                      <p:cNvSpPr/>
                      <p:nvPr/>
                    </p:nvSpPr>
                    <p:spPr>
                      <a:xfrm rot="10800000">
                        <a:off x="5126760" y="2993040"/>
                        <a:ext cx="4680" cy="2304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7920">
                        <a:solidFill>
                          <a:srgbClr val="5f5f5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760" bIns="-23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26" name=""/>
                    <p:cNvGrpSpPr/>
                    <p:nvPr/>
                  </p:nvGrpSpPr>
                  <p:grpSpPr>
                    <a:xfrm>
                      <a:off x="5023800" y="2992320"/>
                      <a:ext cx="78480" cy="25920"/>
                      <a:chOff x="5023800" y="2992320"/>
                      <a:chExt cx="78480" cy="25920"/>
                    </a:xfrm>
                  </p:grpSpPr>
                  <p:grpSp>
                    <p:nvGrpSpPr>
                      <p:cNvPr id="227" name=""/>
                      <p:cNvGrpSpPr/>
                      <p:nvPr/>
                    </p:nvGrpSpPr>
                    <p:grpSpPr>
                      <a:xfrm>
                        <a:off x="5023800" y="2992320"/>
                        <a:ext cx="38880" cy="25920"/>
                        <a:chOff x="5023800" y="2992320"/>
                        <a:chExt cx="38880" cy="25920"/>
                      </a:xfrm>
                    </p:grpSpPr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rot="10800000">
                          <a:off x="5023800" y="2992320"/>
                          <a:ext cx="3888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rot="10800000">
                          <a:off x="503424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1" h="33">
                              <a:moveTo>
                                <a:pt x="0" y="0"/>
                              </a:moveTo>
                              <a:lnTo>
                                <a:pt x="41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0" name=""/>
                      <p:cNvGrpSpPr/>
                      <p:nvPr/>
                    </p:nvGrpSpPr>
                    <p:grpSpPr>
                      <a:xfrm>
                        <a:off x="5068440" y="2994840"/>
                        <a:ext cx="33840" cy="21240"/>
                        <a:chOff x="5068440" y="2994840"/>
                        <a:chExt cx="33840" cy="21240"/>
                      </a:xfrm>
                    </p:grpSpPr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rot="10800000">
                          <a:off x="5068440" y="2994840"/>
                          <a:ext cx="3384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rot="10800000">
                          <a:off x="507780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33" name=""/>
                    <p:cNvGrpSpPr/>
                    <p:nvPr/>
                  </p:nvGrpSpPr>
                  <p:grpSpPr>
                    <a:xfrm>
                      <a:off x="4922280" y="2992320"/>
                      <a:ext cx="78480" cy="25920"/>
                      <a:chOff x="4922280" y="2992320"/>
                      <a:chExt cx="78480" cy="25920"/>
                    </a:xfrm>
                  </p:grpSpPr>
                  <p:grpSp>
                    <p:nvGrpSpPr>
                      <p:cNvPr id="234" name=""/>
                      <p:cNvGrpSpPr/>
                      <p:nvPr/>
                    </p:nvGrpSpPr>
                    <p:grpSpPr>
                      <a:xfrm>
                        <a:off x="4922280" y="2992320"/>
                        <a:ext cx="39600" cy="25920"/>
                        <a:chOff x="4922280" y="2992320"/>
                        <a:chExt cx="39600" cy="25920"/>
                      </a:xfrm>
                    </p:grpSpPr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rot="10800000">
                          <a:off x="4922280" y="2992320"/>
                          <a:ext cx="39600" cy="2592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0880" bIns="-208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rot="10800000">
                          <a:off x="4932720" y="2998440"/>
                          <a:ext cx="15840" cy="126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9" h="33">
                              <a:moveTo>
                                <a:pt x="0" y="0"/>
                              </a:moveTo>
                              <a:lnTo>
                                <a:pt x="39" y="16"/>
                              </a:lnTo>
                              <a:lnTo>
                                <a:pt x="0" y="33"/>
                              </a:lnTo>
                              <a:lnTo>
                                <a:pt x="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200" bIns="-342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" name=""/>
                      <p:cNvGrpSpPr/>
                      <p:nvPr/>
                    </p:nvGrpSpPr>
                    <p:grpSpPr>
                      <a:xfrm>
                        <a:off x="4966560" y="2994840"/>
                        <a:ext cx="34200" cy="21240"/>
                        <a:chOff x="4966560" y="2994840"/>
                        <a:chExt cx="34200" cy="21240"/>
                      </a:xfrm>
                    </p:grpSpPr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 rot="10800000">
                          <a:off x="4966560" y="2994840"/>
                          <a:ext cx="34200" cy="2124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7920">
                          <a:solidFill>
                            <a:srgbClr val="5f5f5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5560" bIns="-255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 rot="10800000">
                          <a:off x="4976280" y="2998800"/>
                          <a:ext cx="15840" cy="11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0" h="31">
                              <a:moveTo>
                                <a:pt x="40" y="0"/>
                              </a:moveTo>
                              <a:lnTo>
                                <a:pt x="0" y="14"/>
                              </a:lnTo>
                              <a:lnTo>
                                <a:pt x="40" y="31"/>
                              </a:lnTo>
                              <a:lnTo>
                                <a:pt x="40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9f9f9f"/>
                        </a:solidFill>
                        <a:ln w="7920">
                          <a:solidFill>
                            <a:srgbClr val="5f5f5f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4920" bIns="-34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807080" y="2991600"/>
                    <a:ext cx="68040" cy="26640"/>
                    <a:chOff x="4807080" y="2991600"/>
                    <a:chExt cx="68040" cy="26640"/>
                  </a:xfrm>
                </p:grpSpPr>
                <p:grpSp>
                  <p:nvGrpSpPr>
                    <p:cNvPr id="241" name=""/>
                    <p:cNvGrpSpPr/>
                    <p:nvPr/>
                  </p:nvGrpSpPr>
                  <p:grpSpPr>
                    <a:xfrm>
                      <a:off x="4851720" y="2991600"/>
                      <a:ext cx="23400" cy="26640"/>
                      <a:chOff x="4851720" y="2991600"/>
                      <a:chExt cx="23400" cy="26640"/>
                    </a:xfrm>
                  </p:grpSpPr>
                  <p:sp>
                    <p:nvSpPr>
                      <p:cNvPr id="242" name=""/>
                      <p:cNvSpPr/>
                      <p:nvPr/>
                    </p:nvSpPr>
                    <p:spPr>
                      <a:xfrm rot="10800000">
                        <a:off x="485208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8">
                            <a:moveTo>
                              <a:pt x="0" y="0"/>
                            </a:moveTo>
                            <a:lnTo>
                              <a:pt x="6" y="8"/>
                            </a:lnTo>
                            <a:lnTo>
                              <a:pt x="31" y="8"/>
                            </a:lnTo>
                            <a:lnTo>
                              <a:pt x="40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3" name=""/>
                      <p:cNvSpPr/>
                      <p:nvPr/>
                    </p:nvSpPr>
                    <p:spPr>
                      <a:xfrm rot="10800000">
                        <a:off x="485856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3" y="0"/>
                            </a:lnTo>
                            <a:lnTo>
                              <a:pt x="39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4" name=""/>
                      <p:cNvSpPr/>
                      <p:nvPr/>
                    </p:nvSpPr>
                    <p:spPr>
                      <a:xfrm rot="10800000">
                        <a:off x="48664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9" y="0"/>
                            </a:moveTo>
                            <a:lnTo>
                              <a:pt x="14" y="6"/>
                            </a:lnTo>
                            <a:lnTo>
                              <a:pt x="9" y="25"/>
                            </a:lnTo>
                            <a:lnTo>
                              <a:pt x="0" y="31"/>
                            </a:lnTo>
                            <a:lnTo>
                              <a:pt x="9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5" name=""/>
                      <p:cNvSpPr/>
                      <p:nvPr/>
                    </p:nvSpPr>
                    <p:spPr>
                      <a:xfrm rot="10800000">
                        <a:off x="486972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4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6" name=""/>
                      <p:cNvSpPr/>
                      <p:nvPr/>
                    </p:nvSpPr>
                    <p:spPr>
                      <a:xfrm rot="10800000">
                        <a:off x="485532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7" y="32"/>
                            </a:lnTo>
                            <a:lnTo>
                              <a:pt x="13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7" name=""/>
                      <p:cNvSpPr/>
                      <p:nvPr/>
                    </p:nvSpPr>
                    <p:spPr>
                      <a:xfrm rot="10800000">
                        <a:off x="48517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" h="31">
                            <a:moveTo>
                              <a:pt x="5" y="6"/>
                            </a:moveTo>
                            <a:lnTo>
                              <a:pt x="16" y="0"/>
                            </a:lnTo>
                            <a:lnTo>
                              <a:pt x="6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48" name=""/>
                      <p:cNvSpPr/>
                      <p:nvPr/>
                    </p:nvSpPr>
                    <p:spPr>
                      <a:xfrm rot="10800000">
                        <a:off x="4856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6" y="0"/>
                            </a:lnTo>
                            <a:lnTo>
                              <a:pt x="40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49" name=""/>
                    <p:cNvGrpSpPr/>
                    <p:nvPr/>
                  </p:nvGrpSpPr>
                  <p:grpSpPr>
                    <a:xfrm>
                      <a:off x="4829400" y="2991600"/>
                      <a:ext cx="23760" cy="26640"/>
                      <a:chOff x="4829400" y="2991600"/>
                      <a:chExt cx="23760" cy="26640"/>
                    </a:xfrm>
                  </p:grpSpPr>
                  <p:sp>
                    <p:nvSpPr>
                      <p:cNvPr id="250" name=""/>
                      <p:cNvSpPr/>
                      <p:nvPr/>
                    </p:nvSpPr>
                    <p:spPr>
                      <a:xfrm rot="10800000">
                        <a:off x="4830120" y="30153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8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1" name=""/>
                      <p:cNvSpPr/>
                      <p:nvPr/>
                    </p:nvSpPr>
                    <p:spPr>
                      <a:xfrm rot="10800000">
                        <a:off x="483732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10" y="0"/>
                            </a:lnTo>
                            <a:lnTo>
                              <a:pt x="35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2" name=""/>
                      <p:cNvSpPr/>
                      <p:nvPr/>
                    </p:nvSpPr>
                    <p:spPr>
                      <a:xfrm rot="10800000">
                        <a:off x="484452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10" y="0"/>
                            </a:moveTo>
                            <a:lnTo>
                              <a:pt x="14" y="6"/>
                            </a:lnTo>
                            <a:lnTo>
                              <a:pt x="10" y="25"/>
                            </a:lnTo>
                            <a:lnTo>
                              <a:pt x="0" y="31"/>
                            </a:lnTo>
                            <a:lnTo>
                              <a:pt x="1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3" name=""/>
                      <p:cNvSpPr/>
                      <p:nvPr/>
                    </p:nvSpPr>
                    <p:spPr>
                      <a:xfrm rot="10800000">
                        <a:off x="48477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2">
                            <a:moveTo>
                              <a:pt x="0" y="32"/>
                            </a:moveTo>
                            <a:lnTo>
                              <a:pt x="9" y="23"/>
                            </a:lnTo>
                            <a:lnTo>
                              <a:pt x="15" y="5"/>
                            </a:lnTo>
                            <a:lnTo>
                              <a:pt x="8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4" name=""/>
                      <p:cNvSpPr/>
                      <p:nvPr/>
                    </p:nvSpPr>
                    <p:spPr>
                      <a:xfrm rot="10800000">
                        <a:off x="4833360" y="2991600"/>
                        <a:ext cx="540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23"/>
                            </a:moveTo>
                            <a:lnTo>
                              <a:pt x="6" y="32"/>
                            </a:lnTo>
                            <a:lnTo>
                              <a:pt x="14" y="0"/>
                            </a:lnTo>
                            <a:lnTo>
                              <a:pt x="5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5" name=""/>
                      <p:cNvSpPr/>
                      <p:nvPr/>
                    </p:nvSpPr>
                    <p:spPr>
                      <a:xfrm rot="10800000">
                        <a:off x="482940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1">
                            <a:moveTo>
                              <a:pt x="5" y="6"/>
                            </a:moveTo>
                            <a:lnTo>
                              <a:pt x="14" y="0"/>
                            </a:lnTo>
                            <a:lnTo>
                              <a:pt x="5" y="31"/>
                            </a:lnTo>
                            <a:lnTo>
                              <a:pt x="0" y="27"/>
                            </a:lnTo>
                            <a:lnTo>
                              <a:pt x="5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6" name=""/>
                      <p:cNvSpPr/>
                      <p:nvPr/>
                    </p:nvSpPr>
                    <p:spPr>
                      <a:xfrm rot="10800000">
                        <a:off x="4833360" y="3003120"/>
                        <a:ext cx="1656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2" h="9">
                            <a:moveTo>
                              <a:pt x="0" y="4"/>
                            </a:moveTo>
                            <a:lnTo>
                              <a:pt x="9" y="0"/>
                            </a:lnTo>
                            <a:lnTo>
                              <a:pt x="37" y="0"/>
                            </a:lnTo>
                            <a:lnTo>
                              <a:pt x="42" y="4"/>
                            </a:lnTo>
                            <a:lnTo>
                              <a:pt x="35" y="9"/>
                            </a:lnTo>
                            <a:lnTo>
                              <a:pt x="8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7" name=""/>
                    <p:cNvGrpSpPr/>
                    <p:nvPr/>
                  </p:nvGrpSpPr>
                  <p:grpSpPr>
                    <a:xfrm>
                      <a:off x="4807080" y="2991600"/>
                      <a:ext cx="24480" cy="26640"/>
                      <a:chOff x="4807080" y="2991600"/>
                      <a:chExt cx="24480" cy="26640"/>
                    </a:xfrm>
                  </p:grpSpPr>
                  <p:sp>
                    <p:nvSpPr>
                      <p:cNvPr id="258" name=""/>
                      <p:cNvSpPr/>
                      <p:nvPr/>
                    </p:nvSpPr>
                    <p:spPr>
                      <a:xfrm rot="10800000">
                        <a:off x="4808880" y="3015360"/>
                        <a:ext cx="1476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9" h="8">
                            <a:moveTo>
                              <a:pt x="0" y="0"/>
                            </a:moveTo>
                            <a:lnTo>
                              <a:pt x="5" y="8"/>
                            </a:lnTo>
                            <a:lnTo>
                              <a:pt x="31" y="8"/>
                            </a:lnTo>
                            <a:lnTo>
                              <a:pt x="39" y="0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59" name=""/>
                      <p:cNvSpPr/>
                      <p:nvPr/>
                    </p:nvSpPr>
                    <p:spPr>
                      <a:xfrm rot="10800000">
                        <a:off x="4815000" y="2991960"/>
                        <a:ext cx="15840" cy="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9"/>
                            </a:moveTo>
                            <a:lnTo>
                              <a:pt x="9" y="0"/>
                            </a:lnTo>
                            <a:lnTo>
                              <a:pt x="36" y="0"/>
                            </a:lnTo>
                            <a:lnTo>
                              <a:pt x="40" y="9"/>
                            </a:lnTo>
                            <a:lnTo>
                              <a:pt x="0" y="9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920" bIns="-43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 rot="10800000">
                        <a:off x="4822200" y="3006000"/>
                        <a:ext cx="468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1">
                            <a:moveTo>
                              <a:pt x="8" y="0"/>
                            </a:moveTo>
                            <a:lnTo>
                              <a:pt x="13" y="6"/>
                            </a:lnTo>
                            <a:lnTo>
                              <a:pt x="8" y="25"/>
                            </a:lnTo>
                            <a:lnTo>
                              <a:pt x="0" y="31"/>
                            </a:lnTo>
                            <a:lnTo>
                              <a:pt x="8" y="0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 rot="10800000">
                        <a:off x="4825080" y="2991600"/>
                        <a:ext cx="64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" h="32">
                            <a:moveTo>
                              <a:pt x="0" y="32"/>
                            </a:moveTo>
                            <a:lnTo>
                              <a:pt x="10" y="23"/>
                            </a:lnTo>
                            <a:lnTo>
                              <a:pt x="14" y="5"/>
                            </a:lnTo>
                            <a:lnTo>
                              <a:pt x="10" y="0"/>
                            </a:lnTo>
                            <a:lnTo>
                              <a:pt x="0" y="32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 rot="10800000">
                        <a:off x="4811040" y="2991600"/>
                        <a:ext cx="4680" cy="12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" h="32">
                            <a:moveTo>
                              <a:pt x="0" y="23"/>
                            </a:moveTo>
                            <a:lnTo>
                              <a:pt x="5" y="32"/>
                            </a:lnTo>
                            <a:lnTo>
                              <a:pt x="13" y="0"/>
                            </a:lnTo>
                            <a:lnTo>
                              <a:pt x="3" y="5"/>
                            </a:lnTo>
                            <a:lnTo>
                              <a:pt x="0" y="23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200" bIns="-34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 rot="10800000">
                        <a:off x="4807080" y="3006000"/>
                        <a:ext cx="5400" cy="11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31">
                            <a:moveTo>
                              <a:pt x="6" y="6"/>
                            </a:moveTo>
                            <a:lnTo>
                              <a:pt x="15" y="0"/>
                            </a:lnTo>
                            <a:lnTo>
                              <a:pt x="7" y="31"/>
                            </a:lnTo>
                            <a:lnTo>
                              <a:pt x="0" y="27"/>
                            </a:lnTo>
                            <a:lnTo>
                              <a:pt x="6" y="6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4920" bIns="-349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 rot="10800000">
                        <a:off x="4811040" y="3003120"/>
                        <a:ext cx="15840" cy="3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0" h="9">
                            <a:moveTo>
                              <a:pt x="0" y="4"/>
                            </a:moveTo>
                            <a:lnTo>
                              <a:pt x="8" y="0"/>
                            </a:lnTo>
                            <a:lnTo>
                              <a:pt x="35" y="0"/>
                            </a:lnTo>
                            <a:lnTo>
                              <a:pt x="40" y="4"/>
                            </a:lnTo>
                            <a:lnTo>
                              <a:pt x="34" y="9"/>
                            </a:lnTo>
                            <a:lnTo>
                              <a:pt x="5" y="9"/>
                            </a:lnTo>
                            <a:lnTo>
                              <a:pt x="0" y="4"/>
                            </a:lnTo>
                            <a:close/>
                          </a:path>
                        </a:pathLst>
                      </a:custGeom>
                      <a:solidFill>
                        <a:srgbClr val="00ff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200" bIns="-43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sp>
            <p:nvSpPr>
              <p:cNvPr id="265" name=""/>
              <p:cNvSpPr/>
              <p:nvPr/>
            </p:nvSpPr>
            <p:spPr>
              <a:xfrm rot="10800000">
                <a:off x="4771080" y="2087640"/>
                <a:ext cx="1082520" cy="828720"/>
              </a:xfrm>
              <a:prstGeom prst="rect">
                <a:avLst/>
              </a:prstGeom>
              <a:solidFill>
                <a:srgbClr val="3f3f3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0800000">
                <a:off x="4815720" y="2133720"/>
                <a:ext cx="991800" cy="738000"/>
              </a:xfrm>
              <a:custGeom>
                <a:avLst/>
                <a:gdLst/>
                <a:ahLst/>
                <a:rect l="l" t="t" r="r" b="b"/>
                <a:pathLst>
                  <a:path w="2501" h="1860">
                    <a:moveTo>
                      <a:pt x="0" y="0"/>
                    </a:moveTo>
                    <a:lnTo>
                      <a:pt x="2500" y="0"/>
                    </a:lnTo>
                    <a:lnTo>
                      <a:pt x="2501" y="1860"/>
                    </a:lnTo>
                    <a:lnTo>
                      <a:pt x="0" y="18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9696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0800000">
                <a:off x="5806440" y="2085480"/>
                <a:ext cx="47520" cy="831960"/>
              </a:xfrm>
              <a:custGeom>
                <a:avLst/>
                <a:gdLst/>
                <a:ahLst/>
                <a:rect l="l" t="t" r="r" b="b"/>
                <a:pathLst>
                  <a:path w="118" h="2097">
                    <a:moveTo>
                      <a:pt x="0" y="0"/>
                    </a:moveTo>
                    <a:lnTo>
                      <a:pt x="118" y="119"/>
                    </a:lnTo>
                    <a:lnTo>
                      <a:pt x="118" y="1979"/>
                    </a:lnTo>
                    <a:lnTo>
                      <a:pt x="0" y="209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0800000">
                <a:off x="4767840" y="2085480"/>
                <a:ext cx="45720" cy="831960"/>
              </a:xfrm>
              <a:custGeom>
                <a:avLst/>
                <a:gdLst/>
                <a:ahLst/>
                <a:rect l="l" t="t" r="r" b="b"/>
                <a:pathLst>
                  <a:path w="117" h="2097">
                    <a:moveTo>
                      <a:pt x="117" y="0"/>
                    </a:moveTo>
                    <a:lnTo>
                      <a:pt x="0" y="119"/>
                    </a:lnTo>
                    <a:lnTo>
                      <a:pt x="0" y="1979"/>
                    </a:lnTo>
                    <a:lnTo>
                      <a:pt x="117" y="2097"/>
                    </a:lnTo>
                    <a:lnTo>
                      <a:pt x="117" y="0"/>
                    </a:lnTo>
                    <a:close/>
                  </a:path>
                </a:pathLst>
              </a:custGeom>
              <a:solidFill>
                <a:srgbClr val="5f5f5f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0800000">
                <a:off x="4768200" y="2084400"/>
                <a:ext cx="1085760" cy="47520"/>
              </a:xfrm>
              <a:custGeom>
                <a:avLst/>
                <a:gdLst/>
                <a:ahLst/>
                <a:rect l="l" t="t" r="r" b="b"/>
                <a:pathLst>
                  <a:path w="2736" h="118">
                    <a:moveTo>
                      <a:pt x="0" y="118"/>
                    </a:moveTo>
                    <a:lnTo>
                      <a:pt x="118" y="0"/>
                    </a:lnTo>
                    <a:lnTo>
                      <a:pt x="2619" y="0"/>
                    </a:lnTo>
                    <a:lnTo>
                      <a:pt x="2736" y="118"/>
                    </a:lnTo>
                    <a:lnTo>
                      <a:pt x="0" y="118"/>
                    </a:lnTo>
                    <a:close/>
                  </a:path>
                </a:pathLst>
              </a:custGeom>
              <a:solidFill>
                <a:srgbClr val="808080"/>
              </a:solidFill>
              <a:ln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0800000">
                <a:off x="4769640" y="2085480"/>
                <a:ext cx="1085400" cy="831960"/>
              </a:xfrm>
              <a:custGeom>
                <a:avLst/>
                <a:gdLst/>
                <a:ahLst/>
                <a:rect l="l" t="t" r="r" b="b"/>
                <a:pathLst>
                  <a:path w="2735" h="2097">
                    <a:moveTo>
                      <a:pt x="2735" y="0"/>
                    </a:moveTo>
                    <a:lnTo>
                      <a:pt x="0" y="0"/>
                    </a:lnTo>
                    <a:lnTo>
                      <a:pt x="0" y="2097"/>
                    </a:lnTo>
                  </a:path>
                </a:pathLst>
              </a:custGeom>
              <a:noFill/>
              <a:ln w="792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rot="19435800">
              <a:off x="5595840" y="4195440"/>
              <a:ext cx="659880" cy="552600"/>
            </a:xfrm>
            <a:prstGeom prst="rightArrow">
              <a:avLst>
                <a:gd name="adj1" fmla="val 50000"/>
                <a:gd name="adj2" fmla="val 2985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8332200">
              <a:off x="7278120" y="3254040"/>
              <a:ext cx="660240" cy="552600"/>
            </a:xfrm>
            <a:prstGeom prst="rightArrow">
              <a:avLst>
                <a:gd name="adj1" fmla="val 50000"/>
                <a:gd name="adj2" fmla="val 29870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rot="13267800">
              <a:off x="5457600" y="323712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225120" y="3630600"/>
              <a:ext cx="90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200" spc="-1" strike="noStrike">
                  <a:solidFill>
                    <a:srgbClr val="000000"/>
                  </a:solidFill>
                  <a:latin typeface="Times New Roman"/>
                </a:rPr>
                <a:t>TI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5" name="" descr=""/>
            <p:cNvPicPr/>
            <p:nvPr/>
          </p:nvPicPr>
          <p:blipFill>
            <a:blip r:embed="rId2"/>
            <a:stretch/>
          </p:blipFill>
          <p:spPr>
            <a:xfrm>
              <a:off x="7559640" y="2060640"/>
              <a:ext cx="1258560" cy="113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4713120" y="4357800"/>
              <a:ext cx="995040" cy="1155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" descr=""/>
            <p:cNvPicPr/>
            <p:nvPr/>
          </p:nvPicPr>
          <p:blipFill>
            <a:blip r:embed="rId4"/>
            <a:stretch/>
          </p:blipFill>
          <p:spPr>
            <a:xfrm>
              <a:off x="7810560" y="4429080"/>
              <a:ext cx="959760" cy="11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flipH="1" rot="1793400">
              <a:off x="7089840" y="4213080"/>
              <a:ext cx="659880" cy="552240"/>
            </a:xfrm>
            <a:prstGeom prst="rightArrow">
              <a:avLst>
                <a:gd name="adj1" fmla="val 50000"/>
                <a:gd name="adj2" fmla="val 29873"/>
              </a:avLst>
            </a:prstGeom>
            <a:solidFill>
              <a:srgbClr val="ff99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/>
      </p:transition>
    </mc:Choice>
    <mc:Fallback>
      <p:transition spd="slow">
        <p:random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Rapidez de penetración frente a otras tecnologías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258920" y="1998720"/>
            <a:ext cx="6645600" cy="3735360"/>
            <a:chOff x="1258920" y="1998720"/>
            <a:chExt cx="6645600" cy="3735360"/>
          </a:xfrm>
        </p:grpSpPr>
        <p:pic>
          <p:nvPicPr>
            <p:cNvPr id="281" name="" descr=""/>
            <p:cNvPicPr/>
            <p:nvPr/>
          </p:nvPicPr>
          <p:blipFill>
            <a:blip r:embed="rId2"/>
            <a:stretch/>
          </p:blipFill>
          <p:spPr>
            <a:xfrm>
              <a:off x="1258920" y="1998720"/>
              <a:ext cx="6553080" cy="373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1944720" y="3651480"/>
              <a:ext cx="56386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488240" y="3446640"/>
              <a:ext cx="2832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50 millones de usuarios (US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611600" y="306576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154400" y="3218040"/>
              <a:ext cx="0" cy="1371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176880" y="344664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431120" y="36752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575880" y="30355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Rad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5960" y="2867040"/>
              <a:ext cx="36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T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33280" y="3370320"/>
              <a:ext cx="63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C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16160" y="3416400"/>
              <a:ext cx="91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20680" y="467856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803240" y="464832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Radio: 38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78080" y="47768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62080" y="4746960"/>
              <a:ext cx="1186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TV: 13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754600" y="4741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36040" y="4712040"/>
              <a:ext cx="1460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Cable: 10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126200" y="4741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260760" y="4712040"/>
              <a:ext cx="1643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Times New Roman"/>
                </a:rPr>
                <a:t>Internet: 5 añ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osibilidades de las TIC´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211640" y="2017440"/>
            <a:ext cx="4743360" cy="393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Espacio: eliminación del espacio, trabajo distribuido, control a distancia, ubicabilidad, 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Medio: digitalizado, mejor calidad, integrado, volumen de datos, manejo de la variedad y variabilidad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Tiempo: trabajo sincrónico y asincrónico, reducción del tiempo, en líne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178920" y="1773360"/>
            <a:ext cx="4156920" cy="4286880"/>
            <a:chOff x="178920" y="1773360"/>
            <a:chExt cx="4156920" cy="4286880"/>
          </a:xfrm>
        </p:grpSpPr>
        <p:sp>
          <p:nvSpPr>
            <p:cNvPr id="303" name=""/>
            <p:cNvSpPr/>
            <p:nvPr/>
          </p:nvSpPr>
          <p:spPr>
            <a:xfrm flipV="1">
              <a:off x="1598760" y="1833840"/>
              <a:ext cx="0" cy="267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98760" y="4505760"/>
              <a:ext cx="25714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78920" y="4505760"/>
              <a:ext cx="1419480" cy="150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98600" y="1773360"/>
              <a:ext cx="108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Espac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06240" y="465336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Tiem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4960" y="566136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"/>
                </a:rPr>
                <a:t>Med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1598760" y="3135600"/>
              <a:ext cx="903240" cy="1370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250200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24040" y="53280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2502000" y="45057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98760" y="4505760"/>
              <a:ext cx="167796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24040" y="313560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598760" y="2313360"/>
              <a:ext cx="16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824040" y="313560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1598760" y="2313360"/>
              <a:ext cx="0" cy="219240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276720" y="2313360"/>
              <a:ext cx="0" cy="219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824040" y="4505760"/>
              <a:ext cx="774720" cy="8222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82404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502000" y="2313360"/>
              <a:ext cx="77472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437840" y="446112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mis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82560" y="5259600"/>
              <a:ext cx="1015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recep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1960" y="425628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orig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54200" y="2108520"/>
              <a:ext cx="91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desti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34040" y="4188240"/>
              <a:ext cx="70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inic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28480" y="416412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Times New Roman"/>
                </a:rPr>
                <a:t>fin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200" spc="-1" strike="noStrike">
                <a:solidFill>
                  <a:srgbClr val="000000"/>
                </a:solidFill>
                <a:latin typeface="Arial"/>
              </a:rPr>
              <a:t>Tecnologías de la Información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1905120" y="1719360"/>
            <a:ext cx="5835600" cy="4360680"/>
            <a:chOff x="1905120" y="1719360"/>
            <a:chExt cx="5835600" cy="4360680"/>
          </a:xfrm>
        </p:grpSpPr>
        <p:pic>
          <p:nvPicPr>
            <p:cNvPr id="331" name="" descr=""/>
            <p:cNvPicPr/>
            <p:nvPr/>
          </p:nvPicPr>
          <p:blipFill>
            <a:blip r:embed="rId2"/>
            <a:stretch/>
          </p:blipFill>
          <p:spPr>
            <a:xfrm>
              <a:off x="1905120" y="1719360"/>
              <a:ext cx="5835600" cy="436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 txBox="1"/>
            <p:nvPr/>
          </p:nvSpPr>
          <p:spPr>
            <a:xfrm>
              <a:off x="1905120" y="1719360"/>
              <a:ext cx="5835600" cy="4360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ff99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 rot="10800000">
            <a:off x="1980720" y="2133720"/>
            <a:ext cx="304920" cy="304776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ol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638680"/>
            <a:ext cx="4343400" cy="457200"/>
          </a:xfrm>
          <a:prstGeom prst="rect">
            <a:avLst/>
          </a:prstGeom>
          <a:solidFill>
            <a:srgbClr val="33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volución de las Tecnologí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Ley de Moo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2411280" y="1844640"/>
            <a:ext cx="6553440" cy="37720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77600" y="5753160"/>
            <a:ext cx="575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http://www.xbitlabs.com/articles/editorial/display/moor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611280" y="1989000"/>
            <a:ext cx="1371600" cy="19432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24000" y="4076640"/>
            <a:ext cx="189216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Gordon Moore,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R&amp;D director at Fairchild Semiconductor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74200" y="513360"/>
            <a:ext cx="8001000" cy="100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Penetración de modelos basados en TI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42920" y="1752480"/>
            <a:ext cx="7047000" cy="426744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131760" y="5950080"/>
            <a:ext cx="356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uente: La economía digital 2003, C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73120" y="404640"/>
            <a:ext cx="817560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Los sectores que han invertido más en TIC han crecido más rápi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1547640" y="2016000"/>
            <a:ext cx="5861160" cy="3901320"/>
            <a:chOff x="1547640" y="2016000"/>
            <a:chExt cx="5861160" cy="3901320"/>
          </a:xfrm>
        </p:grpSpPr>
        <p:sp>
          <p:nvSpPr>
            <p:cNvPr id="345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28600" y="48999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28600" y="4487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028600" y="40737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28600" y="366156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028600" y="32475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028600" y="2835360"/>
              <a:ext cx="5299920" cy="144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028600" y="2422080"/>
              <a:ext cx="5299920" cy="1080"/>
            </a:xfrm>
            <a:prstGeom prst="line">
              <a:avLst/>
            </a:prstGeom>
            <a:ln w="0">
              <a:solidFill>
                <a:srgbClr val="96969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028600" y="2422080"/>
              <a:ext cx="5299920" cy="2891160"/>
            </a:xfrm>
            <a:prstGeom prst="rect">
              <a:avLst/>
            </a:prstGeom>
            <a:noFill/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000160" y="531324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000160" y="48999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000160" y="4487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40737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000160" y="366156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000160" y="32475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000160" y="2835360"/>
              <a:ext cx="28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000160" y="2422080"/>
              <a:ext cx="284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20286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78568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354204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V="1">
              <a:off x="430020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505872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581544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6572160" y="5313240"/>
              <a:ext cx="144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28880" y="5313240"/>
              <a:ext cx="1800" cy="28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38760" y="3861360"/>
              <a:ext cx="101880" cy="1000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135040" y="393480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276440" y="4279680"/>
              <a:ext cx="101520" cy="9972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325200" y="3826800"/>
              <a:ext cx="101520" cy="98280"/>
            </a:xfrm>
            <a:prstGeom prst="ellipse">
              <a:avLst/>
            </a:prstGeom>
            <a:solidFill>
              <a:srgbClr val="000000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924720" y="3847680"/>
              <a:ext cx="10152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20640" y="392076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262400" y="4265640"/>
              <a:ext cx="101520" cy="9828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10800" y="3811320"/>
              <a:ext cx="101880" cy="99720"/>
            </a:xfrm>
            <a:prstGeom prst="ellipse">
              <a:avLst/>
            </a:prstGeom>
            <a:solidFill>
              <a:srgbClr val="666699"/>
            </a:solidFill>
            <a:ln w="792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443320" y="2016000"/>
              <a:ext cx="46731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300" spc="-1" strike="noStrike">
                  <a:solidFill>
                    <a:srgbClr val="000000"/>
                  </a:solidFill>
                  <a:latin typeface="Arial"/>
                </a:rPr>
                <a:t>Gasto en TI como % del PIB VS Crecimiento del PIB 1996-2002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821240" y="52588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821240" y="4846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821240" y="44326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21240" y="402048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821240" y="36072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821240" y="319464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821240" y="27810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821240" y="236880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9602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0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7165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1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474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2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2300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3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98996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4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7456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5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0340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6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260120" y="5391720"/>
              <a:ext cx="14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Arial"/>
                </a:rPr>
                <a:t>7%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2584800" y="2698200"/>
              <a:ext cx="590760" cy="14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10000" y="2710440"/>
              <a:ext cx="42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ES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643480" y="4601880"/>
              <a:ext cx="7916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667960" y="46123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INDUSTRI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549520" y="5096520"/>
              <a:ext cx="1124280" cy="14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571840" y="5109120"/>
              <a:ext cx="103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STRU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48920" y="3836520"/>
              <a:ext cx="86796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72680" y="38476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ILVOAGROP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375440" y="4228560"/>
              <a:ext cx="75312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399200" y="4239000"/>
              <a:ext cx="69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ERCI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92200" y="3765960"/>
              <a:ext cx="1180440" cy="14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115600" y="3780360"/>
              <a:ext cx="105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LEC. GAS AGU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89800" y="2467080"/>
              <a:ext cx="582840" cy="14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5712840" y="2477880"/>
              <a:ext cx="526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MIN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006600" y="2698200"/>
              <a:ext cx="842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032160" y="271044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069240" y="2846520"/>
              <a:ext cx="75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OMUNIC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446160" y="3765960"/>
              <a:ext cx="8604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469560" y="3780360"/>
              <a:ext cx="41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.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469920" y="391608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INANCIE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547640" y="2467080"/>
              <a:ext cx="242280" cy="63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16200000">
              <a:off x="1364040" y="2621520"/>
              <a:ext cx="561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Crec.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61920" y="5564880"/>
              <a:ext cx="1025280" cy="14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384960" y="5577480"/>
              <a:ext cx="901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Gasto TI % PI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19" name="" descr=""/>
            <p:cNvPicPr/>
            <p:nvPr/>
          </p:nvPicPr>
          <p:blipFill>
            <a:blip r:embed="rId2">
              <a:lum bright="-18000"/>
            </a:blip>
            <a:stretch/>
          </p:blipFill>
          <p:spPr>
            <a:xfrm>
              <a:off x="3868560" y="3816000"/>
              <a:ext cx="192600" cy="1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0" name="" descr=""/>
            <p:cNvPicPr/>
            <p:nvPr/>
          </p:nvPicPr>
          <p:blipFill>
            <a:blip r:embed="rId3">
              <a:lum bright="-18000"/>
            </a:blip>
            <a:stretch/>
          </p:blipFill>
          <p:spPr>
            <a:xfrm>
              <a:off x="4212720" y="4228560"/>
              <a:ext cx="19224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1" name="" descr=""/>
            <p:cNvPicPr/>
            <p:nvPr/>
          </p:nvPicPr>
          <p:blipFill>
            <a:blip r:embed="rId4">
              <a:lum bright="-18000"/>
            </a:blip>
            <a:stretch/>
          </p:blipFill>
          <p:spPr>
            <a:xfrm>
              <a:off x="5092200" y="391608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5">
              <a:lum bright="-18000"/>
            </a:blip>
            <a:stretch/>
          </p:blipFill>
          <p:spPr>
            <a:xfrm>
              <a:off x="6251760" y="3791160"/>
              <a:ext cx="192600" cy="19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6"/>
            <a:srcRect l="16148" t="40189" r="62867" b="46671"/>
            <a:stretch/>
          </p:blipFill>
          <p:spPr>
            <a:xfrm>
              <a:off x="2324880" y="5055840"/>
              <a:ext cx="264240" cy="30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7"/>
            <a:srcRect l="0" t="0" r="17981" b="69591"/>
            <a:stretch/>
          </p:blipFill>
          <p:spPr>
            <a:xfrm>
              <a:off x="5506560" y="2489040"/>
              <a:ext cx="218160" cy="24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8"/>
            <a:srcRect l="40143" t="40189" r="30713" b="37153"/>
            <a:stretch/>
          </p:blipFill>
          <p:spPr>
            <a:xfrm>
              <a:off x="2385720" y="2681280"/>
              <a:ext cx="22464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9"/>
            <a:srcRect l="16148" t="40189" r="62867" b="46671"/>
            <a:stretch/>
          </p:blipFill>
          <p:spPr>
            <a:xfrm>
              <a:off x="2414160" y="4531320"/>
              <a:ext cx="264240" cy="30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" descr=""/>
            <p:cNvPicPr/>
            <p:nvPr/>
          </p:nvPicPr>
          <p:blipFill>
            <a:blip r:embed="rId10"/>
            <a:srcRect l="0" t="0" r="17981" b="69591"/>
            <a:stretch/>
          </p:blipFill>
          <p:spPr>
            <a:xfrm>
              <a:off x="5824800" y="2701440"/>
              <a:ext cx="21852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" name=""/>
            <p:cNvSpPr/>
            <p:nvPr/>
          </p:nvSpPr>
          <p:spPr>
            <a:xfrm>
              <a:off x="1987200" y="5671080"/>
              <a:ext cx="288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66"/>
                  </a:solidFill>
                  <a:latin typeface="Arial"/>
                </a:rPr>
                <a:t>Fuente: Centro Economía Digital CC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bjetivo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3640" y="1752480"/>
            <a:ext cx="8569080" cy="47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GENERALE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, modelar y (re) diseñar sistemas de información desde la perspectiva de los sistemas de administración de las organiz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las decisiones de (re) diseño de un sistema de información las tecnologías de información y comunicaciones modern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ESPECIFICOS</a:t>
            </a:r>
            <a:r>
              <a:rPr b="0" lang="es-ES_tradnl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Modelar y (re) diseñar modelos de negocios donde los sistemas de información y las tecnologías de información pueden cambiar significativamente los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Incorporar en el diseño de un Sistema de Información la arquitectura de negocios, y saber definir y especificar los requerimientos de información necesarios para su desarroll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700" spc="-1" strike="noStrike">
                <a:solidFill>
                  <a:srgbClr val="000000"/>
                </a:solidFill>
                <a:latin typeface="Verdana"/>
              </a:rPr>
              <a:t>Evaluar alternativas en el desarrollo de sistemas de información dentro de las organizaciones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10920" y="1676160"/>
            <a:ext cx="756108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ncuesta de Proyectos de TI´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1% de proyectos cancelados (81 US$ billones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3% de proyectos con sobre costo de 90% (59 US$ billones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16% de proyectos exitos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Estudio de 7000 sistemas de Inform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5% sobre costo mayor a 50%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50% requirieron el doble de tiempo 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30% entregó menos de la mitad de lo prometid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2277000" y="5805360"/>
            <a:ext cx="492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uente: What is Alignment?, P. Strassmann, Agosto 199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7451640" y="0"/>
            <a:ext cx="1486080" cy="155736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ero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s TIC son habilitadores para la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ben ser usadas s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 cuando existan situaciones donde se justifiquen por ahorros de tiempo, mejoras en competitividad,  agregar valor al negocio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u incorporación SIEMPRE es algo complejo en l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-427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erde: No son un bisturí, sino una verdadera espada para dar solución a los problemas. Entonces, piense  tres veces antes de aplicarlas.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27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mpetencia, competencia, ¿por qu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 tanta competencia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 momento que una empresa es creada, está “condenada” a crecer y competir por su lugar en el mercad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tras empresas están en lo mismo y todas quieren  su “participación de mercado”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tonces, ¿cómo hacemos para que la empresa sea la mejor en su área?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imero que todo, eliminando todo aquello que no sirve y no agrega valor al negoc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gundo, viendo que es lo que  se puede potenciar y permite eliminar holguras, tiempos muertos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s  TIC entregan la infraestructura tecno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a para que la empresa sea más competiti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mos hablando de Redes de datos, computadores, comunicaciones, software de oficina,  sistemas computacion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hora la parte amarga es que cuando se introduce una nueva tecnología, la empresa se ve resentida, es decir, no se absorbe de la noche a la mañ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 posible que el trauma que causa la TIC provoque el despido de personas que no se adapta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¿Y qué pasa si la TIC  termina matando el negocio de la empresa?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ucho  riesgo, mejor no hagamos nada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o anterior es el pensamiento de muchos empresari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ero pensemos en que pasar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por ejemplo en un banco, si se volviera a los pape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 simple:  </a:t>
            </a:r>
            <a:r>
              <a:rPr b="0" lang="es-ES_tradnl" sz="2000" spc="-1" strike="noStrike" u="sng">
                <a:solidFill>
                  <a:srgbClr val="336699"/>
                </a:solidFill>
                <a:uFillTx/>
                <a:latin typeface="Verdana"/>
                <a:ea typeface="ＭＳ Ｐゴシック"/>
                <a:hlinkClick r:id="rId2"/>
              </a:rPr>
              <a:t>www.sii.cl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 aun recuerdo haber hecho colas de ocho horas para timbrar una factura en la década de los 80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sideremos todos los ahorros que ha traído ese sistema, pero no olvidemos los dolores de cabeza inicial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 gran pregunta sigue siendo:  tengo varias gerencias en la empresa, cómo lo hago para que todas agreguen valor al negocio y con un objetivo en comú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s TIC en la 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gran problema es que, dependiendo del tamaño de la empresa, a veces las gerencias son feudos aparte, es decir, solo conversan entre s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Dividir para reinar?  OK, pero creando las instancias para que no se formen islas, sino un p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s unido y todos “remando” para un mismo l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ese sentido, las TIC pueden ser la clave para lograr que la empresa sea la mejor en su área y pueda alcanzar la tan ansiada ventaja competitiv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deas Clav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075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Muchos sistemas fallidos son abandonados porque los analistas trataron de construir un sistema fantástico pero sin entender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Objetivo Principal: Crear valor para la organizac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4360" y="1752480"/>
            <a:ext cx="7775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de Información (SI)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Sistema de Información es un conjunto de personas, datos, procesos, funciones, interfaces, redes y tecnología que interactúan para apoyar y mejorar las operaciones del día-a-día (muchas veces llamados servicios de procesamiento de datos), así como a los tomadores de decisiones (muchas veces llamados servicios de información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¿Qué es un Sistema Computacional?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a aplicación computacional es una solución basada en TIC’s para apoyar uno o más problemas o necesidades del negocio. Estas aplicaciones contienen generalmente computadores, redes, y una serie de tecnología asociad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Definiciones 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66280" y="1916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Análisis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el estudio de un problema de negocio, con el propósito de recomendar mejoras y especificar los requerimientos del negocio  (manejo de información, toma de decisiones, estructura organizacional, tecnología, etc.) para la solu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Verdana"/>
              </a:rPr>
              <a:t>Diseño de Sistemas</a:t>
            </a: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 es la especificación o construcción de una solución técnica, generalmente basada en tecnologías de información, para los requerimientos identificados en el análisis del sistema. (Note:  muchos diseños toman la forma de un prototipo de trabajo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¿Porqué los Negocios necesitan un análisis de Sistema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as tecnologías de información han tenido un gran desarrollo en los últimos años, con lo cual existen muchas aplicaciones que pueden resolver los problemas de negoci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Hay una dicotomía entre las personas del negocio y las de tecnologías de información, hablan diferentes idioma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l análisis de sistema es el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puente de comunicación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entre las necesidades del negocio y aquellos de la tecnología de informació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s </a:t>
            </a:r>
            <a:r>
              <a:rPr b="1" i="1" lang="es-CL" sz="1700" spc="-1" strike="noStrike">
                <a:solidFill>
                  <a:srgbClr val="000000"/>
                </a:solidFill>
                <a:latin typeface="Verdana"/>
              </a:rPr>
              <a:t>analistas de sistemas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son las personas que desarrollan esta actividad, con lo cual requieren conocer aspectos del negocio y técnicos a la vez.</a:t>
            </a: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tudia los problemas y oportunidades de negocio, y entonces los transforma en especificaciones técnicas para que sean implantadas por diferentes especialistas técnico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ctiv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de cátedra de 3,0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lases auxiliares de 1,5 horas sema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valu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ontroles (2) y un examen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Trabajo en grupo, con un 50% de la nota fin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Analista de Sistem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398080" cy="43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Definició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es un solucionador de problemas de negocios. El ayuda a resolver los problemas del negocio usando conceptos de sistemas y tecnologías de información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n analista de sistemas </a:t>
            </a:r>
            <a:r>
              <a:rPr b="0" i="1" lang="es-CL" sz="1700" spc="-1" strike="noStrike" u="sng">
                <a:solidFill>
                  <a:srgbClr val="000000"/>
                </a:solidFill>
                <a:uFillTx/>
                <a:latin typeface="Verdana"/>
              </a:rPr>
              <a:t>vende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a los administradores y usuarios el concepto de las nuevas soluciones (i.e., es un agente de cambio)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900" spc="-1" strike="noStrike">
                <a:solidFill>
                  <a:srgbClr val="000000"/>
                </a:solidFill>
                <a:latin typeface="Verdana"/>
              </a:rPr>
              <a:t>Rol del Analista de Sistema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Negocio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sarrolla el análisis de los problemas del negocio, especificando sus requerimientos, desde un punto de vista de independencia de la tecnología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Verdana"/>
              </a:rPr>
              <a:t>Analista de Aplicación:</a:t>
            </a: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 un analista de sistema debe diseñar las aplicaciones y las tecnologías de información que las apoyan. Un sinónimo de esta característica es </a:t>
            </a:r>
            <a:r>
              <a:rPr b="0" i="1" lang="es-CL" sz="1700" spc="-1" strike="noStrike">
                <a:solidFill>
                  <a:srgbClr val="000000"/>
                </a:solidFill>
                <a:latin typeface="Verdana"/>
              </a:rPr>
              <a:t>arquitecto de sistema o aplicacion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Ciclo de Vid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identificar el alcance y objetivos del problema, construir un plan de desarrollo y metas de trabaj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nálisis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estudiar y analizar el problema, causas y efectos. Entonces, identificar y analizar los requerimientos que deben ser satisfechos por las alternativas de solu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Diseño</a:t>
            </a:r>
            <a:r>
              <a:rPr b="1" lang="es-CL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-  si es necesario, diseñar la solución desde el punto de vista de negocios y técnico. No todas las soluciones requieren diseño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Implantación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llevar a cabo la solución propuest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41360" indent="-441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100" spc="-1" strike="noStrike">
                <a:solidFill>
                  <a:srgbClr val="000000"/>
                </a:solidFill>
                <a:latin typeface="Verdana"/>
              </a:rPr>
              <a:t>Apoyo</a:t>
            </a: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  -  analizar la solución propuesta, refinar el diseño e implantar las mejoras a la solució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25336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DATOS, incluyendo la captura - adquisición, validación, organización, almacenamiento y uso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ROCESOS, incluyendo ambos automatizados y manuales, que permiten transformar los datos en información y accione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INTERFACES, incluyendo aquellas de sistemas y aplicaciones, ya sea para los usuarios u otras aplicaciones (i.e., reportes, pantallas, archivos de intercambio, etc.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COMUNICACIONES, que distribuyen datos, procesos e información efectivamente entre los usuarios del sistema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32000" indent="-432000"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PERSONAS, incluyendo administradores, usuarios y desarrolladores – además del comportamiento organizacional y político que ocurre cuando las personas interactúan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Pregunt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entiende por un buen manejo de la información en las organizaciones moderna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ómo el buen manejo de la información puede convertirse en una ventaja competitiva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Preguntas en relación al Transantiag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Son las TIC un problema importante dentro de los qu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Qué factores han sido los que por no haberse considerado, diseñado e implementado bien, hace que no opere adecuadamente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¿Cuál es la importancia de las TIC comparada con las anteriore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resumen: ¿Los problemas del Transantiago son de gestión o tecnológicos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Reglas del Cur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8253360" cy="441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Asistencia: se considera importante asistir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Puntualidad: las clases comienzan a las 10:15 y terminan a las 11:45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Fechas: el calendario del curso es inamovible (ver más adelante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sponsabilidad: cada alumno es responsable de su educación (participación, lectura, trabajo de grupo en el proyecto y lecturas de actualidad)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dicación: 3.0 hrs de clase, 1.5 hrs de auxiliar y 5.5 hrs de trabajo persona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 organizaci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 de las cavernas, los seres humanos se han organizado para asegurar su supervivenci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ganización: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“S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istemas dise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ñad</a:t>
            </a:r>
            <a:r>
              <a:rPr b="0" i="1" lang="es-ES_tradnl" sz="2600" spc="-1" strike="noStrike">
                <a:solidFill>
                  <a:srgbClr val="000000"/>
                </a:solidFill>
                <a:latin typeface="Arial"/>
              </a:rPr>
              <a:t>os para lograr metas y objetivos por medio de los recursos humanos y de otro tipo”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. (Fuente: Wikipedi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componen de subsistemas interrelacionados que cumplen funciones especializad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2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el tiempos ancestrales, el concepto de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no ha cambiado, lo que si ha variado es la forma en que los individuos se organiza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 organización es prácticamente un “ser vivo”, por lo que su evolución en el tiempo, no debería de extrañar a nadi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 evolución está directamente relacionada con la forma en que la organización enfrenta a su competencia y a los nuevos desafío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3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n las empresas,  existe el paradigma de “dividir para reinar” es decir,  la organizaci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se divide en partes más fundamentales y administrab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 la afirmación anterior, nacen los clásicos organigramas que viene a explicar la composición de la empresa y cómo se interrelacio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éxito o fracaso de una organización justamente radica en la forma en que sus distintas partes logran met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ntendiendo la… (4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886200" y="1905120"/>
            <a:ext cx="1572120" cy="533160"/>
            <a:chOff x="3886200" y="1905120"/>
            <a:chExt cx="1572120" cy="533160"/>
          </a:xfrm>
        </p:grpSpPr>
        <p:sp>
          <p:nvSpPr>
            <p:cNvPr id="106" name=""/>
            <p:cNvSpPr/>
            <p:nvPr/>
          </p:nvSpPr>
          <p:spPr>
            <a:xfrm>
              <a:off x="3886200" y="1905120"/>
              <a:ext cx="1523880" cy="53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06000" y="1981080"/>
              <a:ext cx="155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Directo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3324960" y="3003480"/>
            <a:ext cx="2375280" cy="425160"/>
            <a:chOff x="3324960" y="3003480"/>
            <a:chExt cx="2375280" cy="425160"/>
          </a:xfrm>
        </p:grpSpPr>
        <p:sp>
          <p:nvSpPr>
            <p:cNvPr id="109" name=""/>
            <p:cNvSpPr/>
            <p:nvPr/>
          </p:nvSpPr>
          <p:spPr>
            <a:xfrm>
              <a:off x="3324960" y="300348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erencia Gener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44480" y="3047760"/>
              <a:ext cx="2209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640" y="4038480"/>
            <a:ext cx="1826640" cy="457200"/>
            <a:chOff x="26640" y="4038480"/>
            <a:chExt cx="1826640" cy="457200"/>
          </a:xfrm>
        </p:grpSpPr>
        <p:sp>
          <p:nvSpPr>
            <p:cNvPr id="112" name=""/>
            <p:cNvSpPr/>
            <p:nvPr/>
          </p:nvSpPr>
          <p:spPr>
            <a:xfrm>
              <a:off x="26640" y="407016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ontabilida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320" y="4038480"/>
              <a:ext cx="175248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3126960" y="4038480"/>
            <a:ext cx="1080000" cy="399960"/>
            <a:chOff x="3126960" y="4038480"/>
            <a:chExt cx="1080000" cy="399960"/>
          </a:xfrm>
        </p:grpSpPr>
        <p:sp>
          <p:nvSpPr>
            <p:cNvPr id="115" name=""/>
            <p:cNvSpPr/>
            <p:nvPr/>
          </p:nvSpPr>
          <p:spPr>
            <a:xfrm>
              <a:off x="3126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RR. H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39920" y="4038480"/>
              <a:ext cx="10670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1852920" y="3994200"/>
            <a:ext cx="1140840" cy="425160"/>
            <a:chOff x="1852920" y="3994200"/>
            <a:chExt cx="1140840" cy="425160"/>
          </a:xfrm>
        </p:grpSpPr>
        <p:sp>
          <p:nvSpPr>
            <p:cNvPr id="118" name=""/>
            <p:cNvSpPr/>
            <p:nvPr/>
          </p:nvSpPr>
          <p:spPr>
            <a:xfrm>
              <a:off x="1852920" y="399420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ianz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20600" y="4038480"/>
              <a:ext cx="106668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896160" y="3994200"/>
            <a:ext cx="1963800" cy="425520"/>
            <a:chOff x="6896160" y="3994200"/>
            <a:chExt cx="1963800" cy="425520"/>
          </a:xfrm>
        </p:grpSpPr>
        <p:sp>
          <p:nvSpPr>
            <p:cNvPr id="121" name=""/>
            <p:cNvSpPr/>
            <p:nvPr/>
          </p:nvSpPr>
          <p:spPr>
            <a:xfrm>
              <a:off x="6896160" y="399420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dquisi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026120" y="4038840"/>
              <a:ext cx="175284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4343400" y="3994200"/>
            <a:ext cx="1447920" cy="425520"/>
            <a:chOff x="4343400" y="3994200"/>
            <a:chExt cx="1447920" cy="425520"/>
          </a:xfrm>
        </p:grpSpPr>
        <p:sp>
          <p:nvSpPr>
            <p:cNvPr id="124" name=""/>
            <p:cNvSpPr/>
            <p:nvPr/>
          </p:nvSpPr>
          <p:spPr>
            <a:xfrm>
              <a:off x="4357440" y="3994200"/>
              <a:ext cx="1415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arke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343400" y="4038480"/>
              <a:ext cx="1447920" cy="38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 flipV="1">
            <a:off x="11430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77724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648320" y="2438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0" y="3429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4382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76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5925960" y="4038480"/>
            <a:ext cx="1003680" cy="399960"/>
            <a:chOff x="5925960" y="4038480"/>
            <a:chExt cx="1003680" cy="399960"/>
          </a:xfrm>
        </p:grpSpPr>
        <p:sp>
          <p:nvSpPr>
            <p:cNvPr id="135" name=""/>
            <p:cNvSpPr/>
            <p:nvPr/>
          </p:nvSpPr>
          <p:spPr>
            <a:xfrm>
              <a:off x="5925960" y="407016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ent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59440" y="4038480"/>
              <a:ext cx="9144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640080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3000" y="1911240"/>
            <a:ext cx="242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Una empresa a gran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rasgos tien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38840" y="4892760"/>
            <a:ext cx="636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 … 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cada una de sus </a:t>
            </a:r>
            <a:r>
              <a:rPr b="0" lang="es-ES_tradnl" sz="1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reas tiene un objetivo bien definido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ntendiendo la… (5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rectorio. Por lo general son los dueños o sus representantes, encargados de definir las metas de largo plazo (son los que ponen las $$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rencia General. Define las estrategias de corto y mediano plazo para la empres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inanzas. Responsable de administrar los dineros de la empresa (gestionar cr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ditos, hacer inversiones, preparar estados de resultado, etc.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tabilidad. Registrar todas las entradas y salidas de la empresa, calcular los impuestos, pagos de sueldos, 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Ucurso</cp:lastModifiedBy>
  <cp:lastPrinted>2001-07-30T13:16:05Z</cp:lastPrinted>
  <dcterms:modified xsi:type="dcterms:W3CDTF">2007-03-06T13:14:09Z</dcterms:modified>
  <cp:revision>64</cp:revision>
  <dc:subject/>
  <dc:title>Introducción al Análisis de los Sistemas de Información Administrativos</dc:title>
</cp:coreProperties>
</file>