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1673-2E40-475A-9735-49FE3C7DE1A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B9C1-78CC-4B4A-829B-4AC30B04FE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48ED-D694-4354-BB5A-FBA056E2C92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17059-7C01-4996-B54E-EC49C6F7139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534145-9370-471B-A57B-4069D003F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5C30B-EC57-4E78-B974-22A22A0A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8125A-CB41-4E19-B54A-E64D725B9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A1524-9336-469A-985B-1A0D8B46D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6CBDC2-BDE1-437B-B1F1-FA59964A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FBB588-2FB4-4E61-8492-A3F9F462B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78968B-9A27-4F12-890B-7F71D68B0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3FB65C-1ADD-46C5-B5CC-71C24DF49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DA1151-C1C1-493C-92EB-87D76099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CDFD9-F751-45A8-80C8-D2F34806F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1EE8F4-1D1A-4B75-AB6D-C933B395C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7C757-A05E-4D8E-907B-4C7502B55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Otoño 2007   1-</a:t>
            </a:r>
            <a:fld id="{749D1222-65A6-4023-96BE-CC7739CECEE0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3995-8392-45C9-9E76-A78211048BA5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i.cl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ntroducción a la organizaci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las decisiones y la informació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6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R.HH.  Encargada de la gest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recurso más valioso de la empresa: las personas, contrata cursos, bienestar de personal, gestiona conveni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ing. Prepara las campañas de difusión de las actividades de la empresa, sobre todo en lo concerniente a la venta de sus productos y servi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ntas. Lleva el control de las ventas diarias y por sobre todo de la fuerza de venta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quisiciones. Se encarga de las compras de insumos de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7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o hacemos para que la empresa func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veces nos cuesta ponernos de acuerdo respecto del pub donde iremos tre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arle vida a una empresa no es una empresa fácil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tes de que aparecieran las TIC-Tecnologías de Información y Comunicaciones (ICT del inglés) todo era a base de ordenes verbales y papeles, muuuchooos papele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 anterior no es malo, pero en una sociedad globalizada donde la inform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luye y el conocimiento universal se duplica cada  5 años, el modelo anterior tal vez no sir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que una empresa pueda competir en el mercado, tiene que entender que su competencia no está al frente de su local, sino en el mundo ent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s TIC pueden ser la respuesta para hacer que la empresa compita en el merc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66280" y="1860480"/>
            <a:ext cx="44370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vergenci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lob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tegración de neg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ción de holgu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nde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27640" y="2060640"/>
            <a:ext cx="4390560" cy="3552840"/>
            <a:chOff x="4427640" y="2060640"/>
            <a:chExt cx="4390560" cy="3552840"/>
          </a:xfrm>
        </p:grpSpPr>
        <p:grpSp>
          <p:nvGrpSpPr>
            <p:cNvPr id="151" name=""/>
            <p:cNvGrpSpPr/>
            <p:nvPr/>
          </p:nvGrpSpPr>
          <p:grpSpPr>
            <a:xfrm>
              <a:off x="4427640" y="2414520"/>
              <a:ext cx="4326480" cy="3096720"/>
              <a:chOff x="4427640" y="2414520"/>
              <a:chExt cx="4326480" cy="3096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427640" y="2414520"/>
                <a:ext cx="4326480" cy="3094200"/>
                <a:chOff x="4427640" y="2414520"/>
                <a:chExt cx="4326480" cy="3094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205240" y="2503800"/>
                  <a:ext cx="609480" cy="718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79160" y="2414520"/>
                  <a:ext cx="6080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717800" y="2873160"/>
                  <a:ext cx="60840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427640" y="3505680"/>
                  <a:ext cx="6098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36800" y="4844880"/>
                  <a:ext cx="471600" cy="556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84960" y="4150080"/>
                  <a:ext cx="357480" cy="421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38520" y="4417560"/>
                  <a:ext cx="398880" cy="4687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8080" y="4958280"/>
                  <a:ext cx="1031040" cy="55044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50520" y="2556000"/>
                  <a:ext cx="608040" cy="7221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931880" y="2478240"/>
                  <a:ext cx="414720" cy="4968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743600" y="2665440"/>
                  <a:ext cx="305640" cy="359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857720" y="2683440"/>
                  <a:ext cx="896400" cy="1061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120160" y="4254480"/>
                  <a:ext cx="514800" cy="6163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717680" y="4451760"/>
                  <a:ext cx="687600" cy="8200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479480" y="2424240"/>
                <a:ext cx="4212720" cy="3087000"/>
                <a:chOff x="4479480" y="2424240"/>
                <a:chExt cx="4212720" cy="3087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267520" y="2559960"/>
                  <a:ext cx="527040" cy="604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82800" y="4499280"/>
                  <a:ext cx="3610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094240" y="393876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30760" y="2733120"/>
                  <a:ext cx="392040" cy="46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30640" y="255564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11400" y="2745360"/>
                  <a:ext cx="36252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343920" y="4964040"/>
                  <a:ext cx="360720" cy="4150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571800" y="2649600"/>
                  <a:ext cx="485280" cy="510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75720" y="242424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945120" y="261360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69640" y="2949120"/>
                  <a:ext cx="618120" cy="64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79480" y="3557520"/>
                  <a:ext cx="56844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021880" y="4237920"/>
                  <a:ext cx="566640" cy="6523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37160" y="4559040"/>
                  <a:ext cx="568440" cy="6544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80320" y="4844880"/>
                  <a:ext cx="608400" cy="666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86480" y="4868640"/>
                  <a:ext cx="485280" cy="558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741800" y="4475520"/>
                  <a:ext cx="587520" cy="678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34080" y="4403520"/>
                  <a:ext cx="815400" cy="942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51840" y="4271760"/>
                  <a:ext cx="1045440" cy="1155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35000" y="4178160"/>
                  <a:ext cx="298800" cy="342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166960" y="3653280"/>
                  <a:ext cx="297360" cy="343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773120" y="2709000"/>
                  <a:ext cx="919080" cy="1059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937400" y="2925360"/>
                <a:ext cx="3589200" cy="2262600"/>
              </a:xfrm>
              <a:custGeom>
                <a:avLst/>
                <a:gdLst/>
                <a:ahLst/>
                <a:rect l="l" t="t" r="r" b="b"/>
                <a:pathLst>
                  <a:path w="2077" h="1134">
                    <a:moveTo>
                      <a:pt x="425" y="54"/>
                    </a:moveTo>
                    <a:lnTo>
                      <a:pt x="192" y="84"/>
                    </a:lnTo>
                    <a:lnTo>
                      <a:pt x="0" y="812"/>
                    </a:lnTo>
                    <a:lnTo>
                      <a:pt x="150" y="1026"/>
                    </a:lnTo>
                    <a:lnTo>
                      <a:pt x="575" y="1014"/>
                    </a:lnTo>
                    <a:lnTo>
                      <a:pt x="1024" y="1134"/>
                    </a:lnTo>
                    <a:lnTo>
                      <a:pt x="1258" y="1056"/>
                    </a:lnTo>
                    <a:lnTo>
                      <a:pt x="1892" y="925"/>
                    </a:lnTo>
                    <a:lnTo>
                      <a:pt x="1994" y="830"/>
                    </a:lnTo>
                    <a:lnTo>
                      <a:pt x="1970" y="633"/>
                    </a:lnTo>
                    <a:lnTo>
                      <a:pt x="2077" y="441"/>
                    </a:lnTo>
                    <a:lnTo>
                      <a:pt x="1790" y="197"/>
                    </a:lnTo>
                    <a:lnTo>
                      <a:pt x="1664" y="96"/>
                    </a:lnTo>
                    <a:lnTo>
                      <a:pt x="928" y="0"/>
                    </a:lnTo>
                    <a:lnTo>
                      <a:pt x="425" y="54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4659120" y="2952720"/>
                <a:ext cx="3884040" cy="2288160"/>
                <a:chOff x="4659120" y="2952720"/>
                <a:chExt cx="3884040" cy="228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804200" y="45151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59120" y="340560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73280" y="29527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52400" y="3882600"/>
                  <a:ext cx="466560" cy="53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07360" y="348984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842360" y="455112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907760" y="3012840"/>
                  <a:ext cx="597240" cy="6879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34680" y="3846600"/>
                  <a:ext cx="51516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79640" y="3750840"/>
                  <a:ext cx="551160" cy="594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749120" y="3763080"/>
                  <a:ext cx="51624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51800" y="302436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659000" y="3084120"/>
                  <a:ext cx="516240" cy="59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049240" y="4287960"/>
                  <a:ext cx="376920" cy="44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021880" y="4311360"/>
                  <a:ext cx="348480" cy="405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744800" y="2063520"/>
              <a:ext cx="1133280" cy="1084320"/>
              <a:chOff x="4744800" y="2063520"/>
              <a:chExt cx="1133280" cy="108432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746240" y="2063520"/>
                <a:ext cx="1129680" cy="995400"/>
                <a:chOff x="4746240" y="2063520"/>
                <a:chExt cx="1129680" cy="995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746240" y="2063520"/>
                  <a:ext cx="1129680" cy="9954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746240" y="2063520"/>
                  <a:ext cx="1129680" cy="8820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10800000">
                <a:off x="4744800" y="3060360"/>
                <a:ext cx="1133280" cy="87480"/>
              </a:xfrm>
              <a:custGeom>
                <a:avLst/>
                <a:gdLst/>
                <a:ahLst/>
                <a:rect l="l" t="t" r="r" b="b"/>
                <a:pathLst>
                  <a:path w="2856" h="221">
                    <a:moveTo>
                      <a:pt x="0" y="221"/>
                    </a:moveTo>
                    <a:lnTo>
                      <a:pt x="2856" y="221"/>
                    </a:lnTo>
                    <a:lnTo>
                      <a:pt x="2703" y="0"/>
                    </a:lnTo>
                    <a:lnTo>
                      <a:pt x="152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f3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4769640" y="2973600"/>
                <a:ext cx="1085400" cy="63360"/>
                <a:chOff x="4769640" y="2973600"/>
                <a:chExt cx="1085400" cy="63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4769640" y="2973600"/>
                  <a:ext cx="1085400" cy="63360"/>
                  <a:chOff x="4769640" y="2973600"/>
                  <a:chExt cx="1085400" cy="6336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4769640" y="2973600"/>
                    <a:ext cx="1085400" cy="63360"/>
                    <a:chOff x="4769640" y="2973600"/>
                    <a:chExt cx="1085400" cy="63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10800000">
                      <a:off x="4769640" y="2973600"/>
                      <a:ext cx="1085400" cy="633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10800000">
                      <a:off x="4770000" y="2974320"/>
                      <a:ext cx="1084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5" h="159">
                          <a:moveTo>
                            <a:pt x="0" y="159"/>
                          </a:moveTo>
                          <a:lnTo>
                            <a:pt x="0" y="0"/>
                          </a:lnTo>
                          <a:lnTo>
                            <a:pt x="273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0800000">
                      <a:off x="5274000" y="2986200"/>
                      <a:ext cx="568800" cy="3744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 rot="10800000">
                    <a:off x="4795920" y="2988000"/>
                    <a:ext cx="450720" cy="33480"/>
                  </a:xfrm>
                  <a:prstGeom prst="rect">
                    <a:avLst/>
                  </a:prstGeom>
                  <a:solidFill>
                    <a:srgbClr val="000000"/>
                  </a:solidFill>
                  <a:ln w="792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4807080" y="2991600"/>
                  <a:ext cx="424440" cy="26640"/>
                  <a:chOff x="4807080" y="2991600"/>
                  <a:chExt cx="424440" cy="2664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922280" y="2992320"/>
                    <a:ext cx="309240" cy="25920"/>
                    <a:chOff x="4922280" y="2992320"/>
                    <a:chExt cx="309240" cy="259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5126760" y="2993040"/>
                      <a:ext cx="104760" cy="23040"/>
                      <a:chOff x="5126760" y="2993040"/>
                      <a:chExt cx="104760" cy="2304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 rot="10800000">
                        <a:off x="522756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 rot="10800000">
                        <a:off x="52023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 rot="10800000">
                        <a:off x="5177160" y="2993040"/>
                        <a:ext cx="540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 rot="10800000">
                        <a:off x="515232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 rot="10800000">
                        <a:off x="51267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5023800" y="2992320"/>
                      <a:ext cx="78480" cy="25920"/>
                      <a:chOff x="5023800" y="2992320"/>
                      <a:chExt cx="78480" cy="25920"/>
                    </a:xfrm>
                  </p:grpSpPr>
                  <p:grpSp>
                    <p:nvGrpSpPr>
                      <p:cNvPr id="227" name=""/>
                      <p:cNvGrpSpPr/>
                      <p:nvPr/>
                    </p:nvGrpSpPr>
                    <p:grpSpPr>
                      <a:xfrm>
                        <a:off x="5023800" y="2992320"/>
                        <a:ext cx="38880" cy="25920"/>
                        <a:chOff x="5023800" y="2992320"/>
                        <a:chExt cx="38880" cy="25920"/>
                      </a:xfrm>
                    </p:grpSpPr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rot="10800000">
                          <a:off x="5023800" y="2992320"/>
                          <a:ext cx="3888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rot="10800000">
                          <a:off x="503424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33">
                              <a:moveTo>
                                <a:pt x="0" y="0"/>
                              </a:moveTo>
                              <a:lnTo>
                                <a:pt x="41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5068440" y="2994840"/>
                        <a:ext cx="33840" cy="21240"/>
                        <a:chOff x="5068440" y="2994840"/>
                        <a:chExt cx="33840" cy="21240"/>
                      </a:xfrm>
                    </p:grpSpPr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rot="10800000">
                          <a:off x="5068440" y="2994840"/>
                          <a:ext cx="3384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rot="10800000">
                          <a:off x="507780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922280" y="2992320"/>
                      <a:ext cx="78480" cy="25920"/>
                      <a:chOff x="4922280" y="2992320"/>
                      <a:chExt cx="78480" cy="25920"/>
                    </a:xfrm>
                  </p:grpSpPr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4922280" y="2992320"/>
                        <a:ext cx="39600" cy="25920"/>
                        <a:chOff x="4922280" y="2992320"/>
                        <a:chExt cx="39600" cy="2592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rot="10800000">
                          <a:off x="4922280" y="2992320"/>
                          <a:ext cx="3960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rot="10800000">
                          <a:off x="493272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33">
                              <a:moveTo>
                                <a:pt x="0" y="0"/>
                              </a:moveTo>
                              <a:lnTo>
                                <a:pt x="39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4966560" y="2994840"/>
                        <a:ext cx="34200" cy="21240"/>
                        <a:chOff x="4966560" y="2994840"/>
                        <a:chExt cx="34200" cy="21240"/>
                      </a:xfrm>
                    </p:grpSpPr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rot="10800000">
                          <a:off x="4966560" y="2994840"/>
                          <a:ext cx="3420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 rot="10800000">
                          <a:off x="497628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807080" y="2991600"/>
                    <a:ext cx="68040" cy="26640"/>
                    <a:chOff x="4807080" y="2991600"/>
                    <a:chExt cx="68040" cy="2664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4851720" y="2991600"/>
                      <a:ext cx="23400" cy="26640"/>
                      <a:chOff x="4851720" y="2991600"/>
                      <a:chExt cx="23400" cy="2664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 rot="10800000">
                        <a:off x="485208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8">
                            <a:moveTo>
                              <a:pt x="0" y="0"/>
                            </a:moveTo>
                            <a:lnTo>
                              <a:pt x="6" y="8"/>
                            </a:lnTo>
                            <a:lnTo>
                              <a:pt x="31" y="8"/>
                            </a:lnTo>
                            <a:lnTo>
                              <a:pt x="4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rot="10800000">
                        <a:off x="485856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3" y="0"/>
                            </a:lnTo>
                            <a:lnTo>
                              <a:pt x="39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 rot="10800000">
                        <a:off x="48664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9" y="0"/>
                            </a:moveTo>
                            <a:lnTo>
                              <a:pt x="14" y="6"/>
                            </a:lnTo>
                            <a:lnTo>
                              <a:pt x="9" y="25"/>
                            </a:lnTo>
                            <a:lnTo>
                              <a:pt x="0" y="3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rot="10800000">
                        <a:off x="486972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4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 rot="10800000">
                        <a:off x="485532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7" y="32"/>
                            </a:lnTo>
                            <a:lnTo>
                              <a:pt x="13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 rot="10800000">
                        <a:off x="48517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31">
                            <a:moveTo>
                              <a:pt x="5" y="6"/>
                            </a:moveTo>
                            <a:lnTo>
                              <a:pt x="16" y="0"/>
                            </a:lnTo>
                            <a:lnTo>
                              <a:pt x="6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 rot="10800000">
                        <a:off x="4856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6" y="0"/>
                            </a:lnTo>
                            <a:lnTo>
                              <a:pt x="40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4829400" y="2991600"/>
                      <a:ext cx="23760" cy="26640"/>
                      <a:chOff x="4829400" y="2991600"/>
                      <a:chExt cx="23760" cy="2664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 rot="10800000">
                        <a:off x="483012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0800000">
                        <a:off x="483732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10" y="0"/>
                            </a:lnTo>
                            <a:lnTo>
                              <a:pt x="35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rot="10800000">
                        <a:off x="48445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10" y="0"/>
                            </a:moveTo>
                            <a:lnTo>
                              <a:pt x="14" y="6"/>
                            </a:lnTo>
                            <a:lnTo>
                              <a:pt x="10" y="25"/>
                            </a:lnTo>
                            <a:lnTo>
                              <a:pt x="0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rot="10800000">
                        <a:off x="48477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5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rot="10800000">
                        <a:off x="48333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23"/>
                            </a:moveTo>
                            <a:lnTo>
                              <a:pt x="6" y="32"/>
                            </a:lnTo>
                            <a:lnTo>
                              <a:pt x="14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rot="10800000">
                        <a:off x="482940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5" y="6"/>
                            </a:moveTo>
                            <a:lnTo>
                              <a:pt x="14" y="0"/>
                            </a:lnTo>
                            <a:lnTo>
                              <a:pt x="5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 rot="10800000">
                        <a:off x="4833360" y="3003120"/>
                        <a:ext cx="1656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9">
                            <a:moveTo>
                              <a:pt x="0" y="4"/>
                            </a:moveTo>
                            <a:lnTo>
                              <a:pt x="9" y="0"/>
                            </a:lnTo>
                            <a:lnTo>
                              <a:pt x="37" y="0"/>
                            </a:lnTo>
                            <a:lnTo>
                              <a:pt x="42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4807080" y="2991600"/>
                      <a:ext cx="24480" cy="26640"/>
                      <a:chOff x="4807080" y="2991600"/>
                      <a:chExt cx="24480" cy="26640"/>
                    </a:xfrm>
                  </p:grpSpPr>
                  <p:sp>
                    <p:nvSpPr>
                      <p:cNvPr id="258" name=""/>
                      <p:cNvSpPr/>
                      <p:nvPr/>
                    </p:nvSpPr>
                    <p:spPr>
                      <a:xfrm rot="10800000">
                        <a:off x="4808880" y="3015360"/>
                        <a:ext cx="1476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 rot="10800000">
                        <a:off x="481500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6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rot="10800000">
                        <a:off x="4822200" y="3006000"/>
                        <a:ext cx="468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1">
                            <a:moveTo>
                              <a:pt x="8" y="0"/>
                            </a:moveTo>
                            <a:lnTo>
                              <a:pt x="13" y="6"/>
                            </a:lnTo>
                            <a:lnTo>
                              <a:pt x="8" y="25"/>
                            </a:lnTo>
                            <a:lnTo>
                              <a:pt x="0" y="3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 rot="10800000">
                        <a:off x="4825080" y="2991600"/>
                        <a:ext cx="64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10" y="23"/>
                            </a:lnTo>
                            <a:lnTo>
                              <a:pt x="14" y="5"/>
                            </a:lnTo>
                            <a:lnTo>
                              <a:pt x="1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rot="10800000">
                        <a:off x="481104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5" y="32"/>
                            </a:lnTo>
                            <a:lnTo>
                              <a:pt x="13" y="0"/>
                            </a:lnTo>
                            <a:lnTo>
                              <a:pt x="3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rot="10800000">
                        <a:off x="48070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1">
                            <a:moveTo>
                              <a:pt x="6" y="6"/>
                            </a:moveTo>
                            <a:lnTo>
                              <a:pt x="15" y="0"/>
                            </a:lnTo>
                            <a:lnTo>
                              <a:pt x="7" y="31"/>
                            </a:lnTo>
                            <a:lnTo>
                              <a:pt x="0" y="27"/>
                            </a:lnTo>
                            <a:lnTo>
                              <a:pt x="6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0800000">
                        <a:off x="4811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5" y="0"/>
                            </a:lnTo>
                            <a:lnTo>
                              <a:pt x="40" y="4"/>
                            </a:lnTo>
                            <a:lnTo>
                              <a:pt x="34" y="9"/>
                            </a:lnTo>
                            <a:lnTo>
                              <a:pt x="5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5" name=""/>
              <p:cNvSpPr/>
              <p:nvPr/>
            </p:nvSpPr>
            <p:spPr>
              <a:xfrm rot="10800000">
                <a:off x="4771080" y="2087640"/>
                <a:ext cx="1082520" cy="828720"/>
              </a:xfrm>
              <a:prstGeom prst="rect">
                <a:avLst/>
              </a:prstGeom>
              <a:solidFill>
                <a:srgbClr val="3f3f3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0800000">
                <a:off x="4815720" y="2133720"/>
                <a:ext cx="991800" cy="738000"/>
              </a:xfrm>
              <a:custGeom>
                <a:avLst/>
                <a:gdLst/>
                <a:ahLst/>
                <a:rect l="l" t="t" r="r" b="b"/>
                <a:pathLst>
                  <a:path w="2501" h="1860">
                    <a:moveTo>
                      <a:pt x="0" y="0"/>
                    </a:moveTo>
                    <a:lnTo>
                      <a:pt x="2500" y="0"/>
                    </a:lnTo>
                    <a:lnTo>
                      <a:pt x="2501" y="1860"/>
                    </a:lnTo>
                    <a:lnTo>
                      <a:pt x="0" y="18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0800000">
                <a:off x="5806440" y="2085480"/>
                <a:ext cx="47520" cy="831960"/>
              </a:xfrm>
              <a:custGeom>
                <a:avLst/>
                <a:gdLst/>
                <a:ahLst/>
                <a:rect l="l" t="t" r="r" b="b"/>
                <a:pathLst>
                  <a:path w="118" h="2097">
                    <a:moveTo>
                      <a:pt x="0" y="0"/>
                    </a:moveTo>
                    <a:lnTo>
                      <a:pt x="118" y="119"/>
                    </a:lnTo>
                    <a:lnTo>
                      <a:pt x="118" y="1979"/>
                    </a:lnTo>
                    <a:lnTo>
                      <a:pt x="0" y="20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0800000">
                <a:off x="4767840" y="2085480"/>
                <a:ext cx="45720" cy="831960"/>
              </a:xfrm>
              <a:custGeom>
                <a:avLst/>
                <a:gdLst/>
                <a:ahLst/>
                <a:rect l="l" t="t" r="r" b="b"/>
                <a:pathLst>
                  <a:path w="117" h="2097">
                    <a:moveTo>
                      <a:pt x="117" y="0"/>
                    </a:moveTo>
                    <a:lnTo>
                      <a:pt x="0" y="119"/>
                    </a:lnTo>
                    <a:lnTo>
                      <a:pt x="0" y="1979"/>
                    </a:lnTo>
                    <a:lnTo>
                      <a:pt x="117" y="2097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0800000">
                <a:off x="4768200" y="2084400"/>
                <a:ext cx="1085760" cy="47520"/>
              </a:xfrm>
              <a:custGeom>
                <a:avLst/>
                <a:gdLst/>
                <a:ahLst/>
                <a:rect l="l" t="t" r="r" b="b"/>
                <a:pathLst>
                  <a:path w="2736" h="118">
                    <a:moveTo>
                      <a:pt x="0" y="118"/>
                    </a:moveTo>
                    <a:lnTo>
                      <a:pt x="118" y="0"/>
                    </a:lnTo>
                    <a:lnTo>
                      <a:pt x="2619" y="0"/>
                    </a:lnTo>
                    <a:lnTo>
                      <a:pt x="2736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0800000">
                <a:off x="4769640" y="2085480"/>
                <a:ext cx="1085400" cy="831960"/>
              </a:xfrm>
              <a:custGeom>
                <a:avLst/>
                <a:gdLst/>
                <a:ahLst/>
                <a:rect l="l" t="t" r="r" b="b"/>
                <a:pathLst>
                  <a:path w="2735" h="2097">
                    <a:moveTo>
                      <a:pt x="2735" y="0"/>
                    </a:moveTo>
                    <a:lnTo>
                      <a:pt x="0" y="0"/>
                    </a:lnTo>
                    <a:lnTo>
                      <a:pt x="0" y="2097"/>
                    </a:lnTo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rot="19435800">
              <a:off x="5595840" y="4195440"/>
              <a:ext cx="659880" cy="552600"/>
            </a:xfrm>
            <a:prstGeom prst="rightArrow">
              <a:avLst>
                <a:gd name="adj1" fmla="val 50000"/>
                <a:gd name="adj2" fmla="val 2985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332200">
              <a:off x="7278120" y="3254040"/>
              <a:ext cx="660240" cy="552600"/>
            </a:xfrm>
            <a:prstGeom prst="rightArrow">
              <a:avLst>
                <a:gd name="adj1" fmla="val 50000"/>
                <a:gd name="adj2" fmla="val 2987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13267800">
              <a:off x="5457600" y="323712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5120" y="36306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T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7559640" y="2060640"/>
              <a:ext cx="12585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4713120" y="4357800"/>
              <a:ext cx="9950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7810560" y="4429080"/>
              <a:ext cx="95976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H="1" rot="1793400">
              <a:off x="7089840" y="421308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58920" y="1998720"/>
            <a:ext cx="6645600" cy="3735360"/>
            <a:chOff x="1258920" y="1998720"/>
            <a:chExt cx="6645600" cy="373536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258920" y="1998720"/>
              <a:ext cx="655308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44720" y="3651480"/>
              <a:ext cx="5638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8240" y="344664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0 millones de usuarios (US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11600" y="30657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4400" y="32180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6880" y="34466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1120" y="36752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75880" y="30355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Ra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5960" y="28670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3280" y="33703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6160" y="34164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0680" y="4678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03240" y="464832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adio: 38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8080" y="4776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62080" y="474696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V: 13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54600" y="4741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6040" y="471204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able: 1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26200" y="4741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60760" y="4712040"/>
              <a:ext cx="164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: 5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osibilidades de las TIC´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11640" y="2017440"/>
            <a:ext cx="474336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spacio: eliminación del espacio, trabajo distribuido, control a distancia, ubicabilidad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edio: digitalizado, mejor calidad, integrado, volumen de datos, manejo de la variedad y variabi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iempo: trabajo sincrónico y asincrónico, reducción del tiempo, en líne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8920" y="1773360"/>
            <a:ext cx="4156920" cy="4286880"/>
            <a:chOff x="178920" y="1773360"/>
            <a:chExt cx="4156920" cy="4286880"/>
          </a:xfrm>
        </p:grpSpPr>
        <p:sp>
          <p:nvSpPr>
            <p:cNvPr id="303" name=""/>
            <p:cNvSpPr/>
            <p:nvPr/>
          </p:nvSpPr>
          <p:spPr>
            <a:xfrm flipV="1">
              <a:off x="1598760" y="183384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98760" y="4505760"/>
              <a:ext cx="25714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78920" y="4505760"/>
              <a:ext cx="1419480" cy="15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8600" y="17733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6240" y="465336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4960" y="56613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Me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598760" y="3135600"/>
              <a:ext cx="903240" cy="13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0200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4040" y="53280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502000" y="45057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8760" y="4505760"/>
              <a:ext cx="1677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4040" y="31356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98760" y="231336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2404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598760" y="2313360"/>
              <a:ext cx="0" cy="2192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276720" y="23133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824040" y="4505760"/>
              <a:ext cx="774720" cy="822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82404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50200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37840" y="44611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2560" y="525960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ece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1960" y="425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4200" y="21085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esti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34040" y="41882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28480" y="416412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05120" y="1719360"/>
            <a:ext cx="5835600" cy="4360680"/>
            <a:chOff x="1905120" y="1719360"/>
            <a:chExt cx="5835600" cy="436068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1905120" y="1719360"/>
              <a:ext cx="5835600" cy="43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1905120" y="1719360"/>
              <a:ext cx="5835600" cy="436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99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0800000">
            <a:off x="1980720" y="2133720"/>
            <a:ext cx="304920" cy="304776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ol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638680"/>
            <a:ext cx="434340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volución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ey de Mo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6553440" cy="3772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77600" y="5753160"/>
            <a:ext cx="57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xbitlabs.com/articles/editorial/display/moo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11280" y="1989000"/>
            <a:ext cx="1371600" cy="1943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4076640"/>
            <a:ext cx="1892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rdon Moore,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R&amp;D director at Fairchild Semiconducto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513360"/>
            <a:ext cx="800100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enetración de modelos basados en T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1752480"/>
            <a:ext cx="7047000" cy="4267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31760" y="595008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uente: La economía digital 2003, C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3120" y="404640"/>
            <a:ext cx="8175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os sectores que han invertido más en TIC han crecido más rápi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47640" y="2016000"/>
            <a:ext cx="5861160" cy="3901320"/>
            <a:chOff x="1547640" y="2016000"/>
            <a:chExt cx="5861160" cy="3901320"/>
          </a:xfrm>
        </p:grpSpPr>
        <p:sp>
          <p:nvSpPr>
            <p:cNvPr id="345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28600" y="48999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8600" y="4487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600" y="4073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28600" y="36615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28600" y="32475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28600" y="28353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28600" y="242208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00160" y="53132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00160" y="48999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00160" y="4487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4073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160" y="36615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00160" y="3247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00160" y="28353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00160" y="242208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0286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8568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54204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3002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05872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81544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7216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2888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8760" y="3861360"/>
              <a:ext cx="101880" cy="100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5040" y="393480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6440" y="427968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5200" y="3826800"/>
              <a:ext cx="101520" cy="98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4720" y="3847680"/>
              <a:ext cx="10152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20640" y="392076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2400" y="4265640"/>
              <a:ext cx="101520" cy="9828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0800" y="381132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3320" y="2016000"/>
              <a:ext cx="467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"/>
                </a:rPr>
                <a:t>Gasto en TI como % del PIB VS Crecimiento del PIB 1996-20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1240" y="52588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1240" y="4846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1240" y="4432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21240" y="40204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1240" y="3607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1240" y="31946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21240" y="27810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21240" y="23688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602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165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74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30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99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456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034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6012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84800" y="2698200"/>
              <a:ext cx="59076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0000" y="2710440"/>
              <a:ext cx="42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ES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3480" y="4601880"/>
              <a:ext cx="791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7960" y="46123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INDUST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49520" y="5096520"/>
              <a:ext cx="112428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71840" y="5109120"/>
              <a:ext cx="103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48920" y="3836520"/>
              <a:ext cx="8679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72680" y="38476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ILVOAGROP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5440" y="4228560"/>
              <a:ext cx="753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9200" y="423900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ER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92200" y="3765960"/>
              <a:ext cx="118044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15600" y="3780360"/>
              <a:ext cx="105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LEC. GAS A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89800" y="2467080"/>
              <a:ext cx="5828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2840" y="247788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06600" y="2698200"/>
              <a:ext cx="842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271044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69240" y="284652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OMUNI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46160" y="3765960"/>
              <a:ext cx="860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69560" y="3780360"/>
              <a:ext cx="41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69920" y="39160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INANCIE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47640" y="2467080"/>
              <a:ext cx="2422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1364040" y="2621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Crec.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61920" y="5564880"/>
              <a:ext cx="102528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84960" y="557748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asto TI %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2">
              <a:lum bright="-18000"/>
            </a:blip>
            <a:stretch/>
          </p:blipFill>
          <p:spPr>
            <a:xfrm>
              <a:off x="3868560" y="3816000"/>
              <a:ext cx="19260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4212720" y="4228560"/>
              <a:ext cx="19224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>
              <a:lum bright="-18000"/>
            </a:blip>
            <a:stretch/>
          </p:blipFill>
          <p:spPr>
            <a:xfrm>
              <a:off x="5092200" y="391608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>
              <a:lum bright="-18000"/>
            </a:blip>
            <a:stretch/>
          </p:blipFill>
          <p:spPr>
            <a:xfrm>
              <a:off x="6251760" y="379116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rcRect l="16148" t="40189" r="62867" b="46671"/>
            <a:stretch/>
          </p:blipFill>
          <p:spPr>
            <a:xfrm>
              <a:off x="2324880" y="5055840"/>
              <a:ext cx="26424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rcRect l="0" t="0" r="17981" b="69591"/>
            <a:stretch/>
          </p:blipFill>
          <p:spPr>
            <a:xfrm>
              <a:off x="5506560" y="2489040"/>
              <a:ext cx="218160" cy="2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rcRect l="40143" t="40189" r="30713" b="37153"/>
            <a:stretch/>
          </p:blipFill>
          <p:spPr>
            <a:xfrm>
              <a:off x="2385720" y="2681280"/>
              <a:ext cx="2246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rcRect l="16148" t="40189" r="62867" b="46671"/>
            <a:stretch/>
          </p:blipFill>
          <p:spPr>
            <a:xfrm>
              <a:off x="2414160" y="4531320"/>
              <a:ext cx="264240" cy="3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rcRect l="0" t="0" r="17981" b="69591"/>
            <a:stretch/>
          </p:blipFill>
          <p:spPr>
            <a:xfrm>
              <a:off x="5824800" y="2701440"/>
              <a:ext cx="21852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987200" y="5671080"/>
              <a:ext cx="288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66"/>
                  </a:solidFill>
                  <a:latin typeface="Arial"/>
                </a:rPr>
                <a:t>Fuente: Centro Economía Digital C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bjetivo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GENERA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, modelar y (re) diseñar sistemas de información desde la perspectiva de los sistemas de administración de las organiz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las decisiones de (re) diseño de un sistema de información las tecnologías de información y comunicaciones modern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PECIFICO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ar y (re) diseñar modelos de negocios donde los sistemas de información y las tecnologías de información pueden cambiar significativamente los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el diseño de un Sistema de Información la arquitectura de negocios, y saber definir y especificar los requerimientos de información necesarios para su desarroll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 alternativas en el desarrollo de sistemas de información dentro de las organizacione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7561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cuesta de Proyectos de TI´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1% de proyectos cancelados (81 US$ billon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3% de proyectos con sobre costo de 90% (59 US$ billon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16% de proyectos exito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tudio de 7000 sistemas de Inform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5% sobre costo mayor a 50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0% requirieron el doble de tiempo 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0% entregó menos de la mitad de lo prometi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2277000" y="5805360"/>
            <a:ext cx="49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What is Alignment?, P. Strassmann, Agosto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486080" cy="1557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ero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s TIC son habilitadores para la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ben ser usadas 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cuando existan situaciones donde se justifiquen por ahorros de tiempo, mejoras en competitividad,  agregar valor al negocio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 incorporación SIEMPRE es algo complejo en l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: No son un bisturí, sino una verdadera espada para dar solución a los problemas. Entonces, piense  tres veces antes de aplicarlas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encia, competencia, ¿por qu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 tanta competenci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 momento que una empresa es creada, está “condenada” a crecer y competir por su lugar en el merc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tras empresas están en lo mismo y todas quieren  su “participación de mercado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onces, ¿cómo hacemos para que la empresa sea la mejor en su área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mero que todo, eliminando todo aquello que no sirve y no agrega valor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ndo, viendo que es lo que  se puede potenciar y permite eliminar holguras, tiempos muerto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 TIC entregan la infraestructura tecno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a para que la empresa sea más competi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mos hablando de Redes de datos, computadores, comunicaciones, software de oficina,  sistemas computacion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hora la parte amarga es que cuando se introduce una nueva tecnología, la empresa se ve resentida, es decir, no se absorbe de la noche a la mañ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 posible que el trauma que causa la TIC provoque el despido de personas que no se adapt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Y qué pasa si la TIC  termina matando el negocio de la empresa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cho  riesgo, mejor no hagamos nada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anterior es el pensamiento de muchos empresa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o pensemos en que pas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por ejemplo en un banco, si se volviera a los pape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simple: 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ea typeface="ＭＳ Ｐゴシック"/>
                <a:hlinkClick r:id="rId2"/>
              </a:rPr>
              <a:t>www.sii.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aun recuerdo haber hecho colas de ocho horas para timbrar una factura en la década de los 80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deremos todos los ahorros que ha traído ese sistema, pero no olvidemos los dolores de cabeza inici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 gran pregunta sigue siendo:  tengo varias gerencias en la empresa, cómo lo hago para que todas agreguen valor al negocio y con un objetivo en comú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gran problema es que, dependiendo del tamaño de la empresa, a veces las gerencias son feudos aparte, es decir, solo conversan entre s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Dividir para reinar?  OK, pero creando las instancias para que no se formen islas, sino un p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s unido y todos “remando” para un mismo l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ese sentido, las TIC pueden ser la clave para lograr que la empresa sea la mejor en su área y pueda alcanzar la tan ansiada ventaja competi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deas Cl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07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chos sistemas fallidos son abandonados porque los analistas trataron de construir un sistema fantástico pero sin entender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Objetivo Principal: Crear valor para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775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de Información (SI)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Sistema de Información es un conjunto de personas, datos, procesos, funciones, interfaces, redes y tecnología que interactúan para apoyar y mejorar las operaciones del día-a-día (muchas veces llamados servicios de procesamiento de datos), así como a los tomadores de decisiones (muchas veces llamados servicios de información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Computacional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a aplicación computacional es una solución basada en TIC’s para apoyar uno o más problemas o necesidades del negocio. Estas aplicaciones contienen generalmente computadores, redes, y una serie de tecnología asociad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916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Análisis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el estudio de un problema de negocio, con el propósito de recomendar mejoras y especificar los requerimientos del negocio  (manejo de información, toma de decisiones, estructura organizacional, tecnología, etc.) para la solu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seño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la especificación o construcción de una solución técnica, generalmente basada en tecnologías de información, para los requerimientos identificados en el análisis del sistema. (Note:  muchos diseños toman la forma de un prototipo de trabaj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Porqué los Negocios necesitan un análisis de Sistem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as tecnologías de información han tenido un gran desarrollo en los últimos años, con lo cual existen muchas aplicaciones que pueden resolver los problemas de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Hay una dicotomía entre las personas del negocio y las de tecnologías de información, hablan diferentes idiom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l análisis de sistema es el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puente de comunicación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entre las necesidades del negocio y aquellos de la tecnología de informació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analistas de sistemas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son las personas que desarrollan esta actividad, con lo cual requieren conocer aspectos del negocio y técnicos a la vez.</a:t>
            </a: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tudia los problemas y oportunidades de negocio, y entonces los transforma en especificaciones técnicas para que sean implantadas por diferentes especialistas técnic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de cátedra de 3,0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auxiliares de 1,5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troles (2) y un examen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rabajo en grupo,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nalist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 un solucionador de problemas de negocios. El ayuda a resolver los problemas del negocio usando conceptos de sistemas y tecnologías de información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Verdana"/>
              </a:rPr>
              <a:t>vende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a los administradores y usuarios el concepto de las nuevas soluciones (i.e., es un agente de cambi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Rol del Analista de Sistem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Negocio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sarrolla el análisis de los problemas del negocio, especificando sus requerimientos, desde un punto de vista de independencia de la tecnologí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Aplicación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be diseñar las aplicaciones y las tecnologías de información que las apoyan. Un sinónimo de esta característica es </a:t>
            </a:r>
            <a:r>
              <a:rPr b="0" i="1" lang="es-CL" sz="1700" spc="-1" strike="noStrike">
                <a:solidFill>
                  <a:srgbClr val="000000"/>
                </a:solidFill>
                <a:latin typeface="Verdana"/>
              </a:rPr>
              <a:t>arquitecto de sistema o apli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Vi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identificar el alcance y objetivos del problema, construir un plan de desarrollo y metas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estudiar y analizar el problema, causas y efectos. Entonces, identificar y analizar los requerimientos que deben ser satisfechos por las alternativas de solu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-  si es necesario, diseñar la solución desde el punto de vista de negocios y técnico. No todas las soluciones requieren 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Implant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llevar a cabo la solución propues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poyo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analizar la solución propuesta, refinar el diseño e implantar las mejoras a la solu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DATOS, incluyendo la captura - adquisición, validación, organización, almacenamiento y u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ROCESOS, incluyendo ambos automatizados y manuales, que permiten transformar los datos en información y accion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INTERFACES, incluyendo aquellas de sistemas y aplicaciones, ya sea para los usuarios u otras aplicaciones (i.e., reportes, pantallas, archivos de intercambio, etc.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COMUNICACIONES, que distribuyen datos, procesos e información efectivamente entre los usuarios del sist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ERSONAS, incluyendo administradores, usuarios y desarrolladores – además del comportamiento organizacional y político que ocurre cuando las personas interactúa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ntiende por un buen manejo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el buen manejo de la información puede convertirse en una ventaja competitiv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eguntas en relación al Transantiag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Son las TIC un problema importante dentro de los qu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factores han sido los que por no haberse considerado, diseñado e implementado bien, hace que no opere adecuada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s TIC comparada con las anteri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resumen: ¿Los problemas del Transantiago son de gestión o tecnológic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la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sistencia: se considera importante asisti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untualidad: las clases comienzan a las 10:15 y terminan a las 11:45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Fechas: el calendario del curso es inamovible (ver más adela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sponsabilidad: cada alumno es responsable de su educación (participación, lectura, trabajo de grupo en el proyecto y lecturas de actual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dicación: 3.0 hrs de clase, 1.5 hrs de auxiliar y 5.5 hrs de trabajo pers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 de las cavernas, los seres humanos se han organizado para asegurar su superviv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ganización: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S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istemas dise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d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os para lograr metas y objetivos por medio de los recursos humanos y de otro tipo”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 (Fuente: Wikipedi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componen de subsistemas interrelacionados que cumplen funciones especializad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s ancestrales, el concepto de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no ha cambiado, lo que si ha variado es la forma en que los individuos se organiz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organización es prácticamente un “ser vivo”, por lo que su evolución en el tiempo, no debería de extrañar a nad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 evolución está directamente relacionada con la forma en que la organización enfrenta a su competencia y a los nuevos desafí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las empresas,  existe el paradigma de “dividir para reinar” es decir,  la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se divide en partes más fundamentales y administr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a afirmación anterior, nacen los clásicos organigramas que viene a explicar la composición de la empresa y cómo se interrelacio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éxito o fracaso de una organización justamente radica en la forma en que sus distintas partes logran met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86200" y="1905120"/>
            <a:ext cx="1572120" cy="533160"/>
            <a:chOff x="3886200" y="1905120"/>
            <a:chExt cx="1572120" cy="533160"/>
          </a:xfrm>
        </p:grpSpPr>
        <p:sp>
          <p:nvSpPr>
            <p:cNvPr id="106" name=""/>
            <p:cNvSpPr/>
            <p:nvPr/>
          </p:nvSpPr>
          <p:spPr>
            <a:xfrm>
              <a:off x="3886200" y="1905120"/>
              <a:ext cx="15238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6000" y="19810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rec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24960" y="3003480"/>
            <a:ext cx="2375280" cy="425160"/>
            <a:chOff x="3324960" y="3003480"/>
            <a:chExt cx="2375280" cy="425160"/>
          </a:xfrm>
        </p:grpSpPr>
        <p:sp>
          <p:nvSpPr>
            <p:cNvPr id="109" name=""/>
            <p:cNvSpPr/>
            <p:nvPr/>
          </p:nvSpPr>
          <p:spPr>
            <a:xfrm>
              <a:off x="3324960" y="300348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rencia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4480" y="3047760"/>
              <a:ext cx="2209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640" y="4038480"/>
            <a:ext cx="1826640" cy="457200"/>
            <a:chOff x="26640" y="4038480"/>
            <a:chExt cx="1826640" cy="457200"/>
          </a:xfrm>
        </p:grpSpPr>
        <p:sp>
          <p:nvSpPr>
            <p:cNvPr id="112" name=""/>
            <p:cNvSpPr/>
            <p:nvPr/>
          </p:nvSpPr>
          <p:spPr>
            <a:xfrm>
              <a:off x="26640" y="407016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abi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20" y="4038480"/>
              <a:ext cx="1752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26960" y="4038480"/>
            <a:ext cx="1080000" cy="399960"/>
            <a:chOff x="3126960" y="4038480"/>
            <a:chExt cx="1080000" cy="399960"/>
          </a:xfrm>
        </p:grpSpPr>
        <p:sp>
          <p:nvSpPr>
            <p:cNvPr id="115" name=""/>
            <p:cNvSpPr/>
            <p:nvPr/>
          </p:nvSpPr>
          <p:spPr>
            <a:xfrm>
              <a:off x="3126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R. 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9920" y="4038480"/>
              <a:ext cx="10670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52920" y="3994200"/>
            <a:ext cx="1140840" cy="425160"/>
            <a:chOff x="1852920" y="3994200"/>
            <a:chExt cx="1140840" cy="425160"/>
          </a:xfrm>
        </p:grpSpPr>
        <p:sp>
          <p:nvSpPr>
            <p:cNvPr id="118" name=""/>
            <p:cNvSpPr/>
            <p:nvPr/>
          </p:nvSpPr>
          <p:spPr>
            <a:xfrm>
              <a:off x="1852920" y="39942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anz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0600" y="40384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896160" y="3994200"/>
            <a:ext cx="1963800" cy="425520"/>
            <a:chOff x="6896160" y="3994200"/>
            <a:chExt cx="1963800" cy="425520"/>
          </a:xfrm>
        </p:grpSpPr>
        <p:sp>
          <p:nvSpPr>
            <p:cNvPr id="121" name=""/>
            <p:cNvSpPr/>
            <p:nvPr/>
          </p:nvSpPr>
          <p:spPr>
            <a:xfrm>
              <a:off x="6896160" y="399420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6120" y="403884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343400" y="3994200"/>
            <a:ext cx="1447920" cy="425520"/>
            <a:chOff x="4343400" y="3994200"/>
            <a:chExt cx="1447920" cy="425520"/>
          </a:xfrm>
        </p:grpSpPr>
        <p:sp>
          <p:nvSpPr>
            <p:cNvPr id="124" name=""/>
            <p:cNvSpPr/>
            <p:nvPr/>
          </p:nvSpPr>
          <p:spPr>
            <a:xfrm>
              <a:off x="4357440" y="39942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4038480"/>
              <a:ext cx="144792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1143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724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925960" y="4038480"/>
            <a:ext cx="1003680" cy="399960"/>
            <a:chOff x="5925960" y="4038480"/>
            <a:chExt cx="1003680" cy="399960"/>
          </a:xfrm>
        </p:grpSpPr>
        <p:sp>
          <p:nvSpPr>
            <p:cNvPr id="135" name=""/>
            <p:cNvSpPr/>
            <p:nvPr/>
          </p:nvSpPr>
          <p:spPr>
            <a:xfrm>
              <a:off x="5925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9440" y="4038480"/>
              <a:ext cx="9144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000" y="191124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na empresa a gran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rasgos tie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8840" y="489276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… 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da una de sus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reas tiene un objetivo bien definid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rectorio. Por lo general son los dueños o sus representantes, encargados de definir las metas de largo plazo (son los que ponen las $$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rencia General. Define las estrategias de corto y mediano plazo para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inanzas. Responsable de administrar los dineros de la empresa (gestionar cr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ditos, hacer inversiones, preparar estados de resultado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abilidad. Registrar todas las entradas y salidas de la empresa, calcular los impuestos, pagos de sueld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Ucurso</cp:lastModifiedBy>
  <cp:lastPrinted>2001-07-30T13:16:05Z</cp:lastPrinted>
  <dcterms:modified xsi:type="dcterms:W3CDTF">2007-03-06T13:14:09Z</dcterms:modified>
  <cp:revision>64</cp:revision>
  <dc:subject/>
  <dc:title>Introducción al Análisis de los Sistemas de Información Administrativos</dc:title>
</cp:coreProperties>
</file>