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572E5-4AC5-4B99-B571-A4344BD3730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7447C-E9AB-4197-84FC-E3AEB434F95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8FB05-0F6C-4341-97AF-6A38B66C480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F559D-D1DD-4CD2-ABA4-7EDB8D2213C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883226-FC0C-4139-B73A-45742364E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1A9803-701C-4A6F-8CCA-24D1903C8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D17967-ABEC-478B-86F6-73C55CBC2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9A2350-2EA3-416A-B68B-D1CC9032F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69F9D1-DE50-4F0D-B166-EA51355B7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948465-50DD-44E8-AE19-EFF4FD6AA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A11965-E168-4054-8EC3-738B60D93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A2E191-7785-464B-91AE-F081D1346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CA2115-BABE-4052-85CA-C2AFE1E8C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29749C-FD9A-4955-9C21-271A641B3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59E61A-D605-4813-82EE-3E2AED716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C7F946-A986-4707-AD4F-CF06027EF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278720" indent="-3873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59600" indent="-37944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1640" indent="-38988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1640" indent="-38988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1640" indent="-38988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11280" y="6244920"/>
            <a:ext cx="792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55A, Sistemas de Información Administrativos                                          Otoño 2007   1-</a:t>
            </a:r>
            <a:fld id="{E6FF8CDA-9AF9-43F2-B2CA-A2FDC0DA2D2C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3CD5D-9B1E-4059-AD82-D391FDE22CD2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ii.cl/" TargetMode="External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3818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Introducción a la organizaci</a:t>
            </a:r>
            <a:r>
              <a:rPr b="0" lang="es-ES_tradnl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, las decisiones y la informació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62120" y="4647960"/>
            <a:ext cx="7772400" cy="13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stemas de Información Administrativ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Derechos Reservados (c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ntendiendo la… (6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RR.HH.  Encargada de la gesti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del recurso más valioso de la empresa: las personas, contrata cursos, bienestar de personal, gestiona convenios, etc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arketing. Prepara las campañas de difusión de las actividades de la empresa, sobre todo en lo concerniente a la venta de sus productos y servicio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Ventas. Lleva el control de las ventas diarias y por sobre todo de la fuerza de ventas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dquisiciones. Se encarga de las compras de insumos de la empres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ntendiendo la… (7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¿C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mo hacemos para que la empresa funcion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 veces nos cuesta ponernos de acuerdo respecto del pub donde iremos tres persona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arle vida a una empresa no es una empresa fácil!!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ntes de que aparecieran las TIC-Tecnologías de Información y Comunicaciones (ICT del inglés) todo era a base de ordenes verbales y papeles, muuuchooos papeles…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ntendiendo la… (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36680" indent="-436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Lo anterior no es malo, pero en una sociedad globalizada donde la informaci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fluye y el conocimiento universal se duplica cada  5 años, el modelo anterior tal vez no sirv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ra que una empresa pueda competir en el mercado, tiene que entender que su competencia no está al frente de su local, sino en el mundo enter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as TIC pueden ser la respuesta para hacer que la empresa compita en el mercad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566280" y="1860480"/>
            <a:ext cx="44370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onvergencia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Computació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Comunicacion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Contenid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Globalizac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Integración de negoci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liminación de holgur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Tendenci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4427640" y="2060640"/>
            <a:ext cx="4390560" cy="3552840"/>
            <a:chOff x="4427640" y="2060640"/>
            <a:chExt cx="4390560" cy="3552840"/>
          </a:xfrm>
        </p:grpSpPr>
        <p:grpSp>
          <p:nvGrpSpPr>
            <p:cNvPr id="151" name=""/>
            <p:cNvGrpSpPr/>
            <p:nvPr/>
          </p:nvGrpSpPr>
          <p:grpSpPr>
            <a:xfrm>
              <a:off x="4427640" y="2414520"/>
              <a:ext cx="4326480" cy="3096720"/>
              <a:chOff x="4427640" y="2414520"/>
              <a:chExt cx="4326480" cy="3096720"/>
            </a:xfrm>
          </p:grpSpPr>
          <p:grpSp>
            <p:nvGrpSpPr>
              <p:cNvPr id="152" name=""/>
              <p:cNvGrpSpPr/>
              <p:nvPr/>
            </p:nvGrpSpPr>
            <p:grpSpPr>
              <a:xfrm>
                <a:off x="4427640" y="2414520"/>
                <a:ext cx="4326480" cy="3094200"/>
                <a:chOff x="4427640" y="2414520"/>
                <a:chExt cx="4326480" cy="309420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5205240" y="2503800"/>
                  <a:ext cx="609480" cy="718560"/>
                </a:xfrm>
                <a:prstGeom prst="ellipse">
                  <a:avLst/>
                </a:pr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5879160" y="2414520"/>
                  <a:ext cx="608040" cy="720360"/>
                </a:xfrm>
                <a:prstGeom prst="ellipse">
                  <a:avLst/>
                </a:pr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4717800" y="2873160"/>
                  <a:ext cx="608400" cy="720360"/>
                </a:xfrm>
                <a:prstGeom prst="ellipse">
                  <a:avLst/>
                </a:pr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4427640" y="3505680"/>
                  <a:ext cx="609840" cy="720360"/>
                </a:xfrm>
                <a:prstGeom prst="ellipse">
                  <a:avLst/>
                </a:pr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4636800" y="4844880"/>
                  <a:ext cx="471600" cy="556560"/>
                </a:xfrm>
                <a:prstGeom prst="ellipse">
                  <a:avLst/>
                </a:pr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584960" y="4150080"/>
                  <a:ext cx="357480" cy="421200"/>
                </a:xfrm>
                <a:prstGeom prst="ellipse">
                  <a:avLst/>
                </a:pr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4538520" y="4417560"/>
                  <a:ext cx="398880" cy="468720"/>
                </a:xfrm>
                <a:prstGeom prst="ellipse">
                  <a:avLst/>
                </a:pr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428080" y="4958280"/>
                  <a:ext cx="1031040" cy="550440"/>
                </a:xfrm>
                <a:prstGeom prst="ellipse">
                  <a:avLst/>
                </a:pr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950520" y="2556000"/>
                  <a:ext cx="608040" cy="722160"/>
                </a:xfrm>
                <a:prstGeom prst="ellipse">
                  <a:avLst/>
                </a:pr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7931880" y="2478240"/>
                  <a:ext cx="414720" cy="496800"/>
                </a:xfrm>
                <a:prstGeom prst="ellipse">
                  <a:avLst/>
                </a:pr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7743600" y="2665440"/>
                  <a:ext cx="305640" cy="359280"/>
                </a:xfrm>
                <a:prstGeom prst="ellipse">
                  <a:avLst/>
                </a:pr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7857720" y="2683440"/>
                  <a:ext cx="896400" cy="1061280"/>
                </a:xfrm>
                <a:prstGeom prst="ellipse">
                  <a:avLst/>
                </a:pr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8120160" y="4254480"/>
                  <a:ext cx="514800" cy="616320"/>
                </a:xfrm>
                <a:prstGeom prst="ellipse">
                  <a:avLst/>
                </a:pr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7717680" y="4451760"/>
                  <a:ext cx="687600" cy="820080"/>
                </a:xfrm>
                <a:prstGeom prst="ellipse">
                  <a:avLst/>
                </a:pr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4479480" y="2424240"/>
                <a:ext cx="4212720" cy="3087000"/>
                <a:chOff x="4479480" y="2424240"/>
                <a:chExt cx="4212720" cy="308700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5267520" y="2559960"/>
                  <a:ext cx="527040" cy="60444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4582800" y="4499280"/>
                  <a:ext cx="361080" cy="41472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8094240" y="3938760"/>
                  <a:ext cx="359280" cy="41472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7430760" y="2733120"/>
                  <a:ext cx="392040" cy="46260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5930640" y="2555640"/>
                  <a:ext cx="359280" cy="41472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5711400" y="2745360"/>
                  <a:ext cx="362520" cy="41472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343920" y="4964040"/>
                  <a:ext cx="360720" cy="41508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6571800" y="2649600"/>
                  <a:ext cx="485280" cy="51084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6075720" y="2424240"/>
                  <a:ext cx="567000" cy="65412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6945120" y="2613600"/>
                  <a:ext cx="567000" cy="65412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4769640" y="2949120"/>
                  <a:ext cx="618120" cy="64260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4479480" y="3557520"/>
                  <a:ext cx="568440" cy="65412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8021880" y="4237920"/>
                  <a:ext cx="566640" cy="65232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7337160" y="4559040"/>
                  <a:ext cx="568440" cy="65448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5080320" y="4844880"/>
                  <a:ext cx="608400" cy="66636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4686480" y="4868640"/>
                  <a:ext cx="485280" cy="55836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7741800" y="4475520"/>
                  <a:ext cx="587520" cy="67824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6634080" y="4403520"/>
                  <a:ext cx="815400" cy="94212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5451840" y="4271760"/>
                  <a:ext cx="1045440" cy="115524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4635000" y="4178160"/>
                  <a:ext cx="298800" cy="34272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8166960" y="3653280"/>
                  <a:ext cx="297360" cy="34344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7773120" y="2709000"/>
                  <a:ext cx="919080" cy="105984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0" name=""/>
              <p:cNvSpPr/>
              <p:nvPr/>
            </p:nvSpPr>
            <p:spPr>
              <a:xfrm>
                <a:off x="4937400" y="2925360"/>
                <a:ext cx="3589200" cy="2262600"/>
              </a:xfrm>
              <a:custGeom>
                <a:avLst/>
                <a:gdLst/>
                <a:ahLst/>
                <a:rect l="l" t="t" r="r" b="b"/>
                <a:pathLst>
                  <a:path w="2077" h="1134">
                    <a:moveTo>
                      <a:pt x="425" y="54"/>
                    </a:moveTo>
                    <a:lnTo>
                      <a:pt x="192" y="84"/>
                    </a:lnTo>
                    <a:lnTo>
                      <a:pt x="0" y="812"/>
                    </a:lnTo>
                    <a:lnTo>
                      <a:pt x="150" y="1026"/>
                    </a:lnTo>
                    <a:lnTo>
                      <a:pt x="575" y="1014"/>
                    </a:lnTo>
                    <a:lnTo>
                      <a:pt x="1024" y="1134"/>
                    </a:lnTo>
                    <a:lnTo>
                      <a:pt x="1258" y="1056"/>
                    </a:lnTo>
                    <a:lnTo>
                      <a:pt x="1892" y="925"/>
                    </a:lnTo>
                    <a:lnTo>
                      <a:pt x="1994" y="830"/>
                    </a:lnTo>
                    <a:lnTo>
                      <a:pt x="1970" y="633"/>
                    </a:lnTo>
                    <a:lnTo>
                      <a:pt x="2077" y="441"/>
                    </a:lnTo>
                    <a:lnTo>
                      <a:pt x="1790" y="197"/>
                    </a:lnTo>
                    <a:lnTo>
                      <a:pt x="1664" y="96"/>
                    </a:lnTo>
                    <a:lnTo>
                      <a:pt x="928" y="0"/>
                    </a:lnTo>
                    <a:lnTo>
                      <a:pt x="425" y="54"/>
                    </a:lnTo>
                    <a:close/>
                  </a:path>
                </a:pathLst>
              </a:custGeom>
              <a:solidFill>
                <a:srgbClr val="ffb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1" name=""/>
              <p:cNvGrpSpPr/>
              <p:nvPr/>
            </p:nvGrpSpPr>
            <p:grpSpPr>
              <a:xfrm>
                <a:off x="4659120" y="2952720"/>
                <a:ext cx="3884040" cy="2288160"/>
                <a:chOff x="4659120" y="2952720"/>
                <a:chExt cx="3884040" cy="228816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4804200" y="4515120"/>
                  <a:ext cx="569880" cy="6544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659120" y="3405600"/>
                  <a:ext cx="572040" cy="6544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7973280" y="2952720"/>
                  <a:ext cx="569880" cy="6544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7952400" y="3882600"/>
                  <a:ext cx="466560" cy="5346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4707360" y="3489840"/>
                  <a:ext cx="597600" cy="68976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4842360" y="4551120"/>
                  <a:ext cx="597600" cy="68976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7907760" y="3012840"/>
                  <a:ext cx="597240" cy="68796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7834680" y="3846600"/>
                  <a:ext cx="515160" cy="59436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4679640" y="3750840"/>
                  <a:ext cx="551160" cy="5943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749120" y="3763080"/>
                  <a:ext cx="516240" cy="59436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7651800" y="3024360"/>
                  <a:ext cx="572040" cy="6544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7659000" y="3084120"/>
                  <a:ext cx="516240" cy="59472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8049240" y="4287960"/>
                  <a:ext cx="376920" cy="4406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8021880" y="4311360"/>
                  <a:ext cx="348480" cy="40536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6" name=""/>
            <p:cNvGrpSpPr/>
            <p:nvPr/>
          </p:nvGrpSpPr>
          <p:grpSpPr>
            <a:xfrm>
              <a:off x="4744800" y="2063520"/>
              <a:ext cx="1133280" cy="1084320"/>
              <a:chOff x="4744800" y="2063520"/>
              <a:chExt cx="1133280" cy="1084320"/>
            </a:xfrm>
          </p:grpSpPr>
          <p:grpSp>
            <p:nvGrpSpPr>
              <p:cNvPr id="207" name=""/>
              <p:cNvGrpSpPr/>
              <p:nvPr/>
            </p:nvGrpSpPr>
            <p:grpSpPr>
              <a:xfrm>
                <a:off x="4746240" y="2063520"/>
                <a:ext cx="1129680" cy="995400"/>
                <a:chOff x="4746240" y="2063520"/>
                <a:chExt cx="1129680" cy="995400"/>
              </a:xfrm>
            </p:grpSpPr>
            <p:sp>
              <p:nvSpPr>
                <p:cNvPr id="208" name=""/>
                <p:cNvSpPr/>
                <p:nvPr/>
              </p:nvSpPr>
              <p:spPr>
                <a:xfrm rot="10800000">
                  <a:off x="4746240" y="2063520"/>
                  <a:ext cx="1129680" cy="995400"/>
                </a:xfrm>
                <a:prstGeom prst="rect">
                  <a:avLst/>
                </a:prstGeom>
                <a:solidFill>
                  <a:srgbClr val="7f5f3f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rot="10800000">
                  <a:off x="4746240" y="2063520"/>
                  <a:ext cx="1129680" cy="882000"/>
                </a:xfrm>
                <a:prstGeom prst="rect">
                  <a:avLst/>
                </a:prstGeom>
                <a:solidFill>
                  <a:srgbClr val="7f5f3f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0" name=""/>
              <p:cNvSpPr/>
              <p:nvPr/>
            </p:nvSpPr>
            <p:spPr>
              <a:xfrm rot="10800000">
                <a:off x="4744800" y="3060360"/>
                <a:ext cx="1133280" cy="87480"/>
              </a:xfrm>
              <a:custGeom>
                <a:avLst/>
                <a:gdLst/>
                <a:ahLst/>
                <a:rect l="l" t="t" r="r" b="b"/>
                <a:pathLst>
                  <a:path w="2856" h="221">
                    <a:moveTo>
                      <a:pt x="0" y="221"/>
                    </a:moveTo>
                    <a:lnTo>
                      <a:pt x="2856" y="221"/>
                    </a:lnTo>
                    <a:lnTo>
                      <a:pt x="2703" y="0"/>
                    </a:lnTo>
                    <a:lnTo>
                      <a:pt x="152" y="0"/>
                    </a:lnTo>
                    <a:lnTo>
                      <a:pt x="0" y="221"/>
                    </a:lnTo>
                    <a:close/>
                  </a:path>
                </a:pathLst>
              </a:custGeom>
              <a:solidFill>
                <a:srgbClr val="9f3f00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1" name=""/>
              <p:cNvGrpSpPr/>
              <p:nvPr/>
            </p:nvGrpSpPr>
            <p:grpSpPr>
              <a:xfrm>
                <a:off x="4769640" y="2973600"/>
                <a:ext cx="1085400" cy="63360"/>
                <a:chOff x="4769640" y="2973600"/>
                <a:chExt cx="1085400" cy="63360"/>
              </a:xfrm>
            </p:grpSpPr>
            <p:grpSp>
              <p:nvGrpSpPr>
                <p:cNvPr id="212" name=""/>
                <p:cNvGrpSpPr/>
                <p:nvPr/>
              </p:nvGrpSpPr>
              <p:grpSpPr>
                <a:xfrm>
                  <a:off x="4769640" y="2973600"/>
                  <a:ext cx="1085400" cy="63360"/>
                  <a:chOff x="4769640" y="2973600"/>
                  <a:chExt cx="1085400" cy="63360"/>
                </a:xfrm>
              </p:grpSpPr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4769640" y="2973600"/>
                    <a:ext cx="1085400" cy="63360"/>
                    <a:chOff x="4769640" y="2973600"/>
                    <a:chExt cx="1085400" cy="633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rot="10800000">
                      <a:off x="4769640" y="2973600"/>
                      <a:ext cx="1085400" cy="63360"/>
                    </a:xfrm>
                    <a:prstGeom prst="rect">
                      <a:avLst/>
                    </a:prstGeom>
                    <a:solidFill>
                      <a:srgbClr val="9f9f9f"/>
                    </a:solidFill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rot="10800000">
                      <a:off x="4770000" y="2974320"/>
                      <a:ext cx="1084680" cy="6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5" h="159">
                          <a:moveTo>
                            <a:pt x="0" y="159"/>
                          </a:moveTo>
                          <a:lnTo>
                            <a:pt x="0" y="0"/>
                          </a:lnTo>
                          <a:lnTo>
                            <a:pt x="2735" y="0"/>
                          </a:lnTo>
                        </a:path>
                      </a:pathLst>
                    </a:custGeom>
                    <a:noFill/>
                    <a:ln w="7920">
                      <a:solidFill>
                        <a:srgbClr val="c0c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120" bIns="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 rot="10800000">
                      <a:off x="5274000" y="2986200"/>
                      <a:ext cx="568800" cy="37440"/>
                    </a:xfrm>
                    <a:prstGeom prst="rect">
                      <a:avLst/>
                    </a:prstGeom>
                    <a:solidFill>
                      <a:srgbClr val="9f9f9f"/>
                    </a:solidFill>
                    <a:ln w="7920">
                      <a:solidFill>
                        <a:srgbClr val="5f5f5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17" name=""/>
                  <p:cNvSpPr/>
                  <p:nvPr/>
                </p:nvSpPr>
                <p:spPr>
                  <a:xfrm rot="10800000">
                    <a:off x="4795920" y="2988000"/>
                    <a:ext cx="450720" cy="33480"/>
                  </a:xfrm>
                  <a:prstGeom prst="rect">
                    <a:avLst/>
                  </a:prstGeom>
                  <a:solidFill>
                    <a:srgbClr val="000000"/>
                  </a:solidFill>
                  <a:ln w="792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8" name=""/>
                <p:cNvGrpSpPr/>
                <p:nvPr/>
              </p:nvGrpSpPr>
              <p:grpSpPr>
                <a:xfrm>
                  <a:off x="4807080" y="2991600"/>
                  <a:ext cx="424440" cy="26640"/>
                  <a:chOff x="4807080" y="2991600"/>
                  <a:chExt cx="424440" cy="26640"/>
                </a:xfrm>
              </p:grpSpPr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4922280" y="2992320"/>
                    <a:ext cx="309240" cy="25920"/>
                    <a:chOff x="4922280" y="2992320"/>
                    <a:chExt cx="309240" cy="25920"/>
                  </a:xfrm>
                </p:grpSpPr>
                <p:grpSp>
                  <p:nvGrpSpPr>
                    <p:cNvPr id="220" name=""/>
                    <p:cNvGrpSpPr/>
                    <p:nvPr/>
                  </p:nvGrpSpPr>
                  <p:grpSpPr>
                    <a:xfrm>
                      <a:off x="5126760" y="2993040"/>
                      <a:ext cx="104760" cy="23040"/>
                      <a:chOff x="5126760" y="2993040"/>
                      <a:chExt cx="104760" cy="23040"/>
                    </a:xfrm>
                  </p:grpSpPr>
                  <p:sp>
                    <p:nvSpPr>
                      <p:cNvPr id="221" name=""/>
                      <p:cNvSpPr/>
                      <p:nvPr/>
                    </p:nvSpPr>
                    <p:spPr>
                      <a:xfrm rot="10800000">
                        <a:off x="5227560" y="2993040"/>
                        <a:ext cx="3960" cy="23040"/>
                      </a:xfrm>
                      <a:prstGeom prst="rect">
                        <a:avLst/>
                      </a:prstGeom>
                      <a:solidFill>
                        <a:srgbClr val="808080"/>
                      </a:solidFill>
                      <a:ln w="7920">
                        <a:solidFill>
                          <a:srgbClr val="5f5f5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760" bIns="-23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2" name=""/>
                      <p:cNvSpPr/>
                      <p:nvPr/>
                    </p:nvSpPr>
                    <p:spPr>
                      <a:xfrm rot="10800000">
                        <a:off x="5202360" y="2993040"/>
                        <a:ext cx="4680" cy="23040"/>
                      </a:xfrm>
                      <a:prstGeom prst="rect">
                        <a:avLst/>
                      </a:prstGeom>
                      <a:solidFill>
                        <a:srgbClr val="808080"/>
                      </a:solidFill>
                      <a:ln w="7920">
                        <a:solidFill>
                          <a:srgbClr val="5f5f5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760" bIns="-23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3" name=""/>
                      <p:cNvSpPr/>
                      <p:nvPr/>
                    </p:nvSpPr>
                    <p:spPr>
                      <a:xfrm rot="10800000">
                        <a:off x="5177160" y="2993040"/>
                        <a:ext cx="5400" cy="23040"/>
                      </a:xfrm>
                      <a:prstGeom prst="rect">
                        <a:avLst/>
                      </a:prstGeom>
                      <a:solidFill>
                        <a:srgbClr val="808080"/>
                      </a:solidFill>
                      <a:ln w="7920">
                        <a:solidFill>
                          <a:srgbClr val="5f5f5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760" bIns="-23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4" name=""/>
                      <p:cNvSpPr/>
                      <p:nvPr/>
                    </p:nvSpPr>
                    <p:spPr>
                      <a:xfrm rot="10800000">
                        <a:off x="5152320" y="2993040"/>
                        <a:ext cx="3960" cy="23040"/>
                      </a:xfrm>
                      <a:prstGeom prst="rect">
                        <a:avLst/>
                      </a:prstGeom>
                      <a:solidFill>
                        <a:srgbClr val="808080"/>
                      </a:solidFill>
                      <a:ln w="7920">
                        <a:solidFill>
                          <a:srgbClr val="5f5f5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760" bIns="-23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5" name=""/>
                      <p:cNvSpPr/>
                      <p:nvPr/>
                    </p:nvSpPr>
                    <p:spPr>
                      <a:xfrm rot="10800000">
                        <a:off x="5126760" y="2993040"/>
                        <a:ext cx="4680" cy="23040"/>
                      </a:xfrm>
                      <a:prstGeom prst="rect">
                        <a:avLst/>
                      </a:prstGeom>
                      <a:solidFill>
                        <a:srgbClr val="808080"/>
                      </a:solidFill>
                      <a:ln w="7920">
                        <a:solidFill>
                          <a:srgbClr val="5f5f5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760" bIns="-23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26" name=""/>
                    <p:cNvGrpSpPr/>
                    <p:nvPr/>
                  </p:nvGrpSpPr>
                  <p:grpSpPr>
                    <a:xfrm>
                      <a:off x="5023800" y="2992320"/>
                      <a:ext cx="78480" cy="25920"/>
                      <a:chOff x="5023800" y="2992320"/>
                      <a:chExt cx="78480" cy="25920"/>
                    </a:xfrm>
                  </p:grpSpPr>
                  <p:grpSp>
                    <p:nvGrpSpPr>
                      <p:cNvPr id="227" name=""/>
                      <p:cNvGrpSpPr/>
                      <p:nvPr/>
                    </p:nvGrpSpPr>
                    <p:grpSpPr>
                      <a:xfrm>
                        <a:off x="5023800" y="2992320"/>
                        <a:ext cx="38880" cy="25920"/>
                        <a:chOff x="5023800" y="2992320"/>
                        <a:chExt cx="38880" cy="25920"/>
                      </a:xfrm>
                    </p:grpSpPr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rot="10800000">
                          <a:off x="5023800" y="2992320"/>
                          <a:ext cx="38880" cy="25920"/>
                        </a:xfrm>
                        <a:prstGeom prst="rect">
                          <a:avLst/>
                        </a:prstGeom>
                        <a:solidFill>
                          <a:srgbClr val="808080"/>
                        </a:solidFill>
                        <a:ln w="792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0880" bIns="-20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rot="10800000">
                          <a:off x="5034240" y="2998440"/>
                          <a:ext cx="15840" cy="12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1" h="33">
                              <a:moveTo>
                                <a:pt x="0" y="0"/>
                              </a:moveTo>
                              <a:lnTo>
                                <a:pt x="41" y="16"/>
                              </a:lnTo>
                              <a:lnTo>
                                <a:pt x="0" y="33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9f9f9f"/>
                        </a:solidFill>
                        <a:ln w="7920">
                          <a:solidFill>
                            <a:srgbClr val="5f5f5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4200" bIns="-342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30" name=""/>
                      <p:cNvGrpSpPr/>
                      <p:nvPr/>
                    </p:nvGrpSpPr>
                    <p:grpSpPr>
                      <a:xfrm>
                        <a:off x="5068440" y="2994840"/>
                        <a:ext cx="33840" cy="21240"/>
                        <a:chOff x="5068440" y="2994840"/>
                        <a:chExt cx="33840" cy="21240"/>
                      </a:xfrm>
                    </p:grpSpPr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rot="10800000">
                          <a:off x="5068440" y="2994840"/>
                          <a:ext cx="33840" cy="21240"/>
                        </a:xfrm>
                        <a:prstGeom prst="rect">
                          <a:avLst/>
                        </a:prstGeom>
                        <a:solidFill>
                          <a:srgbClr val="808080"/>
                        </a:solidFill>
                        <a:ln w="792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5560" bIns="-25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rot="10800000">
                          <a:off x="5077800" y="2998800"/>
                          <a:ext cx="15840" cy="11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0" h="31">
                              <a:moveTo>
                                <a:pt x="40" y="0"/>
                              </a:moveTo>
                              <a:lnTo>
                                <a:pt x="0" y="14"/>
                              </a:lnTo>
                              <a:lnTo>
                                <a:pt x="40" y="31"/>
                              </a:lnTo>
                              <a:lnTo>
                                <a:pt x="4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9f9f9f"/>
                        </a:solidFill>
                        <a:ln w="7920">
                          <a:solidFill>
                            <a:srgbClr val="5f5f5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4920" bIns="-349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33" name=""/>
                    <p:cNvGrpSpPr/>
                    <p:nvPr/>
                  </p:nvGrpSpPr>
                  <p:grpSpPr>
                    <a:xfrm>
                      <a:off x="4922280" y="2992320"/>
                      <a:ext cx="78480" cy="25920"/>
                      <a:chOff x="4922280" y="2992320"/>
                      <a:chExt cx="78480" cy="25920"/>
                    </a:xfrm>
                  </p:grpSpPr>
                  <p:grpSp>
                    <p:nvGrpSpPr>
                      <p:cNvPr id="234" name=""/>
                      <p:cNvGrpSpPr/>
                      <p:nvPr/>
                    </p:nvGrpSpPr>
                    <p:grpSpPr>
                      <a:xfrm>
                        <a:off x="4922280" y="2992320"/>
                        <a:ext cx="39600" cy="25920"/>
                        <a:chOff x="4922280" y="2992320"/>
                        <a:chExt cx="39600" cy="25920"/>
                      </a:xfrm>
                    </p:grpSpPr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rot="10800000">
                          <a:off x="4922280" y="2992320"/>
                          <a:ext cx="39600" cy="25920"/>
                        </a:xfrm>
                        <a:prstGeom prst="rect">
                          <a:avLst/>
                        </a:prstGeom>
                        <a:solidFill>
                          <a:srgbClr val="808080"/>
                        </a:solidFill>
                        <a:ln w="792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0880" bIns="-20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rot="10800000">
                          <a:off x="4932720" y="2998440"/>
                          <a:ext cx="15840" cy="12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9" h="33">
                              <a:moveTo>
                                <a:pt x="0" y="0"/>
                              </a:moveTo>
                              <a:lnTo>
                                <a:pt x="39" y="16"/>
                              </a:lnTo>
                              <a:lnTo>
                                <a:pt x="0" y="33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9f9f9f"/>
                        </a:solidFill>
                        <a:ln w="7920">
                          <a:solidFill>
                            <a:srgbClr val="5f5f5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4200" bIns="-342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37" name=""/>
                      <p:cNvGrpSpPr/>
                      <p:nvPr/>
                    </p:nvGrpSpPr>
                    <p:grpSpPr>
                      <a:xfrm>
                        <a:off x="4966560" y="2994840"/>
                        <a:ext cx="34200" cy="21240"/>
                        <a:chOff x="4966560" y="2994840"/>
                        <a:chExt cx="34200" cy="21240"/>
                      </a:xfrm>
                    </p:grpSpPr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 rot="10800000">
                          <a:off x="4966560" y="2994840"/>
                          <a:ext cx="34200" cy="21240"/>
                        </a:xfrm>
                        <a:prstGeom prst="rect">
                          <a:avLst/>
                        </a:prstGeom>
                        <a:solidFill>
                          <a:srgbClr val="808080"/>
                        </a:solidFill>
                        <a:ln w="792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5560" bIns="-25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 rot="10800000">
                          <a:off x="4976280" y="2998800"/>
                          <a:ext cx="15840" cy="11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0" h="31">
                              <a:moveTo>
                                <a:pt x="40" y="0"/>
                              </a:moveTo>
                              <a:lnTo>
                                <a:pt x="0" y="14"/>
                              </a:lnTo>
                              <a:lnTo>
                                <a:pt x="40" y="31"/>
                              </a:lnTo>
                              <a:lnTo>
                                <a:pt x="4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9f9f9f"/>
                        </a:solidFill>
                        <a:ln w="7920">
                          <a:solidFill>
                            <a:srgbClr val="5f5f5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4920" bIns="-349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807080" y="2991600"/>
                    <a:ext cx="68040" cy="26640"/>
                    <a:chOff x="4807080" y="2991600"/>
                    <a:chExt cx="68040" cy="26640"/>
                  </a:xfrm>
                </p:grpSpPr>
                <p:grpSp>
                  <p:nvGrpSpPr>
                    <p:cNvPr id="241" name=""/>
                    <p:cNvGrpSpPr/>
                    <p:nvPr/>
                  </p:nvGrpSpPr>
                  <p:grpSpPr>
                    <a:xfrm>
                      <a:off x="4851720" y="2991600"/>
                      <a:ext cx="23400" cy="26640"/>
                      <a:chOff x="4851720" y="2991600"/>
                      <a:chExt cx="23400" cy="26640"/>
                    </a:xfrm>
                  </p:grpSpPr>
                  <p:sp>
                    <p:nvSpPr>
                      <p:cNvPr id="242" name=""/>
                      <p:cNvSpPr/>
                      <p:nvPr/>
                    </p:nvSpPr>
                    <p:spPr>
                      <a:xfrm rot="10800000">
                        <a:off x="4852080" y="3015360"/>
                        <a:ext cx="15840" cy="2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" h="8">
                            <a:moveTo>
                              <a:pt x="0" y="0"/>
                            </a:moveTo>
                            <a:lnTo>
                              <a:pt x="6" y="8"/>
                            </a:lnTo>
                            <a:lnTo>
                              <a:pt x="31" y="8"/>
                            </a:lnTo>
                            <a:lnTo>
                              <a:pt x="40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920" bIns="-43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3" name=""/>
                      <p:cNvSpPr/>
                      <p:nvPr/>
                    </p:nvSpPr>
                    <p:spPr>
                      <a:xfrm rot="10800000">
                        <a:off x="4858560" y="2991960"/>
                        <a:ext cx="15840" cy="2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9" h="9">
                            <a:moveTo>
                              <a:pt x="0" y="9"/>
                            </a:moveTo>
                            <a:lnTo>
                              <a:pt x="9" y="0"/>
                            </a:lnTo>
                            <a:lnTo>
                              <a:pt x="33" y="0"/>
                            </a:lnTo>
                            <a:lnTo>
                              <a:pt x="39" y="9"/>
                            </a:lnTo>
                            <a:lnTo>
                              <a:pt x="0" y="9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920" bIns="-43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4" name=""/>
                      <p:cNvSpPr/>
                      <p:nvPr/>
                    </p:nvSpPr>
                    <p:spPr>
                      <a:xfrm rot="10800000">
                        <a:off x="4866480" y="3006000"/>
                        <a:ext cx="5400" cy="11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" h="31">
                            <a:moveTo>
                              <a:pt x="9" y="0"/>
                            </a:moveTo>
                            <a:lnTo>
                              <a:pt x="14" y="6"/>
                            </a:lnTo>
                            <a:lnTo>
                              <a:pt x="9" y="25"/>
                            </a:lnTo>
                            <a:lnTo>
                              <a:pt x="0" y="31"/>
                            </a:lnTo>
                            <a:lnTo>
                              <a:pt x="9" y="0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920" bIns="-34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5" name=""/>
                      <p:cNvSpPr/>
                      <p:nvPr/>
                    </p:nvSpPr>
                    <p:spPr>
                      <a:xfrm rot="10800000">
                        <a:off x="4869720" y="2991600"/>
                        <a:ext cx="540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" h="32">
                            <a:moveTo>
                              <a:pt x="0" y="32"/>
                            </a:moveTo>
                            <a:lnTo>
                              <a:pt x="9" y="23"/>
                            </a:lnTo>
                            <a:lnTo>
                              <a:pt x="14" y="5"/>
                            </a:lnTo>
                            <a:lnTo>
                              <a:pt x="8" y="0"/>
                            </a:lnTo>
                            <a:lnTo>
                              <a:pt x="0" y="32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6" name=""/>
                      <p:cNvSpPr/>
                      <p:nvPr/>
                    </p:nvSpPr>
                    <p:spPr>
                      <a:xfrm rot="10800000">
                        <a:off x="4855320" y="2991600"/>
                        <a:ext cx="468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" h="32">
                            <a:moveTo>
                              <a:pt x="0" y="23"/>
                            </a:moveTo>
                            <a:lnTo>
                              <a:pt x="7" y="32"/>
                            </a:lnTo>
                            <a:lnTo>
                              <a:pt x="13" y="0"/>
                            </a:lnTo>
                            <a:lnTo>
                              <a:pt x="5" y="5"/>
                            </a:lnTo>
                            <a:lnTo>
                              <a:pt x="0" y="23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7" name=""/>
                      <p:cNvSpPr/>
                      <p:nvPr/>
                    </p:nvSpPr>
                    <p:spPr>
                      <a:xfrm rot="10800000">
                        <a:off x="4851720" y="3006000"/>
                        <a:ext cx="5400" cy="11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" h="31">
                            <a:moveTo>
                              <a:pt x="5" y="6"/>
                            </a:moveTo>
                            <a:lnTo>
                              <a:pt x="16" y="0"/>
                            </a:lnTo>
                            <a:lnTo>
                              <a:pt x="6" y="31"/>
                            </a:lnTo>
                            <a:lnTo>
                              <a:pt x="0" y="27"/>
                            </a:lnTo>
                            <a:lnTo>
                              <a:pt x="5" y="6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920" bIns="-34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8" name=""/>
                      <p:cNvSpPr/>
                      <p:nvPr/>
                    </p:nvSpPr>
                    <p:spPr>
                      <a:xfrm rot="10800000">
                        <a:off x="4856040" y="3003120"/>
                        <a:ext cx="15840" cy="3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" h="9">
                            <a:moveTo>
                              <a:pt x="0" y="4"/>
                            </a:moveTo>
                            <a:lnTo>
                              <a:pt x="8" y="0"/>
                            </a:lnTo>
                            <a:lnTo>
                              <a:pt x="36" y="0"/>
                            </a:lnTo>
                            <a:lnTo>
                              <a:pt x="40" y="4"/>
                            </a:lnTo>
                            <a:lnTo>
                              <a:pt x="35" y="9"/>
                            </a:lnTo>
                            <a:lnTo>
                              <a:pt x="8" y="9"/>
                            </a:lnTo>
                            <a:lnTo>
                              <a:pt x="0" y="4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200" bIns="-43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49" name=""/>
                    <p:cNvGrpSpPr/>
                    <p:nvPr/>
                  </p:nvGrpSpPr>
                  <p:grpSpPr>
                    <a:xfrm>
                      <a:off x="4829400" y="2991600"/>
                      <a:ext cx="23760" cy="26640"/>
                      <a:chOff x="4829400" y="2991600"/>
                      <a:chExt cx="23760" cy="26640"/>
                    </a:xfrm>
                  </p:grpSpPr>
                  <p:sp>
                    <p:nvSpPr>
                      <p:cNvPr id="250" name=""/>
                      <p:cNvSpPr/>
                      <p:nvPr/>
                    </p:nvSpPr>
                    <p:spPr>
                      <a:xfrm rot="10800000">
                        <a:off x="4830120" y="3015360"/>
                        <a:ext cx="15840" cy="2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8">
                            <a:moveTo>
                              <a:pt x="0" y="0"/>
                            </a:moveTo>
                            <a:lnTo>
                              <a:pt x="5" y="8"/>
                            </a:lnTo>
                            <a:lnTo>
                              <a:pt x="31" y="8"/>
                            </a:lnTo>
                            <a:lnTo>
                              <a:pt x="38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920" bIns="-43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1" name=""/>
                      <p:cNvSpPr/>
                      <p:nvPr/>
                    </p:nvSpPr>
                    <p:spPr>
                      <a:xfrm rot="10800000">
                        <a:off x="4837320" y="2991960"/>
                        <a:ext cx="15840" cy="2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" h="9">
                            <a:moveTo>
                              <a:pt x="0" y="9"/>
                            </a:moveTo>
                            <a:lnTo>
                              <a:pt x="10" y="0"/>
                            </a:lnTo>
                            <a:lnTo>
                              <a:pt x="35" y="0"/>
                            </a:lnTo>
                            <a:lnTo>
                              <a:pt x="40" y="9"/>
                            </a:lnTo>
                            <a:lnTo>
                              <a:pt x="0" y="9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920" bIns="-43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2" name=""/>
                      <p:cNvSpPr/>
                      <p:nvPr/>
                    </p:nvSpPr>
                    <p:spPr>
                      <a:xfrm rot="10800000">
                        <a:off x="4844520" y="3006000"/>
                        <a:ext cx="5400" cy="11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" h="31">
                            <a:moveTo>
                              <a:pt x="10" y="0"/>
                            </a:moveTo>
                            <a:lnTo>
                              <a:pt x="14" y="6"/>
                            </a:lnTo>
                            <a:lnTo>
                              <a:pt x="10" y="25"/>
                            </a:lnTo>
                            <a:lnTo>
                              <a:pt x="0" y="31"/>
                            </a:lnTo>
                            <a:lnTo>
                              <a:pt x="10" y="0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920" bIns="-34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3" name=""/>
                      <p:cNvSpPr/>
                      <p:nvPr/>
                    </p:nvSpPr>
                    <p:spPr>
                      <a:xfrm rot="10800000">
                        <a:off x="4847760" y="2991600"/>
                        <a:ext cx="540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" h="32">
                            <a:moveTo>
                              <a:pt x="0" y="32"/>
                            </a:moveTo>
                            <a:lnTo>
                              <a:pt x="9" y="23"/>
                            </a:lnTo>
                            <a:lnTo>
                              <a:pt x="15" y="5"/>
                            </a:lnTo>
                            <a:lnTo>
                              <a:pt x="8" y="0"/>
                            </a:lnTo>
                            <a:lnTo>
                              <a:pt x="0" y="32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4" name=""/>
                      <p:cNvSpPr/>
                      <p:nvPr/>
                    </p:nvSpPr>
                    <p:spPr>
                      <a:xfrm rot="10800000">
                        <a:off x="4833360" y="2991600"/>
                        <a:ext cx="540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" h="32">
                            <a:moveTo>
                              <a:pt x="0" y="23"/>
                            </a:moveTo>
                            <a:lnTo>
                              <a:pt x="6" y="32"/>
                            </a:lnTo>
                            <a:lnTo>
                              <a:pt x="14" y="0"/>
                            </a:lnTo>
                            <a:lnTo>
                              <a:pt x="5" y="5"/>
                            </a:lnTo>
                            <a:lnTo>
                              <a:pt x="0" y="23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5" name=""/>
                      <p:cNvSpPr/>
                      <p:nvPr/>
                    </p:nvSpPr>
                    <p:spPr>
                      <a:xfrm rot="10800000">
                        <a:off x="4829400" y="3006000"/>
                        <a:ext cx="5400" cy="11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" h="31">
                            <a:moveTo>
                              <a:pt x="5" y="6"/>
                            </a:moveTo>
                            <a:lnTo>
                              <a:pt x="14" y="0"/>
                            </a:lnTo>
                            <a:lnTo>
                              <a:pt x="5" y="31"/>
                            </a:lnTo>
                            <a:lnTo>
                              <a:pt x="0" y="27"/>
                            </a:lnTo>
                            <a:lnTo>
                              <a:pt x="5" y="6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920" bIns="-34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6" name=""/>
                      <p:cNvSpPr/>
                      <p:nvPr/>
                    </p:nvSpPr>
                    <p:spPr>
                      <a:xfrm rot="10800000">
                        <a:off x="4833360" y="3003120"/>
                        <a:ext cx="16560" cy="3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2" h="9">
                            <a:moveTo>
                              <a:pt x="0" y="4"/>
                            </a:moveTo>
                            <a:lnTo>
                              <a:pt x="9" y="0"/>
                            </a:lnTo>
                            <a:lnTo>
                              <a:pt x="37" y="0"/>
                            </a:lnTo>
                            <a:lnTo>
                              <a:pt x="42" y="4"/>
                            </a:lnTo>
                            <a:lnTo>
                              <a:pt x="35" y="9"/>
                            </a:lnTo>
                            <a:lnTo>
                              <a:pt x="8" y="9"/>
                            </a:lnTo>
                            <a:lnTo>
                              <a:pt x="0" y="4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200" bIns="-43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57" name=""/>
                    <p:cNvGrpSpPr/>
                    <p:nvPr/>
                  </p:nvGrpSpPr>
                  <p:grpSpPr>
                    <a:xfrm>
                      <a:off x="4807080" y="2991600"/>
                      <a:ext cx="24480" cy="26640"/>
                      <a:chOff x="4807080" y="2991600"/>
                      <a:chExt cx="24480" cy="26640"/>
                    </a:xfrm>
                  </p:grpSpPr>
                  <p:sp>
                    <p:nvSpPr>
                      <p:cNvPr id="258" name=""/>
                      <p:cNvSpPr/>
                      <p:nvPr/>
                    </p:nvSpPr>
                    <p:spPr>
                      <a:xfrm rot="10800000">
                        <a:off x="4808880" y="3015360"/>
                        <a:ext cx="14760" cy="2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9" h="8">
                            <a:moveTo>
                              <a:pt x="0" y="0"/>
                            </a:moveTo>
                            <a:lnTo>
                              <a:pt x="5" y="8"/>
                            </a:lnTo>
                            <a:lnTo>
                              <a:pt x="31" y="8"/>
                            </a:lnTo>
                            <a:lnTo>
                              <a:pt x="39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920" bIns="-43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9" name=""/>
                      <p:cNvSpPr/>
                      <p:nvPr/>
                    </p:nvSpPr>
                    <p:spPr>
                      <a:xfrm rot="10800000">
                        <a:off x="4815000" y="2991960"/>
                        <a:ext cx="15840" cy="2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" h="9">
                            <a:moveTo>
                              <a:pt x="0" y="9"/>
                            </a:moveTo>
                            <a:lnTo>
                              <a:pt x="9" y="0"/>
                            </a:lnTo>
                            <a:lnTo>
                              <a:pt x="36" y="0"/>
                            </a:lnTo>
                            <a:lnTo>
                              <a:pt x="40" y="9"/>
                            </a:lnTo>
                            <a:lnTo>
                              <a:pt x="0" y="9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920" bIns="-43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0" name=""/>
                      <p:cNvSpPr/>
                      <p:nvPr/>
                    </p:nvSpPr>
                    <p:spPr>
                      <a:xfrm rot="10800000">
                        <a:off x="4822200" y="3006000"/>
                        <a:ext cx="4680" cy="11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" h="31">
                            <a:moveTo>
                              <a:pt x="8" y="0"/>
                            </a:moveTo>
                            <a:lnTo>
                              <a:pt x="13" y="6"/>
                            </a:lnTo>
                            <a:lnTo>
                              <a:pt x="8" y="25"/>
                            </a:lnTo>
                            <a:lnTo>
                              <a:pt x="0" y="31"/>
                            </a:lnTo>
                            <a:lnTo>
                              <a:pt x="8" y="0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920" bIns="-34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1" name=""/>
                      <p:cNvSpPr/>
                      <p:nvPr/>
                    </p:nvSpPr>
                    <p:spPr>
                      <a:xfrm rot="10800000">
                        <a:off x="4825080" y="2991600"/>
                        <a:ext cx="648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" h="32">
                            <a:moveTo>
                              <a:pt x="0" y="32"/>
                            </a:moveTo>
                            <a:lnTo>
                              <a:pt x="10" y="23"/>
                            </a:lnTo>
                            <a:lnTo>
                              <a:pt x="14" y="5"/>
                            </a:lnTo>
                            <a:lnTo>
                              <a:pt x="10" y="0"/>
                            </a:lnTo>
                            <a:lnTo>
                              <a:pt x="0" y="32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2" name=""/>
                      <p:cNvSpPr/>
                      <p:nvPr/>
                    </p:nvSpPr>
                    <p:spPr>
                      <a:xfrm rot="10800000">
                        <a:off x="4811040" y="2991600"/>
                        <a:ext cx="468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" h="32">
                            <a:moveTo>
                              <a:pt x="0" y="23"/>
                            </a:moveTo>
                            <a:lnTo>
                              <a:pt x="5" y="32"/>
                            </a:lnTo>
                            <a:lnTo>
                              <a:pt x="13" y="0"/>
                            </a:lnTo>
                            <a:lnTo>
                              <a:pt x="3" y="5"/>
                            </a:lnTo>
                            <a:lnTo>
                              <a:pt x="0" y="23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3" name=""/>
                      <p:cNvSpPr/>
                      <p:nvPr/>
                    </p:nvSpPr>
                    <p:spPr>
                      <a:xfrm rot="10800000">
                        <a:off x="4807080" y="3006000"/>
                        <a:ext cx="5400" cy="11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" h="31">
                            <a:moveTo>
                              <a:pt x="6" y="6"/>
                            </a:moveTo>
                            <a:lnTo>
                              <a:pt x="15" y="0"/>
                            </a:lnTo>
                            <a:lnTo>
                              <a:pt x="7" y="31"/>
                            </a:lnTo>
                            <a:lnTo>
                              <a:pt x="0" y="27"/>
                            </a:lnTo>
                            <a:lnTo>
                              <a:pt x="6" y="6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920" bIns="-34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4" name=""/>
                      <p:cNvSpPr/>
                      <p:nvPr/>
                    </p:nvSpPr>
                    <p:spPr>
                      <a:xfrm rot="10800000">
                        <a:off x="4811040" y="3003120"/>
                        <a:ext cx="15840" cy="3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" h="9">
                            <a:moveTo>
                              <a:pt x="0" y="4"/>
                            </a:moveTo>
                            <a:lnTo>
                              <a:pt x="8" y="0"/>
                            </a:lnTo>
                            <a:lnTo>
                              <a:pt x="35" y="0"/>
                            </a:lnTo>
                            <a:lnTo>
                              <a:pt x="40" y="4"/>
                            </a:lnTo>
                            <a:lnTo>
                              <a:pt x="34" y="9"/>
                            </a:lnTo>
                            <a:lnTo>
                              <a:pt x="5" y="9"/>
                            </a:lnTo>
                            <a:lnTo>
                              <a:pt x="0" y="4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200" bIns="-43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sp>
            <p:nvSpPr>
              <p:cNvPr id="265" name=""/>
              <p:cNvSpPr/>
              <p:nvPr/>
            </p:nvSpPr>
            <p:spPr>
              <a:xfrm rot="10800000">
                <a:off x="4771080" y="2087640"/>
                <a:ext cx="1082520" cy="828720"/>
              </a:xfrm>
              <a:prstGeom prst="rect">
                <a:avLst/>
              </a:prstGeom>
              <a:solidFill>
                <a:srgbClr val="3f3f3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0800000">
                <a:off x="4815720" y="2133720"/>
                <a:ext cx="991800" cy="738000"/>
              </a:xfrm>
              <a:custGeom>
                <a:avLst/>
                <a:gdLst/>
                <a:ahLst/>
                <a:rect l="l" t="t" r="r" b="b"/>
                <a:pathLst>
                  <a:path w="2501" h="1860">
                    <a:moveTo>
                      <a:pt x="0" y="0"/>
                    </a:moveTo>
                    <a:lnTo>
                      <a:pt x="2500" y="0"/>
                    </a:lnTo>
                    <a:lnTo>
                      <a:pt x="2501" y="1860"/>
                    </a:lnTo>
                    <a:lnTo>
                      <a:pt x="0" y="186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9696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0800000">
                <a:off x="5806440" y="2085480"/>
                <a:ext cx="47520" cy="831960"/>
              </a:xfrm>
              <a:custGeom>
                <a:avLst/>
                <a:gdLst/>
                <a:ahLst/>
                <a:rect l="l" t="t" r="r" b="b"/>
                <a:pathLst>
                  <a:path w="118" h="2097">
                    <a:moveTo>
                      <a:pt x="0" y="0"/>
                    </a:moveTo>
                    <a:lnTo>
                      <a:pt x="118" y="119"/>
                    </a:lnTo>
                    <a:lnTo>
                      <a:pt x="118" y="1979"/>
                    </a:lnTo>
                    <a:lnTo>
                      <a:pt x="0" y="209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5f5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0800000">
                <a:off x="4767840" y="2085480"/>
                <a:ext cx="45720" cy="831960"/>
              </a:xfrm>
              <a:custGeom>
                <a:avLst/>
                <a:gdLst/>
                <a:ahLst/>
                <a:rect l="l" t="t" r="r" b="b"/>
                <a:pathLst>
                  <a:path w="117" h="2097">
                    <a:moveTo>
                      <a:pt x="117" y="0"/>
                    </a:moveTo>
                    <a:lnTo>
                      <a:pt x="0" y="119"/>
                    </a:lnTo>
                    <a:lnTo>
                      <a:pt x="0" y="1979"/>
                    </a:lnTo>
                    <a:lnTo>
                      <a:pt x="117" y="2097"/>
                    </a:lnTo>
                    <a:lnTo>
                      <a:pt x="117" y="0"/>
                    </a:lnTo>
                    <a:close/>
                  </a:path>
                </a:pathLst>
              </a:custGeom>
              <a:solidFill>
                <a:srgbClr val="5f5f5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0800000">
                <a:off x="4768200" y="2084400"/>
                <a:ext cx="1085760" cy="47520"/>
              </a:xfrm>
              <a:custGeom>
                <a:avLst/>
                <a:gdLst/>
                <a:ahLst/>
                <a:rect l="l" t="t" r="r" b="b"/>
                <a:pathLst>
                  <a:path w="2736" h="118">
                    <a:moveTo>
                      <a:pt x="0" y="118"/>
                    </a:moveTo>
                    <a:lnTo>
                      <a:pt x="118" y="0"/>
                    </a:lnTo>
                    <a:lnTo>
                      <a:pt x="2619" y="0"/>
                    </a:lnTo>
                    <a:lnTo>
                      <a:pt x="2736" y="118"/>
                    </a:lnTo>
                    <a:lnTo>
                      <a:pt x="0" y="118"/>
                    </a:lnTo>
                    <a:close/>
                  </a:path>
                </a:pathLst>
              </a:custGeom>
              <a:solidFill>
                <a:srgbClr val="808080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0800000">
                <a:off x="4769640" y="2085480"/>
                <a:ext cx="1085400" cy="831960"/>
              </a:xfrm>
              <a:custGeom>
                <a:avLst/>
                <a:gdLst/>
                <a:ahLst/>
                <a:rect l="l" t="t" r="r" b="b"/>
                <a:pathLst>
                  <a:path w="2735" h="2097">
                    <a:moveTo>
                      <a:pt x="2735" y="0"/>
                    </a:moveTo>
                    <a:lnTo>
                      <a:pt x="0" y="0"/>
                    </a:lnTo>
                    <a:lnTo>
                      <a:pt x="0" y="2097"/>
                    </a:lnTo>
                  </a:path>
                </a:pathLst>
              </a:custGeom>
              <a:noFill/>
              <a:ln w="792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1" name=""/>
            <p:cNvSpPr/>
            <p:nvPr/>
          </p:nvSpPr>
          <p:spPr>
            <a:xfrm rot="19435800">
              <a:off x="5595840" y="4195440"/>
              <a:ext cx="659880" cy="552600"/>
            </a:xfrm>
            <a:prstGeom prst="rightArrow">
              <a:avLst>
                <a:gd name="adj1" fmla="val 50000"/>
                <a:gd name="adj2" fmla="val 29853"/>
              </a:avLst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8332200">
              <a:off x="7278120" y="3254040"/>
              <a:ext cx="660240" cy="552600"/>
            </a:xfrm>
            <a:prstGeom prst="rightArrow">
              <a:avLst>
                <a:gd name="adj1" fmla="val 50000"/>
                <a:gd name="adj2" fmla="val 29870"/>
              </a:avLst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rot="13267800">
              <a:off x="5457600" y="3237120"/>
              <a:ext cx="659880" cy="552240"/>
            </a:xfrm>
            <a:prstGeom prst="rightArrow">
              <a:avLst>
                <a:gd name="adj1" fmla="val 50000"/>
                <a:gd name="adj2" fmla="val 29873"/>
              </a:avLst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225120" y="3630600"/>
              <a:ext cx="904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0000"/>
                  </a:solidFill>
                  <a:latin typeface="Times New Roman"/>
                </a:rPr>
                <a:t>TI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5" name="" descr=""/>
            <p:cNvPicPr/>
            <p:nvPr/>
          </p:nvPicPr>
          <p:blipFill>
            <a:blip r:embed="rId2"/>
            <a:stretch/>
          </p:blipFill>
          <p:spPr>
            <a:xfrm>
              <a:off x="7559640" y="2060640"/>
              <a:ext cx="1258560" cy="113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" descr=""/>
            <p:cNvPicPr/>
            <p:nvPr/>
          </p:nvPicPr>
          <p:blipFill>
            <a:blip r:embed="rId3"/>
            <a:stretch/>
          </p:blipFill>
          <p:spPr>
            <a:xfrm>
              <a:off x="4713120" y="4357800"/>
              <a:ext cx="995040" cy="115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" descr=""/>
            <p:cNvPicPr/>
            <p:nvPr/>
          </p:nvPicPr>
          <p:blipFill>
            <a:blip r:embed="rId4"/>
            <a:stretch/>
          </p:blipFill>
          <p:spPr>
            <a:xfrm>
              <a:off x="7810560" y="4429080"/>
              <a:ext cx="959760" cy="11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 flipH="1" rot="1793400">
              <a:off x="7089840" y="4213080"/>
              <a:ext cx="659880" cy="552240"/>
            </a:xfrm>
            <a:prstGeom prst="rightArrow">
              <a:avLst>
                <a:gd name="adj1" fmla="val 50000"/>
                <a:gd name="adj2" fmla="val 29873"/>
              </a:avLst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Rapidez de penetración frente a otras tecnología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258920" y="1998720"/>
            <a:ext cx="6645600" cy="3735360"/>
            <a:chOff x="1258920" y="1998720"/>
            <a:chExt cx="6645600" cy="3735360"/>
          </a:xfrm>
        </p:grpSpPr>
        <p:pic>
          <p:nvPicPr>
            <p:cNvPr id="281" name="" descr=""/>
            <p:cNvPicPr/>
            <p:nvPr/>
          </p:nvPicPr>
          <p:blipFill>
            <a:blip r:embed="rId2"/>
            <a:stretch/>
          </p:blipFill>
          <p:spPr>
            <a:xfrm>
              <a:off x="1258920" y="1998720"/>
              <a:ext cx="6553080" cy="373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1944720" y="3651480"/>
              <a:ext cx="56386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488240" y="3446640"/>
              <a:ext cx="2832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50 millones de usuarios (USA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611600" y="306576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154400" y="321804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176880" y="344664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431120" y="367524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575880" y="3035520"/>
              <a:ext cx="63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Rad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305960" y="2867040"/>
              <a:ext cx="36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T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633280" y="3370320"/>
              <a:ext cx="63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Ca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716160" y="3416400"/>
              <a:ext cx="912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Intern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020680" y="467856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803240" y="4648320"/>
              <a:ext cx="146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Radio: 38 añ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078080" y="477684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862080" y="4746960"/>
              <a:ext cx="1186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TV: 13 añ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754600" y="4741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036040" y="4712040"/>
              <a:ext cx="146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Cable: 10 añ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126200" y="4741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260760" y="4712040"/>
              <a:ext cx="1643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Internet: 5 añ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Posibilidades de las TIC´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211640" y="2017440"/>
            <a:ext cx="474336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Espacio: eliminación del espacio, trabajo distribuido, control a distancia, ubicabilidad, etc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Medio: digitalizado, mejor calidad, integrado, volumen de datos, manejo de la variedad y variabilidad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Tiempo: trabajo sincrónico y asincrónico, reducción del tiempo, en línea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178920" y="1773360"/>
            <a:ext cx="4156920" cy="4286880"/>
            <a:chOff x="178920" y="1773360"/>
            <a:chExt cx="4156920" cy="4286880"/>
          </a:xfrm>
        </p:grpSpPr>
        <p:sp>
          <p:nvSpPr>
            <p:cNvPr id="303" name=""/>
            <p:cNvSpPr/>
            <p:nvPr/>
          </p:nvSpPr>
          <p:spPr>
            <a:xfrm flipV="1">
              <a:off x="1598760" y="1833840"/>
              <a:ext cx="0" cy="267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598760" y="4505760"/>
              <a:ext cx="257148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178920" y="4505760"/>
              <a:ext cx="1419480" cy="150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98600" y="1773360"/>
              <a:ext cx="108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Espac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306240" y="4653360"/>
              <a:ext cx="1029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Tiemp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54960" y="5661360"/>
              <a:ext cx="87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Med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1598760" y="3135600"/>
              <a:ext cx="903240" cy="1370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2502000" y="3135600"/>
              <a:ext cx="0" cy="219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24040" y="5328000"/>
              <a:ext cx="1677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2502000" y="4505760"/>
              <a:ext cx="774720" cy="82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598760" y="4505760"/>
              <a:ext cx="1677960" cy="0"/>
            </a:xfrm>
            <a:prstGeom prst="line">
              <a:avLst/>
            </a:prstGeom>
            <a:ln w="936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24040" y="3135600"/>
              <a:ext cx="1677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598760" y="2313360"/>
              <a:ext cx="1677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824040" y="3135600"/>
              <a:ext cx="0" cy="219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1598760" y="2313360"/>
              <a:ext cx="0" cy="21924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276720" y="2313360"/>
              <a:ext cx="0" cy="219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824040" y="4505760"/>
              <a:ext cx="774720" cy="822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824040" y="2313360"/>
              <a:ext cx="774720" cy="82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2502000" y="2313360"/>
              <a:ext cx="774720" cy="82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437840" y="4461120"/>
              <a:ext cx="80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emis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82560" y="5259600"/>
              <a:ext cx="101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recep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921960" y="425628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orig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54200" y="2108520"/>
              <a:ext cx="91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destin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634040" y="4188240"/>
              <a:ext cx="70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inic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228480" y="4164120"/>
              <a:ext cx="64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fi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200" spc="-1" strike="noStrike">
                <a:solidFill>
                  <a:srgbClr val="000000"/>
                </a:solidFill>
                <a:latin typeface="Arial"/>
              </a:rPr>
              <a:t>Tecnologías de la Información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1905120" y="1719360"/>
            <a:ext cx="5835600" cy="4360680"/>
            <a:chOff x="1905120" y="1719360"/>
            <a:chExt cx="5835600" cy="4360680"/>
          </a:xfrm>
        </p:grpSpPr>
        <p:pic>
          <p:nvPicPr>
            <p:cNvPr id="331" name="" descr=""/>
            <p:cNvPicPr/>
            <p:nvPr/>
          </p:nvPicPr>
          <p:blipFill>
            <a:blip r:embed="rId2"/>
            <a:stretch/>
          </p:blipFill>
          <p:spPr>
            <a:xfrm>
              <a:off x="1905120" y="1719360"/>
              <a:ext cx="5835600" cy="436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 txBox="1"/>
            <p:nvPr/>
          </p:nvSpPr>
          <p:spPr>
            <a:xfrm>
              <a:off x="1905120" y="1719360"/>
              <a:ext cx="5835600" cy="4360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ff99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 rot="10800000">
            <a:off x="1980720" y="2133720"/>
            <a:ext cx="304920" cy="304776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Rol de las Tecnologí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638680"/>
            <a:ext cx="4343400" cy="45720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Evolución de las Tecnologí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Ley de Moor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2411280" y="1844640"/>
            <a:ext cx="6553440" cy="377208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777600" y="5753160"/>
            <a:ext cx="57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http://www.xbitlabs.com/articles/editorial/display/moore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611280" y="1989000"/>
            <a:ext cx="1371600" cy="194328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324000" y="4076640"/>
            <a:ext cx="18921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Gordon Moore, 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R&amp;D director at Fairchild Semiconductor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74200" y="513360"/>
            <a:ext cx="8001000" cy="10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Penetración de modelos basados en TIC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1042920" y="1752480"/>
            <a:ext cx="7047000" cy="426744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131760" y="5950080"/>
            <a:ext cx="356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Fuente: La economía digital 2003, C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73120" y="404640"/>
            <a:ext cx="81756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Los sectores que han invertido más en TIC han crecido más rápi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1547640" y="2016000"/>
            <a:ext cx="5861160" cy="3901320"/>
            <a:chOff x="1547640" y="2016000"/>
            <a:chExt cx="5861160" cy="3901320"/>
          </a:xfrm>
        </p:grpSpPr>
        <p:sp>
          <p:nvSpPr>
            <p:cNvPr id="345" name=""/>
            <p:cNvSpPr/>
            <p:nvPr/>
          </p:nvSpPr>
          <p:spPr>
            <a:xfrm>
              <a:off x="2028600" y="2422080"/>
              <a:ext cx="5299920" cy="28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028600" y="4899960"/>
              <a:ext cx="5299920" cy="108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028600" y="4487760"/>
              <a:ext cx="5299920" cy="108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028600" y="4073760"/>
              <a:ext cx="5299920" cy="108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28600" y="3661560"/>
              <a:ext cx="5299920" cy="108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028600" y="3247560"/>
              <a:ext cx="5299920" cy="144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028600" y="2835360"/>
              <a:ext cx="5299920" cy="144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028600" y="2422080"/>
              <a:ext cx="5299920" cy="108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028600" y="2422080"/>
              <a:ext cx="5299920" cy="2891160"/>
            </a:xfrm>
            <a:prstGeom prst="rect">
              <a:avLst/>
            </a:prstGeom>
            <a:noFill/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000160" y="5313240"/>
              <a:ext cx="28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000160" y="4899960"/>
              <a:ext cx="284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000160" y="4487760"/>
              <a:ext cx="284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000160" y="4073760"/>
              <a:ext cx="284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000160" y="3661560"/>
              <a:ext cx="284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000160" y="3247560"/>
              <a:ext cx="28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000160" y="2835360"/>
              <a:ext cx="28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000160" y="2422080"/>
              <a:ext cx="284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2028600" y="5313240"/>
              <a:ext cx="1800" cy="28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2785680" y="5313240"/>
              <a:ext cx="1440" cy="28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3542040" y="5313240"/>
              <a:ext cx="1800" cy="28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4300200" y="5313240"/>
              <a:ext cx="1800" cy="28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5058720" y="5313240"/>
              <a:ext cx="1800" cy="28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5815440" y="5313240"/>
              <a:ext cx="1440" cy="28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6572160" y="5313240"/>
              <a:ext cx="1440" cy="28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28880" y="5313240"/>
              <a:ext cx="1800" cy="28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938760" y="3861360"/>
              <a:ext cx="101880" cy="10008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135040" y="3934800"/>
              <a:ext cx="101520" cy="9972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276440" y="4279680"/>
              <a:ext cx="101520" cy="9972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325200" y="3826800"/>
              <a:ext cx="101520" cy="9828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924720" y="3847680"/>
              <a:ext cx="101520" cy="99720"/>
            </a:xfrm>
            <a:prstGeom prst="ellipse">
              <a:avLst/>
            </a:prstGeom>
            <a:solidFill>
              <a:srgbClr val="666699"/>
            </a:solidFill>
            <a:ln w="792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120640" y="3920760"/>
              <a:ext cx="101880" cy="99720"/>
            </a:xfrm>
            <a:prstGeom prst="ellipse">
              <a:avLst/>
            </a:prstGeom>
            <a:solidFill>
              <a:srgbClr val="666699"/>
            </a:solidFill>
            <a:ln w="792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262400" y="4265640"/>
              <a:ext cx="101520" cy="98280"/>
            </a:xfrm>
            <a:prstGeom prst="ellipse">
              <a:avLst/>
            </a:prstGeom>
            <a:solidFill>
              <a:srgbClr val="666699"/>
            </a:solidFill>
            <a:ln w="792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310800" y="3811320"/>
              <a:ext cx="101880" cy="99720"/>
            </a:xfrm>
            <a:prstGeom prst="ellipse">
              <a:avLst/>
            </a:prstGeom>
            <a:solidFill>
              <a:srgbClr val="666699"/>
            </a:solidFill>
            <a:ln w="792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443320" y="2016000"/>
              <a:ext cx="467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300" spc="-1" strike="noStrike">
                  <a:solidFill>
                    <a:srgbClr val="000000"/>
                  </a:solidFill>
                  <a:latin typeface="Arial"/>
                </a:rPr>
                <a:t>Gasto en TI como % del PIB VS Crecimiento del PIB 1996-200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821240" y="525888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821240" y="484668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Arial"/>
                </a:rPr>
                <a:t>1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821240" y="443268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Arial"/>
                </a:rPr>
                <a:t>2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821240" y="402048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Arial"/>
                </a:rPr>
                <a:t>3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821240" y="360720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Arial"/>
                </a:rPr>
                <a:t>4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821240" y="319464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Arial"/>
                </a:rPr>
                <a:t>5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821240" y="278100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Arial"/>
                </a:rPr>
                <a:t>6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821240" y="236880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Arial"/>
                </a:rPr>
                <a:t>7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960200" y="539172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716560" y="539172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Arial"/>
                </a:rPr>
                <a:t>1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474000" y="539172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Arial"/>
                </a:rPr>
                <a:t>2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230000" y="539172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Arial"/>
                </a:rPr>
                <a:t>3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989960" y="539172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Arial"/>
                </a:rPr>
                <a:t>4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745600" y="539172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Arial"/>
                </a:rPr>
                <a:t>5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503400" y="539172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Arial"/>
                </a:rPr>
                <a:t>6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260120" y="539172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Arial"/>
                </a:rPr>
                <a:t>7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584800" y="2698200"/>
              <a:ext cx="590760" cy="14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610000" y="2710440"/>
              <a:ext cx="427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PESC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643480" y="4601880"/>
              <a:ext cx="79164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667960" y="4612320"/>
              <a:ext cx="681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INDUSTRI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549520" y="5096520"/>
              <a:ext cx="1124280" cy="14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571840" y="5109120"/>
              <a:ext cx="1035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CONSTRUC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048920" y="3836520"/>
              <a:ext cx="867960" cy="14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072680" y="3847680"/>
              <a:ext cx="864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SILVOAGROP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375440" y="4228560"/>
              <a:ext cx="7531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399200" y="4239000"/>
              <a:ext cx="697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COMERC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92200" y="3765960"/>
              <a:ext cx="1180440" cy="14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115600" y="3780360"/>
              <a:ext cx="1059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ELEC. GAS AGU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689800" y="2467080"/>
              <a:ext cx="582840" cy="14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712840" y="2477880"/>
              <a:ext cx="526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MINERÍ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006600" y="2698200"/>
              <a:ext cx="8427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032160" y="2710440"/>
              <a:ext cx="864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TRANSPOR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069240" y="2846520"/>
              <a:ext cx="759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Y COMUNIC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446160" y="3765960"/>
              <a:ext cx="86040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469560" y="3780360"/>
              <a:ext cx="413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SERV.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469920" y="3916080"/>
              <a:ext cx="864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FINANCIE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547640" y="2467080"/>
              <a:ext cx="242280" cy="63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rot="16200000">
              <a:off x="1364040" y="262152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Crec. PI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361920" y="5564880"/>
              <a:ext cx="1025280" cy="14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384960" y="5577480"/>
              <a:ext cx="901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Gasto TI % PI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19" name="" descr=""/>
            <p:cNvPicPr/>
            <p:nvPr/>
          </p:nvPicPr>
          <p:blipFill>
            <a:blip r:embed="rId2">
              <a:lum bright="-18000"/>
            </a:blip>
            <a:stretch/>
          </p:blipFill>
          <p:spPr>
            <a:xfrm>
              <a:off x="3868560" y="3816000"/>
              <a:ext cx="192600" cy="19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" descr=""/>
            <p:cNvPicPr/>
            <p:nvPr/>
          </p:nvPicPr>
          <p:blipFill>
            <a:blip r:embed="rId3">
              <a:lum bright="-18000"/>
            </a:blip>
            <a:stretch/>
          </p:blipFill>
          <p:spPr>
            <a:xfrm>
              <a:off x="4212720" y="4228560"/>
              <a:ext cx="192240" cy="19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" descr=""/>
            <p:cNvPicPr/>
            <p:nvPr/>
          </p:nvPicPr>
          <p:blipFill>
            <a:blip r:embed="rId4">
              <a:lum bright="-18000"/>
            </a:blip>
            <a:stretch/>
          </p:blipFill>
          <p:spPr>
            <a:xfrm>
              <a:off x="5092200" y="3916080"/>
              <a:ext cx="192600" cy="19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" descr=""/>
            <p:cNvPicPr/>
            <p:nvPr/>
          </p:nvPicPr>
          <p:blipFill>
            <a:blip r:embed="rId5">
              <a:lum bright="-18000"/>
            </a:blip>
            <a:stretch/>
          </p:blipFill>
          <p:spPr>
            <a:xfrm>
              <a:off x="6251760" y="3791160"/>
              <a:ext cx="192600" cy="19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3" name="" descr=""/>
            <p:cNvPicPr/>
            <p:nvPr/>
          </p:nvPicPr>
          <p:blipFill>
            <a:blip r:embed="rId6"/>
            <a:srcRect l="16148" t="40189" r="62867" b="46671"/>
            <a:stretch/>
          </p:blipFill>
          <p:spPr>
            <a:xfrm>
              <a:off x="2324880" y="5055840"/>
              <a:ext cx="264240" cy="30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4" name="" descr=""/>
            <p:cNvPicPr/>
            <p:nvPr/>
          </p:nvPicPr>
          <p:blipFill>
            <a:blip r:embed="rId7"/>
            <a:srcRect l="0" t="0" r="17981" b="69591"/>
            <a:stretch/>
          </p:blipFill>
          <p:spPr>
            <a:xfrm>
              <a:off x="5506560" y="2489040"/>
              <a:ext cx="218160" cy="24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5" name="" descr=""/>
            <p:cNvPicPr/>
            <p:nvPr/>
          </p:nvPicPr>
          <p:blipFill>
            <a:blip r:embed="rId8"/>
            <a:srcRect l="40143" t="40189" r="30713" b="37153"/>
            <a:stretch/>
          </p:blipFill>
          <p:spPr>
            <a:xfrm>
              <a:off x="2385720" y="2681280"/>
              <a:ext cx="224640" cy="2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" descr=""/>
            <p:cNvPicPr/>
            <p:nvPr/>
          </p:nvPicPr>
          <p:blipFill>
            <a:blip r:embed="rId9"/>
            <a:srcRect l="16148" t="40189" r="62867" b="46671"/>
            <a:stretch/>
          </p:blipFill>
          <p:spPr>
            <a:xfrm>
              <a:off x="2414160" y="4531320"/>
              <a:ext cx="264240" cy="30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" descr=""/>
            <p:cNvPicPr/>
            <p:nvPr/>
          </p:nvPicPr>
          <p:blipFill>
            <a:blip r:embed="rId10"/>
            <a:srcRect l="0" t="0" r="17981" b="69591"/>
            <a:stretch/>
          </p:blipFill>
          <p:spPr>
            <a:xfrm>
              <a:off x="5824800" y="2701440"/>
              <a:ext cx="218520" cy="24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>
              <a:off x="1987200" y="5671080"/>
              <a:ext cx="288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66"/>
                  </a:solidFill>
                  <a:latin typeface="Arial"/>
                </a:rPr>
                <a:t>Fuente: Centro Economía Digital CC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Objetivos del Curs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3640" y="1752480"/>
            <a:ext cx="8569080" cy="470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55400" indent="-45540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Verdana"/>
              </a:rPr>
              <a:t>GENERAL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Evaluar, modelar y (re) diseñar sistemas de información desde la perspectiva de los sistemas de administración de las organizacione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Incorporar en las decisiones de (re) diseño de un sistema de información las tecnologías de información y comunicaciones moderna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Verdana"/>
              </a:rPr>
              <a:t>ESPECIFICOS</a:t>
            </a:r>
            <a:r>
              <a:rPr b="0" lang="es-ES_tradnl" sz="19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Modelar y (re) diseñar modelos de negocios donde los sistemas de información y las tecnologías de información pueden cambiar significativamente los negocio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Incorporar en el diseño de un Sistema de Información la arquitectura de negocios, y saber definir y especificar los requerimientos de información necesarios para su desarrollo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Evaluar alternativas en el desarrollo de sistemas de información dentro de las organizaciones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610920" y="1676160"/>
            <a:ext cx="7561080" cy="41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Encuesta de Proyectos de TI´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31% de proyectos cancelados (81 US$ billone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53% de proyectos con sobre costo de 90% (59 US$ billones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16% de proyectos exitoso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Estudio de 7000 sistemas de Informació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55% sobre costo mayor a 50%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50% requirieron el doble de tiempo 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30% entregó menos de la mitad de lo prometido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2277000" y="5805360"/>
            <a:ext cx="492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uente: What is Alignment?, P. Strassmann, Agosto 1998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2"/>
          <a:stretch/>
        </p:blipFill>
        <p:spPr>
          <a:xfrm>
            <a:off x="7451640" y="0"/>
            <a:ext cx="1486080" cy="155736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Pero 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s TIC en la organizaci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272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27320" indent="-427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Las TIC son habilitadores para la empresa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27320" indent="-427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Deben ser usadas s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lo cuando existan situaciones donde se justifiquen por ahorros de tiempo, mejoras en competitividad,  agregar valor al negocio, etc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27320" indent="-427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u incorporación SIEMPRE es algo complejo en la organizació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27320" indent="-427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ecuerde: No son un bisturí, sino una verdadera espada para dar solución a los problemas. Entonces, piense  tres veces antes de aplicarlas.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273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s TIC en la … (2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272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Competencia, competencia, ¿por qu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 tanta competencia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  momento que una empresa es creada, está “condenada” a crecer y competir por su lugar en el mercad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tras empresas están en lo mismo y todas quieren  su “participación de mercado”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ntonces, ¿cómo hacemos para que la empresa sea la mejor en su área?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imero que todo, eliminando todo aquello que no sirve y no agrega valor al negoci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s TIC en la … (3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272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gundo, viendo que es lo que  se puede potenciar y permite eliminar holguras, tiempos muertos et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s  TIC entregan la infraestructura tecnol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gica para que la empresa sea más competitiv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stamos hablando de Redes de datos, computadores, comunicaciones, software de oficina,  sistemas computacionales, et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hora la parte amarga es que cuando se introduce una nueva tecnología, la empresa se ve resentida, es decir, no se absorbe de la noche a la mañan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s posible que el trauma que causa la TIC provoque el despido de personas que no se adapta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¿Y qué pasa si la TIC  termina matando el negocio de la empresa?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s TIC en la … (4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272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ucho  riesgo, mejor no hagamos nada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o anterior es el pensamiento de muchos empresari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ero pensemos en que pasar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a por ejemplo en un banco, si se volviera a los papel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jemplo simple:  </a:t>
            </a:r>
            <a:r>
              <a:rPr b="0" lang="es-ES_tradnl" sz="2000" spc="-1" strike="noStrike" u="sng">
                <a:solidFill>
                  <a:srgbClr val="336699"/>
                </a:solidFill>
                <a:uFillTx/>
                <a:latin typeface="Verdana"/>
                <a:ea typeface="ＭＳ Ｐゴシック"/>
                <a:hlinkClick r:id="rId2"/>
              </a:rPr>
              <a:t>www.sii.cl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 aun recuerdo haber hecho colas de ocho horas para timbrar una factura en la década de los 80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nsideremos todos los ahorros que ha traído ese sistema, pero no olvidemos los dolores de cabeza inicial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a  gran pregunta sigue siendo:  tengo varias gerencias en la empresa, cómo lo hago para que todas agreguen valor al negocio y con un objetivo en común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s TIC en la … (5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272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l gran problema es que, dependiendo del tamaño de la empresa, a veces las gerencias son feudos aparte, es decir, solo conversan entre si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¿Dividir para reinar?  OK, pero creando las instancias para que no se formen islas, sino un p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s unido y todos “remando” para un mismo lad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n ese sentido, las TIC pueden ser la clave para lograr que la empresa sea la mejor en su área y pueda alcanzar la tan ansiada ventaja competitiv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Ideas Clav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5075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Muchos sistemas fallidos son abandonados porque los analistas trataron de construir un sistema fantástico pero sin entender la organizació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Objetivo Principal: Crear valor para la organizació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Definicion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4360" y="1752480"/>
            <a:ext cx="77752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>
                <a:solidFill>
                  <a:srgbClr val="000000"/>
                </a:solidFill>
                <a:latin typeface="Verdana"/>
              </a:rPr>
              <a:t>¿Qué es un Sistema de Información (SI)?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Un Sistema de Información es un conjunto de personas, datos, procesos, funciones, interfaces, redes y tecnología que interactúan para apoyar y mejorar las operaciones del día-a-día (muchas veces llamados servicios de procesamiento de datos), así como a los tomadores de decisiones (muchas veces llamados servicios de información)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>
                <a:solidFill>
                  <a:srgbClr val="000000"/>
                </a:solidFill>
                <a:latin typeface="Verdana"/>
              </a:rPr>
              <a:t>¿Qué es un Sistema Computacional?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Una aplicación computacional es una solución basada en TIC’s para apoyar uno o más problemas o necesidades del negocio. Estas aplicaciones contienen generalmente computadores, redes, y una serie de tecnología asociada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Definiciones 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66280" y="1916280"/>
            <a:ext cx="80010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Análisis de Sistemas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 es el estudio de un problema de negocio, con el propósito de recomendar mejoras y especificar los requerimientos del negocio  (manejo de información, toma de decisiones, estructura organizacional, tecnología, etc.) para la soluc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Diseño de Sistemas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 es la especificación o construcción de una solución técnica, generalmente basada en tecnologías de información, para los requerimientos identificados en el análisis del sistema. (Note:  muchos diseños toman la forma de un prototipo de trabajo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¿Porqué los Negocios necesitan un análisis de Sistema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2533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Las tecnologías de información han tenido un gran desarrollo en los últimos años, con lo cual existen muchas aplicaciones que pueden resolver los problemas de negocio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Hay una dicotomía entre las personas del negocio y las de tecnologías de información, hablan diferentes idioma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El análisis de sistema es el </a:t>
            </a:r>
            <a:r>
              <a:rPr b="1" i="1" lang="es-CL" sz="1700" spc="-1" strike="noStrike">
                <a:solidFill>
                  <a:srgbClr val="000000"/>
                </a:solidFill>
                <a:latin typeface="Verdana"/>
              </a:rPr>
              <a:t>puente de comunicación</a:t>
            </a: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 entre las necesidades del negocio y aquellos de la tecnología de información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Los </a:t>
            </a:r>
            <a:r>
              <a:rPr b="1" i="1" lang="es-CL" sz="1700" spc="-1" strike="noStrike">
                <a:solidFill>
                  <a:srgbClr val="000000"/>
                </a:solidFill>
                <a:latin typeface="Verdana"/>
              </a:rPr>
              <a:t>analistas de sistemas</a:t>
            </a: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 son las personas que desarrollan esta actividad, con lo cual requieren conocer aspectos del negocio y técnicos a la vez.</a:t>
            </a:r>
            <a:r>
              <a:rPr b="1" lang="es-CL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Un analista de sistemas estudia los problemas y oportunidades de negocio, y entonces los transforma en especificaciones técnicas para que sean implantadas por diferentes especialistas técnico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Actividad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Clases de cátedra de 3,0 horas semanal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Clases auxiliares de 1,5 horas semanal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Evaluac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Controles (2) y un examen con un 50% de la nota final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Trabajo en grupo, con un 50% de la nota final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Analista de Sistem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8398080" cy="43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41360" indent="-44136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>
                <a:solidFill>
                  <a:srgbClr val="000000"/>
                </a:solidFill>
                <a:latin typeface="Verdana"/>
              </a:rPr>
              <a:t>Definició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853200" indent="-41004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Un analista de sistemas es un solucionador de problemas de negocios. El ayuda a resolver los problemas del negocio usando conceptos de sistemas y tecnologías de información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853200" indent="-41004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Un analista de sistemas </a:t>
            </a:r>
            <a:r>
              <a:rPr b="0" i="1" lang="es-CL" sz="1700" spc="-1" strike="noStrike" u="sng">
                <a:solidFill>
                  <a:srgbClr val="000000"/>
                </a:solidFill>
                <a:uFillTx/>
                <a:latin typeface="Verdana"/>
              </a:rPr>
              <a:t>vende</a:t>
            </a: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 a los administradores y usuarios el concepto de las nuevas soluciones (i.e., es un agente de cambio)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>
                <a:solidFill>
                  <a:srgbClr val="000000"/>
                </a:solidFill>
                <a:latin typeface="Verdana"/>
              </a:rPr>
              <a:t>Rol del Analista de Sistem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853200" indent="-41004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000000"/>
                </a:solidFill>
                <a:latin typeface="Verdana"/>
              </a:rPr>
              <a:t>Analista de Negocio:</a:t>
            </a: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 un analista de sistema desarrolla el análisis de los problemas del negocio, especificando sus requerimientos, desde un punto de vista de independencia de la tecnología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853200" indent="-41004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000000"/>
                </a:solidFill>
                <a:latin typeface="Verdana"/>
              </a:rPr>
              <a:t>Analista de Aplicación:</a:t>
            </a: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 un analista de sistema debe diseñar las aplicaciones y las tecnologías de información que las apoyan. Un sinónimo de esta característica es </a:t>
            </a:r>
            <a:r>
              <a:rPr b="0" i="1" lang="es-CL" sz="1700" spc="-1" strike="noStrike">
                <a:solidFill>
                  <a:srgbClr val="000000"/>
                </a:solidFill>
                <a:latin typeface="Verdana"/>
              </a:rPr>
              <a:t>arquitecto de sistema o aplicacione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Ciclo de Vid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41360" indent="-4413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100" spc="-1" strike="noStrike">
                <a:solidFill>
                  <a:srgbClr val="000000"/>
                </a:solidFill>
                <a:latin typeface="Verdana"/>
              </a:rPr>
              <a:t>Planificación</a:t>
            </a: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  -  identificar el alcance y objetivos del problema, construir un plan de desarrollo y metas de trabajo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100" spc="-1" strike="noStrike">
                <a:solidFill>
                  <a:srgbClr val="000000"/>
                </a:solidFill>
                <a:latin typeface="Verdana"/>
              </a:rPr>
              <a:t>Análisis</a:t>
            </a: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  -  estudiar y analizar el problema, causas y efectos. Entonces, identificar y analizar los requerimientos que deben ser satisfechos por las alternativas de solució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100" spc="-1" strike="noStrike">
                <a:solidFill>
                  <a:srgbClr val="000000"/>
                </a:solidFill>
                <a:latin typeface="Verdana"/>
              </a:rPr>
              <a:t>Diseño</a:t>
            </a:r>
            <a:r>
              <a:rPr b="1" lang="es-CL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 -  si es necesario, diseñar la solución desde el punto de vista de negocios y técnico. No todas las soluciones requieren diseño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100" spc="-1" strike="noStrike">
                <a:solidFill>
                  <a:srgbClr val="000000"/>
                </a:solidFill>
                <a:latin typeface="Verdana"/>
              </a:rPr>
              <a:t>Implantación</a:t>
            </a: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  -  llevar a cabo la solución propuesta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100" spc="-1" strike="noStrike">
                <a:solidFill>
                  <a:srgbClr val="000000"/>
                </a:solidFill>
                <a:latin typeface="Verdana"/>
              </a:rPr>
              <a:t>Apoyo</a:t>
            </a: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  -  analizar la solución propuesta, refinar el diseño e implantar las mejoras a la solució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Responsabilidad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25336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32000" indent="-43200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Verdana"/>
              </a:rPr>
              <a:t>DATOS, incluyendo la captura - adquisición, validación, organización, almacenamiento y uso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Verdana"/>
              </a:rPr>
              <a:t>PROCESOS, incluyendo ambos automatizados y manuales, que permiten transformar los datos en información y acciones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Verdana"/>
              </a:rPr>
              <a:t>INTERFACES, incluyendo aquellas de sistemas y aplicaciones, ya sea para los usuarios u otras aplicaciones (i.e., reportes, pantallas, archivos de intercambio, etc.)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Verdana"/>
              </a:rPr>
              <a:t>COMUNICACIONES, que distribuyen datos, procesos e información efectivamente entre los usuarios del sistema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Verdana"/>
              </a:rPr>
              <a:t>PERSONAS, incluyendo administradores, usuarios y desarrolladores – además del comportamiento organizacional y político que ocurre cuando las personas interactúa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Pregunt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¿Cuál es la importancia de la información en las organizaciones moderna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¿Qué entiende por un buen manejo de la información en las organizaciones moderna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¿Cómo el buen manejo de la información puede convertirse en una ventaja competitiva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Verdana"/>
              </a:rPr>
              <a:t>Preguntas en relación al Transantiag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¿Son las TIC un problema importante dentro de los qu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¿Qué factores han sido los que por no haberse considerado, diseñado e implementado bien, hace que no opere adecuadament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¿Cuál es la importancia de las TIC comparada con las anteriore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En resumen: ¿Los problemas del Transantiago son de gestión o tecnológico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Reglas del Curs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825336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Asistencia: se considera importante asisti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Puntualidad: las clases comienzan a las 10:15 y terminan a las 11:45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Fechas: el calendario del curso es inamovible (ver más adelante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Responsabilidad: cada alumno es responsable de su educación (participación, lectura, trabajo de grupo en el proyecto y lecturas de actualidad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Dedicación: 3.0 hrs de clase, 1.5 hrs de auxiliar y 5.5 hrs de trabajo persona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ntendiendo la organizaci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Desde el tiempo de las cavernas, los seres humanos se han organizado para asegurar su supervivenci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ganización: </a:t>
            </a:r>
            <a:r>
              <a:rPr b="0" i="1" lang="es-ES_trad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“S</a:t>
            </a:r>
            <a:r>
              <a:rPr b="0" i="1" lang="es-ES_tradnl" sz="2600" spc="-1" strike="noStrike">
                <a:solidFill>
                  <a:srgbClr val="000000"/>
                </a:solidFill>
                <a:latin typeface="Arial"/>
              </a:rPr>
              <a:t>istemas dise</a:t>
            </a:r>
            <a:r>
              <a:rPr b="0" i="1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ñad</a:t>
            </a:r>
            <a:r>
              <a:rPr b="0" i="1" lang="es-ES_tradnl" sz="2600" spc="-1" strike="noStrike">
                <a:solidFill>
                  <a:srgbClr val="000000"/>
                </a:solidFill>
                <a:latin typeface="Arial"/>
              </a:rPr>
              <a:t>os para lograr metas y objetivos por medio de los recursos humanos y de otro tipo”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. (Fuente: Wikipedia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e componen de subsistemas interrelacionados que cumplen funciones especializada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ntendiendo la… (2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36680" indent="-436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Desde el tiempos ancestrales, el concepto de organizaci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no ha cambiado, lo que si ha variado es la forma en que los individuos se organiza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a organización es prácticamente un “ser vivo”, por lo que su evolución en el tiempo, no debería de extrañar a nadi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sta evolución está directamente relacionada con la forma en que la organización enfrenta a su competencia y a los nuevos desafío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ntendiendo la… (3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n las empresas,  existe el paradigma de “dividir para reinar” es decir,  la organizaci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se divide en partes más fundamentales y administrabl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 la afirmación anterior, nacen los clásicos organigramas que viene a explicar la composición de la empresa y cómo se interrelacion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l éxito o fracaso de una organización justamente radica en la forma en que sus distintas partes logran meta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ntendiendo la… (4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886200" y="1905120"/>
            <a:ext cx="1572120" cy="533160"/>
            <a:chOff x="3886200" y="1905120"/>
            <a:chExt cx="1572120" cy="533160"/>
          </a:xfrm>
        </p:grpSpPr>
        <p:sp>
          <p:nvSpPr>
            <p:cNvPr id="106" name=""/>
            <p:cNvSpPr/>
            <p:nvPr/>
          </p:nvSpPr>
          <p:spPr>
            <a:xfrm>
              <a:off x="3886200" y="1905120"/>
              <a:ext cx="1523880" cy="533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906000" y="1981080"/>
              <a:ext cx="155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Director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3324960" y="3003480"/>
            <a:ext cx="2375280" cy="425160"/>
            <a:chOff x="3324960" y="3003480"/>
            <a:chExt cx="2375280" cy="425160"/>
          </a:xfrm>
        </p:grpSpPr>
        <p:sp>
          <p:nvSpPr>
            <p:cNvPr id="109" name=""/>
            <p:cNvSpPr/>
            <p:nvPr/>
          </p:nvSpPr>
          <p:spPr>
            <a:xfrm>
              <a:off x="3324960" y="3003480"/>
              <a:ext cx="237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erencia Gener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444480" y="3047760"/>
              <a:ext cx="220968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26640" y="4038480"/>
            <a:ext cx="1826640" cy="457200"/>
            <a:chOff x="26640" y="4038480"/>
            <a:chExt cx="1826640" cy="457200"/>
          </a:xfrm>
        </p:grpSpPr>
        <p:sp>
          <p:nvSpPr>
            <p:cNvPr id="112" name=""/>
            <p:cNvSpPr/>
            <p:nvPr/>
          </p:nvSpPr>
          <p:spPr>
            <a:xfrm>
              <a:off x="26640" y="4070160"/>
              <a:ext cx="182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Contabilid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6320" y="4038480"/>
              <a:ext cx="175248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3126960" y="4038480"/>
            <a:ext cx="1080000" cy="399960"/>
            <a:chOff x="3126960" y="4038480"/>
            <a:chExt cx="1080000" cy="399960"/>
          </a:xfrm>
        </p:grpSpPr>
        <p:sp>
          <p:nvSpPr>
            <p:cNvPr id="115" name=""/>
            <p:cNvSpPr/>
            <p:nvPr/>
          </p:nvSpPr>
          <p:spPr>
            <a:xfrm>
              <a:off x="3126960" y="407016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RR. H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139920" y="4038480"/>
              <a:ext cx="10670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1852920" y="3994200"/>
            <a:ext cx="1140840" cy="425160"/>
            <a:chOff x="1852920" y="3994200"/>
            <a:chExt cx="1140840" cy="425160"/>
          </a:xfrm>
        </p:grpSpPr>
        <p:sp>
          <p:nvSpPr>
            <p:cNvPr id="118" name=""/>
            <p:cNvSpPr/>
            <p:nvPr/>
          </p:nvSpPr>
          <p:spPr>
            <a:xfrm>
              <a:off x="1852920" y="399420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ianz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920600" y="4038480"/>
              <a:ext cx="106668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6896160" y="3994200"/>
            <a:ext cx="1963800" cy="425520"/>
            <a:chOff x="6896160" y="3994200"/>
            <a:chExt cx="1963800" cy="425520"/>
          </a:xfrm>
        </p:grpSpPr>
        <p:sp>
          <p:nvSpPr>
            <p:cNvPr id="121" name=""/>
            <p:cNvSpPr/>
            <p:nvPr/>
          </p:nvSpPr>
          <p:spPr>
            <a:xfrm>
              <a:off x="6896160" y="3994200"/>
              <a:ext cx="196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dquisicio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026120" y="4038840"/>
              <a:ext cx="17528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4343400" y="3994200"/>
            <a:ext cx="1447920" cy="425520"/>
            <a:chOff x="4343400" y="3994200"/>
            <a:chExt cx="1447920" cy="425520"/>
          </a:xfrm>
        </p:grpSpPr>
        <p:sp>
          <p:nvSpPr>
            <p:cNvPr id="124" name=""/>
            <p:cNvSpPr/>
            <p:nvPr/>
          </p:nvSpPr>
          <p:spPr>
            <a:xfrm>
              <a:off x="4357440" y="399420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arket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343400" y="4038480"/>
              <a:ext cx="1447920" cy="381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 flipV="1">
            <a:off x="114300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43000" y="373392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777240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648320" y="2438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4382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5760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9528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5925960" y="4038480"/>
            <a:ext cx="1003680" cy="399960"/>
            <a:chOff x="5925960" y="4038480"/>
            <a:chExt cx="1003680" cy="399960"/>
          </a:xfrm>
        </p:grpSpPr>
        <p:sp>
          <p:nvSpPr>
            <p:cNvPr id="135" name=""/>
            <p:cNvSpPr/>
            <p:nvPr/>
          </p:nvSpPr>
          <p:spPr>
            <a:xfrm>
              <a:off x="5925960" y="407016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Vent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959440" y="4038480"/>
              <a:ext cx="9144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640080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93000" y="1911240"/>
            <a:ext cx="2421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Una empresa a gran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rasgos tien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38840" y="4892760"/>
            <a:ext cx="636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 …  </a:t>
            </a: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cada una de sus </a:t>
            </a:r>
            <a:r>
              <a:rPr b="0" lang="es-ES_tradnl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reas tiene un objetivo bien definido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ntendiendo la… (5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Directorio. Por lo general son los dueños o sus representantes, encargados de definir las metas de largo plazo (son los que ponen las $$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Gerencia General. Define las estrategias de corto y mediano plazo para la empres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Finanzas. Responsable de administrar los dineros de la empresa (gestionar cr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ditos, hacer inversiones, preparar estados de resultado, etc.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Contabilidad. Registrar todas las entradas y salidas de la empresa, calcular los impuestos, pagos de sueldos, etc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3T22:26:49Z</dcterms:created>
  <dc:creator>Paula Varas</dc:creator>
  <dc:description/>
  <dc:language>en-US</dc:language>
  <cp:lastModifiedBy>Ucurso</cp:lastModifiedBy>
  <cp:lastPrinted>2001-07-30T13:16:05Z</cp:lastPrinted>
  <dcterms:modified xsi:type="dcterms:W3CDTF">2007-03-06T13:14:09Z</dcterms:modified>
  <cp:revision>64</cp:revision>
  <dc:subject/>
  <dc:title>Introducción al Análisis de los Sistemas de Información Administrativos</dc:title>
</cp:coreProperties>
</file>