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42.xml" ContentType="application/vnd.openxmlformats-officedocument.presentationml.slide+xml"/>
  <Override PartName="/ppt/slides/slide4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</p:sldIdLst>
  <p:sldSz cx="9144000" cy="6858000"/>
  <p:notesSz cx="6858000" cy="9209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5B5E8-2DF6-4416-81AC-2A61F7B1E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ED72A-8C16-4E9C-8B2E-05A5C1BDE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A814C-448E-433C-86A0-3FD73DCC8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CA2EB-E16D-464C-9B7C-F4FB30B00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704C2-B321-4889-AEE8-DE192BE7E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EDAFC-A190-4B3D-8447-C90EFAA96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8E5A8-C91D-4251-BABE-699FCC26D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F32BB-5370-4F28-8E07-62BF8B660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BCFF0-5C9B-4B93-BD33-E0BD5EDAA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0590F-D689-4D72-8008-9D39CAB25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82FD2-BFF1-4E30-BB76-99A5F5AF6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53209-B8A9-43A2-8573-DF7B88FC9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561F0-A46D-49F2-9C18-85AE3E605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5CA7B-91EF-4D63-8DDF-D304E3D3E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C1611-5B14-4F9F-918F-6D0ED5B13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319CA-527F-47E4-8AF9-A318D6E21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5F3E4-201B-4922-BA2B-8CB55539E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A89F5-959A-44F1-B101-C5292D46A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CCAF6-A581-48DF-9DA8-FBF8B6B49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72936-D0B3-47B2-B2B3-1F1B7CDB1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C9982-6D9D-4041-9249-FB031040C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2D94B-B837-4C7E-BC45-F8D6B1BE3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5E30C-2019-4E37-972B-E335768D4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0FD75-966C-49E6-9FD0-6930CBE95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FC695-AF55-4A5D-BE89-CD25218036AA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922A3-165F-4298-813E-60990C2B4BCB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71240" y="990360"/>
            <a:ext cx="7086600" cy="19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imera Parte: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ntabilidad Financie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774880"/>
            <a:ext cx="8229600" cy="335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pítulo 4: Activ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304560" y="1752480"/>
            <a:ext cx="84582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Cuenta Complementaria del Activo (CA): Cuenta que se comporta como un pasivo pero que se presenta en el balance general como un activo negativo, rebajando al activo que complement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Cuentas por Cobr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822240" y="3962520"/>
            <a:ext cx="7940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eudores por ventas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44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Provisiones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 u="sng">
                <a:solidFill>
                  <a:srgbClr val="ffffff"/>
                </a:solidFill>
                <a:uFillTx/>
                <a:latin typeface="Arial"/>
              </a:rPr>
              <a:t>(2.000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eudores por ventas (neto)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42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304560" y="17524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Supóngase que se logran recuperar $1.000 de la deuda previamente castigad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Cuentas por Cobr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57200" y="274320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ebe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Hab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isponible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1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Ingresos fuera de la explotación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1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41360" y="4700520"/>
            <a:ext cx="8169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Las normas tributarias permiten rebajar como gasto los castigos, pero no las provision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9280" y="404280"/>
            <a:ext cx="7999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aloración de Existenci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2741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STEMA PERIODICO : Se cierra el negocio cada cierto tiempo, se cuentan las unidades físicas y se valoriza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STEMA PERPETUO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La cuenta existencias se mantiene permanentemente al dí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62120" y="1752480"/>
            <a:ext cx="8001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.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stemas de Inventario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stema Periódic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974880" y="2057400"/>
            <a:ext cx="7788240" cy="41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ventario inici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ompras del Período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3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rcadería Disponib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.0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Inventario Final       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 800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o de Explotació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.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6d1e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utiliza una cuenta transitoria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ercaderí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que se carga con el inventario inicial y las compras (al costo) y se abona con la ventas (a precio de vent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6d1e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6d1e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se detectan robos ni mermas de mercaderí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stema Perpetu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 vender mercadería se reduce la cuenta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ercaderí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y se aumenta la cuenta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Costo de Vent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reconoce el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Costo de Vent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cada vez que ocurre una vent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quiere poder asociar cada venta con la mercaderí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étodos de Contabilización d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ventari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pongamos que una empresa ha realizado las siguientes compras de mercaderí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1.0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 unidades a $10 cada u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8.0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 unidades a $11 cada u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 el 10.04 vende dos unidad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¿Cuál es el costo de venta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¿$20, $22, el promedio ponderado, ...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étodos de Contabilización d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ventari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étodo de las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Unidades Específic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gistro Permanente que permite Identificar cuál es el Costo de Adquisición de Cada Unidad Vendid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usa con volúmenes de venta pequeñ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usa para activos de alto valor unitari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10920" y="228600"/>
            <a:ext cx="784692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étodos de Contabilización d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ventari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228600" y="1700280"/>
            <a:ext cx="8610480" cy="4471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étodo del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Costo Promedio Ponderad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 valor del Inventario se calcula aplicando a cada artículo en existencias el costo de adquisición promedio ponderado, incluyendo el costo de adquisición de las existencias inicial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da vez que ocurre una compra se calcula un nuevo promedi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3*10  +5*11)/8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0,62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&gt;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o de vent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*10,62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1,2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ci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*10,62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3,750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étodos de Contabilización d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ventari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) Método FIFO (o PEP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PUESTO : La mercadería que primero entra al inventario es la que primero se vend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 mercadería vendida se valora al costo más antiguo, y el inventario queda valorado al costo de adquisición más recient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o de Venta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2*1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2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ci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 + 5*1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6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10920" y="22824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étodos de Contabilización d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ventari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étodo LIFO (o UEP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PUESTO: La mercadería que ingresó al último es la primera que se vend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 mercadería vendida se valora al costo de adquisición más reciente, y las existencias se valoran al costo más antiguo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o de Vent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*1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ci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*11 + 3*10  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87360" y="6026040"/>
            <a:ext cx="8064360" cy="82404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IBUTARIAMENTE SE ACEPTA FIFO Y CPP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IV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oración de Activ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entas por Cobr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étodos de Valoración de Existenci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s Fij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s Financier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93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838188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tiene un Inventario Inicial de 300 unidades a $0,95 c/u. El Inventario Final es de 330 uni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116000" y="2276640"/>
            <a:ext cx="3978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RAS DEL PERIODO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050840" y="2743200"/>
            <a:ext cx="7712280" cy="22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í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dad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sto ($/u)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Costo Total ($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1,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1,0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31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1,1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22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27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250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 1,12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28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5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1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116000" y="5029200"/>
            <a:ext cx="673272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NTAS DEL PERIODO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í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dad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42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UMEN EJEMPL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o de Vent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stem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F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P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iódic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3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8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5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petu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3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4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3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ventario Final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stem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F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P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iódic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68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1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4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petu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68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56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6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39640" y="2492280"/>
            <a:ext cx="7391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39640" y="4653000"/>
            <a:ext cx="73152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39640" y="3645000"/>
            <a:ext cx="7417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 SIST.PERIODIC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R FIF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= 250*1,12+80*1,1 = 36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I = 300*0,95=28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ras = 1.01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onible para la venta = 285 + 1.015 = 1.3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o de Venta = 1300 - 368 = 93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 SIST.PERIODIC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R LIF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= 300*0,95+30*1,0 = 31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onible para venta no varía = 13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o de ventas = 1300- 315 = 98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11280" y="4869000"/>
            <a:ext cx="777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ar que al usar LIFO da un costo de venta mayor qu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 FIF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 SIST.PERIODIC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OR CP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PP =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300*0,95+1015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= 1,04 $/uni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300+9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Valor IF = 330*1,04 = 343,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isponible para la venta = 1.3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osto de Venta = 1300 – 343,2=  956,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N SIST.PERPETU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87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NTAS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821880" y="2498760"/>
            <a:ext cx="384264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UNIDAD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09480" y="2895480"/>
            <a:ext cx="4800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438280" y="2590920"/>
            <a:ext cx="0" cy="12189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 SIST.PERPETU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456760" cy="243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R FIF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ía 1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Costo Venta = 300*0,95+200*1= 48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cias = 300*1,05 = 31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ía 23 : Costo Venta = 300*1,05+120*1,1=44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cias = 315 +200*1,1-447=8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22000" y="3809880"/>
            <a:ext cx="85503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COSTO VTA.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CI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00*0,95+200*1=48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85+300*1,05=8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48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800-485=31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15+200*1,1=53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447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35-447=8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27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88+250*1,12=36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T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93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04920" y="4191120"/>
            <a:ext cx="88376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600200" y="4038480"/>
            <a:ext cx="0" cy="28180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724280" y="4038480"/>
            <a:ext cx="0" cy="28180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 SIST.PERPETU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R LIF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ía 1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Costo Venta = 300*1,05+200*1= 51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ía 2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Costo Venta = 200*1,1+220*0,95= 42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7200" y="3352680"/>
            <a:ext cx="822960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COSTO VTA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CI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00*0,95+200*1=48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85+300*1,05=8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51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800-515=28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85+200*1,1=50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429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05-429=7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27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6+250*1,12=35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T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94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04920" y="3733920"/>
            <a:ext cx="85341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600200" y="3352680"/>
            <a:ext cx="0" cy="3124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191120" y="3352680"/>
            <a:ext cx="0" cy="3124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 SIST.PERPETU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R CP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0" y="2639880"/>
            <a:ext cx="899172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V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EXISTENCI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CP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300*0,95+200*1=485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85/500 = 0,9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485+300*1,05=8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800/800 =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5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800-500=3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300+200*1,1=5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20/500 = 1,0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3   420*1,04=436,8   520-436,8 = 83,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1,0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27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83,2+250*1,12=363,2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63,2/330 = 1,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TAL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36.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28600" y="2971800"/>
            <a:ext cx="86868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48120" y="2743200"/>
            <a:ext cx="0" cy="2514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09480" y="2666880"/>
            <a:ext cx="0" cy="26672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477120" y="2666880"/>
            <a:ext cx="0" cy="2590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520" y="475920"/>
            <a:ext cx="829476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IVOS FIJOS (o de Largo Plazo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: Todo bien o derecho obtenido con el propósito de emplearlo en la explotación, representativo de un potencial de servicio utilizable durante un período, que en general trasciende un ejercicio contabl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Activos Físicos (o tangibles):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Terrenos, construcciones y obras de ingeniería, maquinarias y equipos,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Activos Intangibles: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tentes, marcas comerciales, derechos de llave, licencias o franquicias,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39280" y="333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aloración de Activ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 3 métodos para valorar activo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oración al Cos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ntaj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Información objetiva y verific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sventaja: No necesariamente coincide con valor de merca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or de Mercado (o de Reemplazo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ntaj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Es el Valor Real del Activ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sventaja: No siempre es objetivo, no es único y no todos los activos se transan en el merca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8000" y="475920"/>
            <a:ext cx="792468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.1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ivos Físic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4920" y="1676520"/>
            <a:ext cx="86868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Valoración: Al 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costo de adquisición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, que comprende el precio del activo más los gastos conexos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Gastos Conexos: Transporte, instalaciones, comisiones, gastos notariales, et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lgunos activos de bajo valor relativo se registran directamente como gastos (ej: repuestos, materiales de oficina, libros, etc.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396360"/>
            <a:ext cx="8229600" cy="75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joras y Reparacio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joras: Cambios Estructurales del activo (ampliación a adición de elementos). Son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capitalizabl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es decir, incrementan en activo fij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araciones y mantenimiento: Dejan al activo en condiciones normales de funcionamiento. No son  capitalizables, es decir, se consideran un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gast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0" y="1752480"/>
            <a:ext cx="914256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0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: Compra de Activo Fij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76320" y="1371600"/>
            <a:ext cx="899136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adquiere una propiedad que costó $50.000.000. Una tasación técnica indica lo siguient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M$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ida Uti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rren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1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trucción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3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stalacion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1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emás se incurrió en los siguientes gasto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norarios del abogad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m$ 0,0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tos de Transferenc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m$ 0,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tos notarial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m$ 0,0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: Compra de Activo Fij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51920" y="1752480"/>
            <a:ext cx="8915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o Total = mm$50 + mm$0.15 = $50.150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siento Contab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Deb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Hab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rreno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0.15*0.1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trucción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0.15*0.58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stalaciones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0.15*0.2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onib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0.1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371240" y="152280"/>
            <a:ext cx="7086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: Venta de Activo Fij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vende una máquina en $60.000, cuyo valor contable neto es el siguient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F Brut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50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reciación Acumulada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(10.00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 Fijo net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40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6160" y="3956040"/>
            <a:ext cx="8775720" cy="23479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B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B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onib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reciación Acumulad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 Fijo Brut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 Fuera de Explotació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preciació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: Distribución del costo del activo como gasto en los períodos en que presta sus servici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La depreciación es consecuencia del 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deterior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u 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obsolescenci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del activ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La depreciación 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no es un flujo de efectiv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xisten varios métodos de depreciación. Nosotros estudiaremos tres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preciación line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preciación acelerada (suma de los dígitos de los años y saldos decrecient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preciación lineal acelerada (tributario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33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preciación Line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EAN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 : Costo de Adquisi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Vr: Valor Residu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n : Vida Uti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31640" y="3632040"/>
            <a:ext cx="3937320" cy="1879920"/>
          </a:xfrm>
          <a:prstGeom prst="rect">
            <a:avLst/>
          </a:prstGeom>
          <a:noFill/>
          <a:ln w="1015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PRECIACION =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P-V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943600" y="2362320"/>
            <a:ext cx="0" cy="2819160"/>
          </a:xfrm>
          <a:prstGeom prst="line">
            <a:avLst/>
          </a:prstGeom>
          <a:ln w="12600">
            <a:solidFill>
              <a:srgbClr val="ffffff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943600" y="5181480"/>
            <a:ext cx="30481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8746200" y="5318280"/>
            <a:ext cx="270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943600" y="4495680"/>
            <a:ext cx="228600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943600" y="2971800"/>
            <a:ext cx="2286000" cy="1523880"/>
          </a:xfrm>
          <a:prstGeom prst="line">
            <a:avLst/>
          </a:prstGeom>
          <a:ln w="507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546880" y="272880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317920" y="4253040"/>
            <a:ext cx="489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V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985160" y="5318280"/>
            <a:ext cx="354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8229600" y="4495680"/>
            <a:ext cx="0" cy="68580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699160" y="1967040"/>
            <a:ext cx="1539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or A.F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étodo de la Suma de los Dígitos de los Añ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800280" y="1333440"/>
            <a:ext cx="7467480" cy="1905120"/>
          </a:xfrm>
          <a:prstGeom prst="rect">
            <a:avLst/>
          </a:prstGeom>
          <a:noFill/>
          <a:ln w="763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PRECIACION t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=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n -t + 1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*(P - Vr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                        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n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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j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708800" y="2803680"/>
            <a:ext cx="599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=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514600" y="3809880"/>
            <a:ext cx="0" cy="2286000"/>
          </a:xfrm>
          <a:prstGeom prst="line">
            <a:avLst/>
          </a:prstGeom>
          <a:ln w="12600">
            <a:solidFill>
              <a:srgbClr val="ffffff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6095880"/>
            <a:ext cx="35053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812960" y="410040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307560" y="5853240"/>
            <a:ext cx="270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6040" y="2438640"/>
            <a:ext cx="4267080" cy="3504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889280" y="3413160"/>
            <a:ext cx="1539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or A.F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23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Método de los saldos decrecien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 = Tasa anual de deprecia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n = años de vida úti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VR = valor residu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A = Depreciación acumulad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1042920" y="3645000"/>
            <a:ext cx="6384960" cy="1879560"/>
          </a:xfrm>
          <a:prstGeom prst="rect">
            <a:avLst/>
          </a:prstGeom>
          <a:noFill/>
          <a:ln w="1015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reciación 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 (P –DA)* 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reciación 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 saldo no depreciado - V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preciación Lineal Acelerad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iste en depreciar el activo linealmente, considerando una vida útil igual a [1/3] de la vida útil normal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 un método aceptado por el SII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ene como objetivo incentivar la inversión en activo fijo, a través de la postergación del impuesto a la rent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4000" y="476280"/>
            <a:ext cx="7543800" cy="99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aloración de Activ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or Presente : Valor del activo es función de los flujos futur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ntaj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Es una buena estimación del precio de merca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sventaja: Se debe estimar flujos futuros, tasa de descuento y período de madurez del activ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99640" y="18900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19" name=""/>
          <p:cNvGraphicFramePr/>
          <p:nvPr/>
        </p:nvGraphicFramePr>
        <p:xfrm>
          <a:off x="414360" y="2590920"/>
          <a:ext cx="8577360" cy="3886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4360" y="2590920"/>
                    <a:ext cx="857736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1" name=""/>
          <p:cNvSpPr/>
          <p:nvPr/>
        </p:nvSpPr>
        <p:spPr>
          <a:xfrm>
            <a:off x="1203480" y="1203480"/>
            <a:ext cx="6161040" cy="11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95280" y="1125360"/>
            <a:ext cx="81532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e tiene un AF por $100.000, vida útil 5 años y Vr = 0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93400" y="1766880"/>
            <a:ext cx="2941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Depreciación Lineal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66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27" name=""/>
          <p:cNvGraphicFramePr/>
          <p:nvPr/>
        </p:nvGraphicFramePr>
        <p:xfrm>
          <a:off x="642960" y="2590920"/>
          <a:ext cx="8312040" cy="33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2960" y="2590920"/>
                    <a:ext cx="8312040" cy="339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9" name=""/>
          <p:cNvSpPr/>
          <p:nvPr/>
        </p:nvSpPr>
        <p:spPr>
          <a:xfrm>
            <a:off x="756000" y="1484280"/>
            <a:ext cx="7471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preciación Acelerada (suma de los dígitos)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66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33" name=""/>
          <p:cNvGraphicFramePr/>
          <p:nvPr/>
        </p:nvGraphicFramePr>
        <p:xfrm>
          <a:off x="641520" y="2589120"/>
          <a:ext cx="8288280" cy="3954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1520" y="2589120"/>
                    <a:ext cx="8288280" cy="395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5" name=""/>
          <p:cNvSpPr/>
          <p:nvPr/>
        </p:nvSpPr>
        <p:spPr>
          <a:xfrm>
            <a:off x="1285560" y="1538280"/>
            <a:ext cx="64821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Depreciación Acelerada (saldos decrecientes)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45760" y="328680"/>
            <a:ext cx="8140680" cy="61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1887480" y="2347920"/>
            <a:ext cx="2105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´= [5/3] = 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90440" y="3238560"/>
            <a:ext cx="8913960" cy="2362320"/>
          </a:xfrm>
          <a:prstGeom prst="rect">
            <a:avLst/>
          </a:prstGeom>
          <a:noFill/>
          <a:ln w="763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ñ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preciación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prec.Acumulad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.F.Ne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%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1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433520" y="1386000"/>
            <a:ext cx="5115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preciación Lineal Acelerada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899640" y="404640"/>
            <a:ext cx="75438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¿ Qué Ocurre con la Utilidad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SO CON DEPRECIACION LINE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07960" y="2489040"/>
            <a:ext cx="8508960" cy="2489400"/>
          </a:xfrm>
          <a:prstGeom prst="rect">
            <a:avLst/>
          </a:prstGeom>
          <a:noFill/>
          <a:ln w="1015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Ñ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2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3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4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5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T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A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reciació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20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20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20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20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20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da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puest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5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15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15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15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15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75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t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8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8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8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8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8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2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10920" y="333000"/>
            <a:ext cx="739116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¿ Qué Ocurre con la Utilidad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SO CON DEPRECIACION  LINEAL ACELERAD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84280" y="3098880"/>
            <a:ext cx="7899480" cy="2793960"/>
          </a:xfrm>
          <a:prstGeom prst="rect">
            <a:avLst/>
          </a:prstGeom>
          <a:noFill/>
          <a:ln w="1015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ñ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T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A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reciació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00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  0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  0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  0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  0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da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puest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3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18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18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18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18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7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t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17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2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.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tivos Intangib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on activos no físicos que presentan un potencial de servici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e registran contablemente sólo cuando son adquiridos de terceros (al costo de adquisición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Amortización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: Proceso a través del cual el valor de adquisición del intangible se convierte parcial y periódicamente en gast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Método: Línea recta con VR = 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Vida Util: Mín {Plazo del Contrato; Plazo estimado razonable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.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tivos Intangib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68000" y="162864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Patent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Concesión del gobierno en favor de un inventor, mediante la cual le otorga el derecho exclusivo para producir y explotar su invent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Marcas Comercial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Privilegio obtenido para el uso exclusivo de identificaciones distintivas de un producto o servici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Derecho de llav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Exceso de costo de un activo o empresa por sobre el valor comercial de las partes que lo compon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Licencia o franquic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Privilegio obtenido por una firma para la comercialización de un producto bajo condiciones específic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TIVOS FINANCIER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versión en un instrumento constitutivo de una obligación y emitido por un banco, empresa, o institución financier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jemplo: Bonos, Depósitos a Plazo, Pagarés, acciones,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s Financieros de corto plazo: Su objetivo es obtener rentabilidad de los excedentes de caj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s Financieros de largo plazo: Inversiones permanentes en otras sociedad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93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TIVOS FINANCIER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137160" y="2727360"/>
            <a:ext cx="226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NANCIER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 flipV="1">
            <a:off x="2514600" y="1676520"/>
            <a:ext cx="1447920" cy="1371600"/>
          </a:xfrm>
          <a:prstGeom prst="line">
            <a:avLst/>
          </a:prstGeom>
          <a:ln w="10152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514600" y="3048120"/>
            <a:ext cx="1523880" cy="1523880"/>
          </a:xfrm>
          <a:prstGeom prst="line">
            <a:avLst/>
          </a:prstGeom>
          <a:ln w="10152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096440" y="1355760"/>
            <a:ext cx="484848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to Plazo (Activo Circulante) 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Disponib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Depósitos a plaz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Valores Negociables (acciones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fectos de comercio, bonos, etc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253040" y="4251240"/>
            <a:ext cx="467316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Largo Plazo (Otros Activos)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- Inv. en Empresas Relacionad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- Inv. en Otras Sociedad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 Valor Presen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846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 hoy se depositan $100 al 10%, en el próximo período se tendrán $110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45920" y="4098960"/>
            <a:ext cx="692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940360" y="2637000"/>
            <a:ext cx="692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1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143000" y="37339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6324480" y="3276720"/>
            <a:ext cx="0" cy="4572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143000" y="3733920"/>
            <a:ext cx="0" cy="304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811880" y="4481640"/>
            <a:ext cx="2126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P  =  110/1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15960" y="5187960"/>
            <a:ext cx="7378560" cy="128268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ACTUALIZAN LOS MONTOS A UNA TAS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TERMINAD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pósito a Plaz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95280" y="1989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versión de Fondos a un Plazo Fijo (30, 60 o 90 días). Hay una tasa de Interés Involucrad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asa de Interés Simple : Se aplica sobre el Capital Inici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asa de Interés Compuesta : Se aplica sobre el Capital Inicial y sobre el Interés Devenga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7010640" cy="993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Interés Sim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09480" y="1447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invierten $100 a una tasa del 10% anu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78" name=""/>
          <p:cNvGraphicFramePr/>
          <p:nvPr/>
        </p:nvGraphicFramePr>
        <p:xfrm>
          <a:off x="1152360" y="2209680"/>
          <a:ext cx="6834240" cy="3048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7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52360" y="2209680"/>
                    <a:ext cx="6834240" cy="304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0" name=""/>
          <p:cNvSpPr/>
          <p:nvPr/>
        </p:nvSpPr>
        <p:spPr>
          <a:xfrm>
            <a:off x="25560" y="5511960"/>
            <a:ext cx="9016920" cy="1091880"/>
          </a:xfrm>
          <a:prstGeom prst="rect">
            <a:avLst/>
          </a:prstGeom>
          <a:noFill/>
          <a:ln w="507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és acumulado al = N * i * C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:Tas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ño 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: Capital Inic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Interés Compues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84" name=""/>
          <p:cNvGraphicFramePr/>
          <p:nvPr/>
        </p:nvGraphicFramePr>
        <p:xfrm>
          <a:off x="1076400" y="2057400"/>
          <a:ext cx="6834240" cy="2971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6400" y="2057400"/>
                    <a:ext cx="683424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6" name=""/>
          <p:cNvSpPr/>
          <p:nvPr/>
        </p:nvSpPr>
        <p:spPr>
          <a:xfrm>
            <a:off x="25560" y="5207040"/>
            <a:ext cx="9091440" cy="1549440"/>
          </a:xfrm>
          <a:prstGeom prst="rect">
            <a:avLst/>
          </a:prstGeom>
          <a:noFill/>
          <a:ln w="507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és acumulado = C * [(1+i)^n - 1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 período 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AR:Interés Total Simple=100, Interés Total Compuesto=159.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asas de interé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762120" y="26668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asa de Interés Nominal : Porcentaje que se paga sobre lo adeuda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asa de Interés Real : Aumento del Poder Adquisitivo del que Presta el Diner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 Tasa de Inflación : (1+in) = (1+ir) * (1+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346040" y="1650960"/>
            <a:ext cx="4165920" cy="584280"/>
          </a:xfrm>
          <a:prstGeom prst="rect">
            <a:avLst/>
          </a:prstGeom>
          <a:noFill/>
          <a:ln w="1015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(1+i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Arial"/>
              </a:rPr>
              <a:t>anual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) = (1+i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Arial"/>
              </a:rPr>
              <a:t>mensual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)^1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10920" y="476280"/>
            <a:ext cx="6933960" cy="689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815328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e dispone de $1MM. Se hará un depósito a plazo a 5 meses y se tiene las siguientes alternativa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pósito no reajustable al 1.5% mensu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pósito en UF (reajustable) al 0.6% mensu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pósito en US$ al 0.8% mensu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e tiene además las siguientes expectativas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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= 1% mensu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Tc=0.7% mensual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¿Cuál alternativa convien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51920" y="1752120"/>
            <a:ext cx="899028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Valor del depósito al quinto mes =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1.000.000*(1+in)^5 = 1.000.000*(1+0.015)^5 = 1.077.28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Valor del depósito al quinto mes =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1.000.000*(1+in)^5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=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1.000.000*[(1+ir)*(1+ </a:t>
            </a:r>
            <a:r>
              <a:rPr b="0" lang="es-ES_tradnl" sz="20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)] ^5 = 1.000.000*[(1+0.006)*(1+0.01)] ^5 = $1.082.91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Valor del depósito al quinto mes =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1.000.000*(1+in)^5 = 1.000.000*[(1+ir)*(1+</a:t>
            </a:r>
            <a:r>
              <a:rPr b="0" lang="es-ES_tradnl" sz="2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Tc)] ^5 = 1.000.000*[(1+0.008)*(1+0.007)] ^5 = 1.077.58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7631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a empresa hace un depósito a plazo a 90 días por m$400 al 1.2% mensual. El cierre es a 60 días de hecho el depósit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Deb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Hab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ósito a Plazo (A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00            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onible (A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los 60 días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ósito a Plazo (A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400*(1.012)^2-40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s Financieros (I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400*(1.012)^2-4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76960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ALORES NEGOCIAB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86800" cy="541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registran bajo este concepto las inversiones en acciones, bonos, efectos de comercio, fondos mutuos y otros títulos de oferta públic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cció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Título que otorga a su poseedor la participación en la propiedad de una sociedad anónim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Bon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Título de deuda, emitido por una empresa o por el gobierno, que promete a su poseedor el pago de una cantidad cierta de dinero, en un plazo determinado. Duración mayor a 1 añ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Efectos de Comerci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Idéntico al bono, pero su duración es inferior a 1 añ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Fondo Mutu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Fondo formado por el aporte de muchas persona y cuyo destino es la inversión en acciones o instrumento de renta fij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693432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adquiere un efecto de comercio que paga al vencimiento $1.200.000. Se adquiere faltando 4 meses para su vencimiento, en $960.000. El cierre del ejercicio ocurre 3 meses después de efectuada la operació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93840" y="3365640"/>
            <a:ext cx="8584920" cy="3251160"/>
          </a:xfrm>
          <a:prstGeom prst="rect">
            <a:avLst/>
          </a:prstGeom>
          <a:noFill/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Debe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Hab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t=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fec. de Comercio (A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isponible (A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96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Intereses No Devengados (CA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24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t=9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Intereses No Devengados (CA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8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Ingreso Financiero (I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8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93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3 Inversión en Accio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815328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debe distinguir si el objetivo de la inversión es de corto o largo plaz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a inversión en acciones será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Valor Negociab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(“Activo Circulante”) si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 acción se cotiza en bol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 monto invertido representa menos del 10% del capital de la empresa emisor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 monto invertido representa menos del 5% de los activos del inversionist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7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aloración de Activ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 general, la Contabilidad Financiera usa la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valoración al costo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Principio Contable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gunas veces se usa el valor de mercado (acciones en calidad de valores negociabl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 otras se usa el valor presente (activos en leasing o inversiones en bono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94920" y="11556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3 Inversión en Accio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a inversión en acciones será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Inversión en Empresa Relacionad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(“Otros Activos”) si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 monto invertido representa más del 10 % del capital de la empresa emisor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interesa si la acción tiene o no cotización bursáti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a inversión en acciones será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Inversión en Otras Sociedades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“Otros Activos”)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 se cotiza en bolsa, representa menos del 10% del capital de la emisora y más del 5% de los activos de la empres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 bien, si no se cotiza en bolsa y representa menos del 10 % del capital de la Empresa Emisor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93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3 Inversión en Accio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298440" y="1676520"/>
            <a:ext cx="8699400" cy="37659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90520" indent="-290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¿Cómo se valoran contablemente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0520" indent="-290520">
              <a:lnSpc>
                <a:spcPct val="100000"/>
              </a:lnSpc>
              <a:spcBef>
                <a:spcPts val="601"/>
              </a:spcBef>
              <a:buClr>
                <a:srgbClr val="86d1e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or Negociable: Mín. {Costo Adquisición.; Valor de Mercado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0520" indent="-290520">
              <a:lnSpc>
                <a:spcPct val="100000"/>
              </a:lnSpc>
              <a:spcBef>
                <a:spcPts val="601"/>
              </a:spcBef>
              <a:buClr>
                <a:srgbClr val="86d1e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versión Empresas Relacionadas: Valor Patrimonial Proporcio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0520" indent="-290520">
              <a:lnSpc>
                <a:spcPct val="100000"/>
              </a:lnSpc>
              <a:spcBef>
                <a:spcPts val="601"/>
              </a:spcBef>
              <a:buClr>
                <a:srgbClr val="86d1e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versión en Otras Sociedades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52560" indent="-380880">
              <a:lnSpc>
                <a:spcPct val="100000"/>
              </a:lnSpc>
              <a:spcBef>
                <a:spcPts val="601"/>
              </a:spcBef>
              <a:buClr>
                <a:srgbClr val="86d1ec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 se cotiza en bolsa: Mín. {Costo Adquisición; Valor de Mercado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52560" indent="-380880">
              <a:lnSpc>
                <a:spcPct val="100000"/>
              </a:lnSpc>
              <a:spcBef>
                <a:spcPts val="601"/>
              </a:spcBef>
              <a:buClr>
                <a:srgbClr val="86d1ec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 no se cotiza en bolsa: Costo de Adquisició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826920" y="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de Valor Negoci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304920" y="762120"/>
            <a:ext cx="8610480" cy="350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adquieren acciones de una S.A en $4.500.000. Al momento de preparar los estados financieros su valor de mercado era de $4.000.000. Posteriormente, se venden en $4.200.000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380880" y="2666880"/>
            <a:ext cx="8597880" cy="4191120"/>
          </a:xfrm>
          <a:prstGeom prst="rect">
            <a:avLst/>
          </a:prstGeom>
          <a:noFill/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Al momento de la compra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Debe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Hab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Valores negociables (A)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4.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isponible (A)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4.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Al cierre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Otros egresos fuera de la explotación (G)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rovisión menor valor acciones (CA)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Al momento de la venta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isponible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4.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rovisión menor valor acciones (CA)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Valores negociables (A)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4.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Otros ingresos fuera de la explot. (I)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61048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adquiere en MM$600 el 20% de las acciones de una compañía, cuyo patrimonio contable es de MM$2.500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380880" y="2362320"/>
            <a:ext cx="8597880" cy="4190760"/>
          </a:xfrm>
          <a:prstGeom prst="rect">
            <a:avLst/>
          </a:prstGeom>
          <a:noFill/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 u="sng">
                <a:solidFill>
                  <a:srgbClr val="ffffff"/>
                </a:solidFill>
                <a:uFillTx/>
                <a:latin typeface="Arial"/>
              </a:rPr>
              <a:t>Registro de la compra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(VPP = 2.500 x 0,2 = 500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 u="sng">
                <a:solidFill>
                  <a:srgbClr val="ffffff"/>
                </a:solidFill>
                <a:uFillTx/>
                <a:latin typeface="Arial"/>
              </a:rPr>
              <a:t>Debe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 u="sng">
                <a:solidFill>
                  <a:srgbClr val="ffffff"/>
                </a:solidFill>
                <a:uFillTx/>
                <a:latin typeface="Arial"/>
              </a:rPr>
              <a:t>Hab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Inversión en empresas relacionadas (A)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50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Menor valor inversiones (A)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10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Disponible (A)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   60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La cuenta “Menor valor inversiones” se debe amortizar en un plazo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Máximo de 5 año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Cuentas por Cobr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erecho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a exigir de un tercero un pago, o la entrega de bienes y servicios, por un cierto monto, a una fecha futur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Tienen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su origen en la venta de bienes o prestación de servicios a crédito, o en la cesión de un bien del activo a un tercero bajo compromiso de pago a futur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En el balance general normalmente se presentan rebajadas por las estimaciones (provisiones) de deudores incobrables y por los intereses no devengad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152280" y="1676520"/>
            <a:ext cx="8839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Se clasifican en las siguientes partida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eudores por ventas: Provenientes de las operaciones comerciales de la empres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ocumentos por cobrar: Provenientes de las operaciones comerciales y documentadas a través de letras, pagares u otr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eudores varios: Las que no provienen de las operaciones comerciales de la empres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ocumentos y cuentas por cobrar a empresas relacionad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eudores a largo plazo: Vencimiento superior a un añ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Cuentas por Cobr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304560" y="17524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Una empresa tiene cuentas por cobrar de $50.000. Por quiebra de un cliente no será posible recaudar $6.000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Cuentas por Cobr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69960" y="2743200"/>
            <a:ext cx="7940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ebe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Hab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Castigo incobrables (G)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6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eudores por ventas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6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57200" y="4038480"/>
            <a:ext cx="84582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Al momento de preparar los estados financieros, se estima que $2.000 podrían no recuperars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22240" y="5105520"/>
            <a:ext cx="7940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ebe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Hab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Provisión incobrables (G)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2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Provisiones (CA)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2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02T21:47:36Z</dcterms:created>
  <dc:creator>DPTO. INFORMATICA</dc:creator>
  <dc:description/>
  <dc:language>en-US</dc:language>
  <cp:lastModifiedBy>IVAN ALVAREZ VALDES</cp:lastModifiedBy>
  <cp:lastPrinted>1999-03-18T20:54:39Z</cp:lastPrinted>
  <dcterms:modified xsi:type="dcterms:W3CDTF">2006-04-01T03:56:21Z</dcterms:modified>
  <cp:revision>23</cp:revision>
  <dc:subject/>
  <dc:title>Primera Parte: Contabilidad Financiera</dc:title>
</cp:coreProperties>
</file>