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3E716-5971-4DF3-80BE-AE2207566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6B77E-AA15-4AB2-88E8-C0CE89674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39541-76FE-4640-BE37-6B8A46D61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5A06F-D763-424F-90F9-20DAD0C82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EEC98-923B-433E-BB0F-D4FA84A12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193E5-FD77-42D7-A521-81BC7765D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40CDE-D2E7-4845-8037-BDC14B198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156C2-4085-49D9-B215-C5C3BB609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F404A-54F8-4556-BF07-93C9DD109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3E76F-9CEC-48EE-8846-D96E9C5C4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23257-7B14-4433-8095-6EFA68CD9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90169-6164-4F31-9179-914681271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3B88E7B-2677-4613-B5E5-7CA797DB091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Costos y Decisiones de Operación</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Michael Jorrat De Luis</cp:lastModifiedBy>
  <cp:lastPrinted>1999-04-29T23:00:25Z</cp:lastPrinted>
  <dcterms:modified xsi:type="dcterms:W3CDTF">2005-04-29T13:01:39Z</dcterms:modified>
  <cp:revision>11</cp:revision>
  <dc:subject/>
  <dc:title>2. Costos y Decisiones de Operación</dc:title>
</cp:coreProperties>
</file>