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22EC6-9EBE-40CC-A57C-20F6155F4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6CD69-BF11-4314-A846-F0D0B613F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2FC70-E8C1-4FEF-A3A2-5E3C3CA78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10325-CACC-4CC1-B987-AE5B0F8F1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50D8C-70D8-4113-A378-E8A6BE87F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75240-3C7A-4276-9DAE-BCDAA914A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20FC1-08C8-468A-9385-259C01E99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117F3-4528-4747-9AE3-1D84DB6DB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87A21-81A5-40A2-A0BA-346E3D442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9AFBC-09D1-4783-B365-16727FC3F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55EAC-FB7D-43EB-8FBC-32F944F00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C166F-F419-4D6D-9C81-A6526E707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2573685-00AF-41C6-9BCD-B5752883B0C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Costos y Decisiones de Operación</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Michael Jorrat De Luis</cp:lastModifiedBy>
  <cp:lastPrinted>1999-04-29T23:00:25Z</cp:lastPrinted>
  <dcterms:modified xsi:type="dcterms:W3CDTF">2005-04-29T13:01:39Z</dcterms:modified>
  <cp:revision>11</cp:revision>
  <dc:subject/>
  <dc:title>2. Costos y Decisiones de Operación</dc:title>
</cp:coreProperties>
</file>