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21AF-7513-4D99-91A8-DB7F5526A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A66F-DD87-404A-8486-DC8F06D6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A204-3945-4A64-8703-8910C97F8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7635-A227-41ED-80D2-DC4198BEB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BAD3-A5CA-4B23-B05D-F45DBDFF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9C31-EA3D-41E3-841F-2A2C6935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ABBC-BA6D-4881-BE78-C5EC5F76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6849-1B7A-4C3F-9275-130E2FDF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8FEB-21FE-48AF-ABFB-D4FB4FAD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B4F5-2C70-4BC6-A4ED-BEF2C92C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F697-4736-494F-9450-BD2CFE53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8DD7-5444-4AC6-A0C8-215C735A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7869-8925-4F4D-B913-5F8483B33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3.xml"/><Relationship Id="rId3" Type="http://schemas.openxmlformats.org/officeDocument/2006/relationships/slide" Target="slide64.xml"/><Relationship Id="rId4" Type="http://schemas.openxmlformats.org/officeDocument/2006/relationships/slide" Target="slide66.xml"/><Relationship Id="rId5" Type="http://schemas.openxmlformats.org/officeDocument/2006/relationships/slide" Target="slide67.xml"/><Relationship Id="rId6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" Target="slide61.xml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unda Par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Otras clasificaciones import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relevante: Costo futuro que será afectado por una decisión 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undido: Costo inamovible porque ya se produjo o porque una decisión ya tomada lo hace irremed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incremental: Mayor costo derivado de la producción de un conjunto adicional de un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marginal:  Costo de producir una unidad a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controlable: Costo que puede ser modificado por el responsable de un departamento o se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istórico: El que ya se produ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estándar: Costo preestablecido o fut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ción del Costo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ste caso, el objetivo de costo es el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e Produc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en el proceso productivo, y que generalmente se asignan al producto (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no Productiv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fuera del proceso de producción (gastos de administración y ventas). Generalmente se consideran gastos del período (no 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teria Prim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sto de los materiales que forman parte de los productos termi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alarios de los trabajadores que participan directamente en la fabricación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In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teria Prim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Materiales que no forman parte de los productos o que no son medibles en forma económicamente factible. Ej: Repuestos, lubricantes, pegamento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no de Obr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Salarios de trabajadores tales como capataces, personal de mantención, guardia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Gastos Generales de Fabric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Otros costos, tales como depreciación, arriendos, seguros, energía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irecto d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teria prim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o de obra direct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 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Producción de la Empres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+ 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l Producto i = 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jo de Exis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terias Prim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en Proce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Termi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Consu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C.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o de Obr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 de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eldos  Distrib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Distri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1830240"/>
            <a:ext cx="0" cy="144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0040" y="2819520"/>
            <a:ext cx="228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906560"/>
            <a:ext cx="0" cy="205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560" y="3733920"/>
            <a:ext cx="205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10280" y="1906560"/>
            <a:ext cx="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5040" y="2819520"/>
            <a:ext cx="22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44974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58690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10280" y="4497480"/>
            <a:ext cx="0" cy="12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4640" y="22114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3760" y="4800600"/>
            <a:ext cx="227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590920" y="3049560"/>
            <a:ext cx="0" cy="1751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2360" y="304812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40080" y="601992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743200" y="3506400"/>
            <a:ext cx="0" cy="2513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4640" y="3581280"/>
            <a:ext cx="30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6960" y="2211480"/>
            <a:ext cx="91296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07360" y="220968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763120" y="2211480"/>
            <a:ext cx="0" cy="1522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640480" y="3657600"/>
            <a:ext cx="3122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365904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40480" y="472428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jercic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el año recién terminado se obtuviero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preci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7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sa de 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terminar el costo de producción y de ventas para el año recién term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strar los flujos de existencias en las cuentas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feccionar el Estado de Resultados para 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rectas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disponibl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s terminados disponibles para la v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9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ado de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8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2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0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antes de impues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2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3520" y="533520"/>
          <a:ext cx="822960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33520"/>
                    <a:ext cx="82296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stemas de Cálculo de Cos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la parte del costo que se imputa al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dónde se imputan lo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el origen de los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histó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étodos de Costeo: Absorbente 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costos se deben incluir como costos del produc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bos métodos difieren en la forma de tratar los costos indirectos f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ducto absorbe la totalidad de los costos de producción (fijos y variables), en tanto los costos no  productivos se consideran gastos del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amento: Tanto los costos variables como los fijos son necesarios para producir bie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e método es el único aceptado para fines ex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costos indirectos de producción fijos no son inventariables, es decir, se consideran gastos del período, al igual que los costos no produ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undamento: Los costos indirectos fijos se relacionan con la capacidad de producción, que es función de un períod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e método es de uso interno y presta mucha utilidad a la toma de deci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del Estado de Resultados con ambos méto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Gastos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2071800"/>
            <a:ext cx="41148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.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con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 fij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Costeo absorbente vs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unitarios de producción ($/un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fij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U. 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4114800"/>
            <a:ext cx="84582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 de vent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.50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variable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1.7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Fijo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4.8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inventario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absorben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1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prod. (6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Final (1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6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3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variab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variab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producción (3000*5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7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Contribu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0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producción (2500*6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4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alor de los inventario fin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absorbente: 1.000*5.500 = 5.5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variable: 1.000*3.000 = 3.0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3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s de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fini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nto de registros, procedimientos y equipos utilizados para recopilar, en forma rutinaria, la información de los costos de una empre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esa medir los costos por objetivo de costos (no en un saco). Típicamente: departamentos y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de cost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y Decisiones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álisis costo-volumen-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variables y margen de con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relevantes y problemas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para la planificación y el control de 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estándar y análisis de desvi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s d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ósito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eo de los 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eación 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tapa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umulación de los costos en los centros de responsabilidad (propósito de contr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icación de los costos a los productos (propósito de costeo de produc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Orden de Trabajo o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usa en empresas que producen a pedido o cuando hay centros de producción que fabrican muchos productos (ej: imprentas, constructora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hoja de costos acompaña al lote de producción, y en ella se registran los costos incurridos en cada departamento (MPD, MOD, C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Unitario Lote i:    MPDi + MODi + C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año Lot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8880" y="5943600"/>
            <a:ext cx="342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s procesos, que fabrican un sólo producto en grandes cant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usa en empresas con producción en grandes cantidades y en forma continua (Ej.:Productos químicos, textiles, acero, minerí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cada proceso se miden los costos de MPD, MOD, CI incurridos en un perí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ego se determina el costo promedio de pasar una unidad de producto a través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 Unitario Proceso i:          MPD + MOD + 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º de unidades proce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3960" y="6248520"/>
            <a:ext cx="373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sumos de un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inicial con u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lorado a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provenientes del proceso anterior, valoradas en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u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conversión = MOD + 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ductos del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Final, co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y valorado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terminadas y enviadas al proceso siguiente, valoradas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Órdenes de Trabaj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na fábrica recibe durante un determinado período dos órdenes de trabajo, para fabricar 5.000 unidades del producto X y 1.000 unidades del producto Y, respectivamente. Las hojas de costos muestran la siguiente inform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 kg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 kg de 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demás, los costos indirectos de los departamentos A y B son de $200 mil y $250 mil, respecti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pide determinar el costo unitario de los productos X e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distribuir los costos indirectos usaremos como base de asignación las horas de mano de ob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.000 / 7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2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57.1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5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50.000 / 1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1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66.6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3.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*300 + 10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200 + 10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7.143 + 166.667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23.81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28.8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5,76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300 + 5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*200 + 5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2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 + 83.33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26.19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.1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,19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ivos de la Contabilidad Gerencial y de la 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Geren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de información para apoyar la toma de dec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planificación y el control de las ope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de Co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ificar, acumular, controlar y asignar los co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elaboración de los estados financieros (valorizar existencias y determinar costo de vent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se dedica a la fabricación de pernos, a través de dos procesos. En el primer departamento se fabrica la cabeza del perno, a partir de un cilindro metálico que es la materia prima. En el segundo proceso o departamento, se toman las unidades provenientes del proceso anterior y se les fabrica el “hil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sabe que los costos de conversión del primer departamento son de $600.000 por concepto de mano de obra directa y $300.000 por concepto de costos indirectos. El costo de la materia prima es de $40 la unidad y durante el período se procesaron y terminaron 30.000 unida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oniendo que no hay inventarios de productos en proceso, determine el valor del producto a la salida del primer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Proceso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00.000 + 300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 /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alor del Producto al salir del primer proces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$40 + $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ignar todos los costos indirectos incurridos en el período a los productos fabricados. Para ello se debe seleccionar un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se de Asign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Base de Asignación es un método sistemático de relacionar un determinado costo o grupo de costos con un objetivo de costos. La selección de la base de asignación debe ser guiada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pósito persegu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costo o esfuerzo necesario para la asig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bases de asignación más utilizada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de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materia prima o costo pr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uperficie o espacio uti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n una fábrica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Produ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demás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conveniente departamentalizar los CI, puesto que un determinado producto no necesariamente requiere de la participación de todos los departa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artamento (Centro de Costo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dad que realiza una función específica, que es responsable de determinados costos y que ocupa un espacio físic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imi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a Departamentos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Pri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de los Departamentos de Producción a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1096920"/>
            <a:ext cx="876312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2590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2998800"/>
            <a:ext cx="78487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825480"/>
            <a:ext cx="853416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8600" y="782640"/>
            <a:ext cx="861048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a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Reducción del patrimonio. Concepto de la contabilidad financiera vinculado a los principios contables o legislación co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acrificio de recursos que se hace con la esperanza de obtener algún beneficio futuro. Concepto de la contabilidad de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. Costos que no son gasto: Costo de oport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que no son costo: Impuesto a la r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920" y="2055960"/>
            <a:ext cx="85341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" y="1677960"/>
            <a:ext cx="86104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1312920"/>
            <a:ext cx="85345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880" y="1305000"/>
            <a:ext cx="86108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8600" y="1244520"/>
            <a:ext cx="876312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BC (Activity-Based Cos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143000" y="1866960"/>
          <a:ext cx="6888240" cy="49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66960"/>
                    <a:ext cx="688824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21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deas claves del ABC - Cos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productos no consumen costos, sino activ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actividades son las que consumen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ecuenc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adecuada gestión de costos debe actuar sobre las actividades (mejora continua; AB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mayor consumo de actividades por parte de un producto mayor asignación de costos indirec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BC - Co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4080" y="2743200"/>
            <a:ext cx="12992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9520" y="274320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2590920"/>
            <a:ext cx="12952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2590920"/>
            <a:ext cx="18288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42160" y="255600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to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2590920"/>
            <a:ext cx="15238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297180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29718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39625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uso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3962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3886200"/>
            <a:ext cx="213372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886200"/>
            <a:ext cx="205740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97180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32448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lquier trabajo realizado al interior de una organización. (Ej: Emisión de facturas, preparar pedidos, mantención de equipo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uni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í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uso de recursos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 de recurs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cantidad de recursos utilizados (consumidos) por una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4200" y="3047040"/>
            <a:ext cx="47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Almacén de materia pr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480" y="3655800"/>
            <a:ext cx="126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ur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18440" y="3655800"/>
            <a:ext cx="17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8120" y="3654360"/>
            <a:ext cx="244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ip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a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46483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15000" y="4267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4267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648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5029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5000" y="5334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5715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6095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6477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ósito o actividad para la cual se miden en forma separada los costos. Ej: productos, departamentos, territorio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ligen en función de las decisiones que se desean to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actividad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s de activid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intensidad y frecuencia de la demanda de actividades por parte de los objetos de costos. Es utilizada para asignar los costos de las actividades a los objetos de costos. Identifican una relación de causa-efecto entre amb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240" y="4266000"/>
            <a:ext cx="51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Planificación de la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2800" y="4645800"/>
            <a:ext cx="239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zamiento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3240" y="4645800"/>
            <a:ext cx="174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52360" y="4645800"/>
            <a:ext cx="218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o de cos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55627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6324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640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248520" y="57146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5715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48520" y="6400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ases y Etapas del Proceso de Asignación ABC - Co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751400"/>
            <a:ext cx="17524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405520"/>
            <a:ext cx="1752480" cy="192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as actividades de cada cent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4416480"/>
            <a:ext cx="1752480" cy="2228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1757520"/>
            <a:ext cx="59436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24436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signación de los costos indirectos a los cen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2900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2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dent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33580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° Elección de los generadores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389160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° Asignación de los costos a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442476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5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lección de los 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49582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6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clas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36000" y="5415480"/>
            <a:ext cx="6072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7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álculo del costo unitario del generador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35640" y="5872680"/>
            <a:ext cx="6081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° Asignación del costo de las actividade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6329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° Asignación de los costos directo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6095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3581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4114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Asignación de los costos indirectos a los cen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8040" y="2294280"/>
            <a:ext cx="5638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53200" y="2294280"/>
            <a:ext cx="21222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8040" y="3589200"/>
            <a:ext cx="17524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mp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0520" y="3589200"/>
            <a:ext cx="167652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r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37040" y="3589200"/>
            <a:ext cx="22096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Mont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1240" y="27464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512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5224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24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12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800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Identificación de las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80880" y="2362320"/>
          <a:ext cx="876312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763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>
            <a:hlinkClick r:id="rId3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195804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23911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uni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3437280"/>
            <a:ext cx="289548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47293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í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574416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195804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57600" y="23911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eria prima consum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o de obra directa (h/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52920" y="3405600"/>
            <a:ext cx="47498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s de puestas a punto de las máqu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nes de com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imientos de mate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 de órdenes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7600" y="47293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mpos empleados en cambios de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ficaciones requeridas por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57600" y="572040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e usan o se asignan arbitrari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96680" y="1982880"/>
            <a:ext cx="801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entr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99600" y="1982880"/>
            <a:ext cx="1113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71440" y="1982880"/>
            <a:ext cx="2925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eneradores de 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3680" y="20480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87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93880" y="20480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6724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73720" y="20480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87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6724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672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1240" y="2300400"/>
            <a:ext cx="965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99000" y="2300400"/>
            <a:ext cx="3300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95760" y="2610000"/>
            <a:ext cx="19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79200" y="2300400"/>
            <a:ext cx="2978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órdenes cursad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78120" y="261000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3680" y="228744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87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93880" y="228744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6724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73720" y="228744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672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87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6724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72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0520" y="2924280"/>
            <a:ext cx="863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ad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95040" y="2924280"/>
            <a:ext cx="2734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e de la materia prim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6120" y="323388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54348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4680" y="3851280"/>
            <a:ext cx="2410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75960" y="292428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77760" y="323388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78120" y="354348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75240" y="3851280"/>
            <a:ext cx="2148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3680" y="29894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87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93880" y="29894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6724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73720" y="29894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72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87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6724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672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8720" y="4167360"/>
            <a:ext cx="893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2880" y="4167360"/>
            <a:ext cx="19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96120" y="447660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95400" y="478476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75960" y="416736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77760" y="447660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78120" y="478476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3680" y="423072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87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93880" y="423072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6724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73720" y="423072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672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3680" y="508788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87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87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93880" y="508788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6724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6724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73720" y="508788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672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5720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41008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19810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22860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28954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419112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) Reclasificación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e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órdenes cur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te de materia pri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stas a punto de las máquin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) Cálculo del costo unitario del generador de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Unitario = Costo actividad / número 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gen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) Asignación del costo de las actividades a los produ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la actividad * N° de generadores de cad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produ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tecedentes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fabrica dos productos, X e Y, para los cuales se tien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914400" y="2813040"/>
            <a:ext cx="75438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la producción la empresa cuenta con cuatro departamento, para los que se conoc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33960" cy="25956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41911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sumo unitario de horas d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1981080" y="4987800"/>
            <a:ext cx="53341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umulación de costos y sistemas de cost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umulación de costos es la recopilación de información de costos en una forma organizada mediante un sistema de contabi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significa “regularida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ctividades por 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838080" y="1181160"/>
            <a:ext cx="7239240" cy="16304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914400" y="4114800"/>
            <a:ext cx="7162920" cy="19162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8380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antece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eo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pongamos que la empresa realizó la primera etapa, es decir, eligió los drivers de recursos y asignó los costos indirectos a las actividades, llegando a los siguientes costos por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de las Actividad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tividades de maquinari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6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pedid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Client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3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os total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6.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hora entonces corresponde elegir para cada actividad el generador (driver) de actividades, para luego asignar el costo de las actividades a los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304920" y="2868480"/>
            <a:ext cx="85341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304920" y="1935000"/>
            <a:ext cx="86104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09480" y="1965240"/>
            <a:ext cx="7848720" cy="28972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5720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resumen, los costos de cada producto son los siguient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acuerdo a su identificación con el objetivo de co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se pueden identificar específicamente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no pueden ser identificados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cuerdo a su variabilidad con el nivel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on independientes, en un cierto rango, del nivel de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varían en proporción directa con el nivel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Crecen a saltos según se alcanzan ciertos volúmenes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Fijos hasta un cierto nivel y luego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onica Mena Valderas</dc:creator>
  <dc:description/>
  <dc:language>en-US</dc:language>
  <cp:lastModifiedBy>Michael Jorrat De Luis</cp:lastModifiedBy>
  <cp:lastPrinted>2000-06-08T22:31:45Z</cp:lastPrinted>
  <dcterms:modified xsi:type="dcterms:W3CDTF">2004-10-22T01:04:35Z</dcterms:modified>
  <cp:revision>28</cp:revision>
  <dc:subject/>
  <dc:title>Contabilidad Administrativa</dc:title>
</cp:coreProperties>
</file>