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D751-8FE4-42D8-BC61-25E89382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BB22-E525-41E9-B5BC-85A7B845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F3B7-6F7A-42B8-8BED-529FDE25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1DB0-7CAB-448C-85E9-B1D0069B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F528-145B-4120-B2AC-F9E5E2F3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50BD-5FB2-4227-AC7C-427DBC2F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D53C-584D-49AB-AC2B-E82686C4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F0D7-0124-47BA-99FC-876394C7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E006-CA3D-4F86-84BB-0BCB65F8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D639-5717-44EE-AB35-E855A44E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7058-57A1-4A8B-B544-C1DBA587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C7F1-823C-4753-B16A-C4A9C4FE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B36A-5536-469C-865A-6CF505AAB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6.xml"/><Relationship Id="rId5" Type="http://schemas.openxmlformats.org/officeDocument/2006/relationships/slide" Target="slide67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" Target="slide61.xml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unda Par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Otras clasificaciones impor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relevante: Costo futuro que será afectado por una decisió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undido: Costo inamovible porque ya se produjo o porque una decisión ya tomada lo hace irremed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incremental: Mayor costo derivado de la producción de un conjunto adicional de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marginal:  Costo de producir una unidad 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ntrolable: Costo que puede ser modificado por el responsable de un departamento o s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El que ya se prod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ándar: Costo preestablecido o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Cost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caso, el objetivo de costo es 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e Prod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en el proceso productivo, y que generalmente se asignan al producto (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no Produ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fuera del proceso de producción (gastos de administración y ventas). Generalmente se consideran gastos del período (no 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eria Prim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sto de los materiales que forman parte de los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larios de los trabajadores que participan directamente en la fabricación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In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eria Prim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Materiales que no forman parte de los productos o que no son medibles en forma económicamente factible. Ej: Repuestos, lubricantes, pegament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no de Obr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Salarios de trabajadores tales como capataces, personal de mantención, guard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Gastos Generales de Fabric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Otros costos, tales como depreciación, arriendos, seguros, energí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irecto d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ria prim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o de obra direct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Producción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l Producto i = 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erias Prim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en Proc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Consu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.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eldos  Distrib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istr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8302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8195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90656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560" y="373392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5040" y="28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974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90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4497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4640" y="22114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90920" y="3049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048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601992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350640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358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2211480"/>
            <a:ext cx="9129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7360" y="22096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2114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40480" y="365760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6590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47242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 año recién terminado se obtuvier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costo de producción y de ventas para el año recién 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strar los flujos de existencias en las cuent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feccionar el Estado de Resultados para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disponib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s terminados disponibles para la v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8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2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antes de impues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533520"/>
          <a:ext cx="82296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Cálculo de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la parte del costo que se imputa al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dónde se imputan lo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origen de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todos de Costeo: Absorbente 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stos se deben incluir como costos del produ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métodos difieren en la forma de tratar los costos indirect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ducto absorbe la totalidad de los costos de producción (fijos y variables), en tanto los costos no  productivos se consideran gastos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o: Tanto los costos variables como los fijos son necesarios para producir bie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método es el único aceptado para fin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ostos indirectos de producción fijos no son inventariables, es decir, se consideran gastos del período, al igual que los costos no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damento: Los costos indirectos fijos se relacionan con la capacidad de producción, que es función de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método es de uso interno y presta mucha utilidad a la 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del Estado de Resultados con ambos méto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Gastos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071800"/>
            <a:ext cx="4114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.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con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 fi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teo absorbente vs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unitarios de producción ($/un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ij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U. 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114800"/>
            <a:ext cx="845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50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variable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1.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Fijo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4.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ventari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absorb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prod. (6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Final (1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6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3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varia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vari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producción (3000*5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7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0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producción (2500*6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4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 de los inventario fi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absorbente: 1.000*5.500 = 5.5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variable: 1.000*3.000 = 3.0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s de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registros, procedimientos y equipos utilizados para recopilar, en forma rutinaria, la información de los costos de una em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a medir los costos por objetivo de costos (no en un saco). Típicamente: departamentos y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y Decis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costo-volumen-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variables y margen de 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relevantes y problemas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para la planificación y el 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estándar y 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ósito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eo de los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apa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mulación de los costos en los centros de responsabilidad (propósito de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cación de los costos a los productos (propósito de costeo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rden de Trabajo o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sa en empresas que producen a pedido o cuando hay centros de producción que fabrican muchos productos (ej: imprentas, constructora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hoja de costos acompaña al lote de producción, y en ella se registran los costos incurridos en cada departamento (MPD, MOD, 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Unitario Lote i:    MPDi + MODi + 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Lot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880" y="5943600"/>
            <a:ext cx="34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rocesos, que fabrican un sólo producto en grandes cant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usa en empresas con producción en grandes cantidades y en forma continua (Ej.:Productos químicos, textiles, acero, miner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ada proceso se miden los costos de MPD, MOD, CI incurridos en un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 se determina el costo promedio de pasar una unidad de producto a través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Unitario Proceso i:          MPD + MOD + 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º de unidades proce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6248520"/>
            <a:ext cx="373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mos de un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inicial con u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do a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provenientes del proceso anterior, valoradas en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u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conversión = MOD + 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s del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Final, co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valorado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terminadas y enviadas al proceso siguiente, valoradas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Órdenes de Trabaj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fábrica recibe durante un determinado período dos órdenes de trabajo, para fabricar 5.000 unidades del producto X y 1.000 unidades del producto Y, respectivamente. Las hojas de costos muestran la siguient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 k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 kg de 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, los costos indirectos de los departamentos A y B son de $200 mil y $250 mil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ide determinar el costo unitario de los productos X e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distribuir los costos indirectos usaremos como base de asignación las horas de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.000 / 7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2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57.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5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0.000 / 1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1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6.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3.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*300 + 10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200 + 10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7.143 + 166.667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23.81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28.8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5,76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300 + 5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*200 + 5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 + 83.33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26.19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.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,19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de la Contabilidad Gerencial y de la 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G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información para apoyar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planificación y el control de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de C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r, acumular, controlar y asign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elaboración de los estados financieros (valorizar existencias y determinar costo de ve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iendo que no hay inventarios de productos en proceso, determine el valor del producto a la salida del primer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00.000 + 300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 /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del Producto al salir del primer proce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$40 + $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ignar todos los costos indirectos incurridos en el período a los productos fabricados. Para ello se debe seleccionar un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 de Asign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Base de Asignación es un método sistemático de relacionar un determinado costo o grupo de costos con un objetivo de costos. La selección de la base de asignación debe ser gui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pósito perseg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osto o esfuerzo necesario para l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bases de asignación más utilizad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de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materia prima o costo pr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ficie o espaci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 una fábrica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demás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nveniente departamentalizar los CI, puesto que un determinado producto no necesariamente requiere de la participación de todos los depart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artamento (Centro de Costo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dad que realiza una función específica, que es responsable de determinados costos y que ocupa un espacio físic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a Departamentos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de los Departamentos de Producción a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096920"/>
            <a:ext cx="876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825480"/>
            <a:ext cx="85341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782640"/>
            <a:ext cx="86104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ducción del patrimonio. Concepto de la contabilidad financiera vinculado a los principios contables o legislación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acrificio de recursos que se hace con la esperanza de obtener algún beneficio futuro. Concepto de la contabilidad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. Costos que no son gasto: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que no son costo: 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055960"/>
            <a:ext cx="85341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677960"/>
            <a:ext cx="8610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312920"/>
            <a:ext cx="8534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305000"/>
            <a:ext cx="8610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244520"/>
            <a:ext cx="87631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C (Activity-Based Cos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3000" y="1866960"/>
          <a:ext cx="688824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6960"/>
                    <a:ext cx="68882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s claves del ABC - Co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ductos no consumen costos, sino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actividades son las que consumen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decuada gestión de costos debe actuar sobre las actividades (mejora continua; A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or consumo de actividades por parte de un producto mayor asignación de costos indir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BC - Co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lquier trabajo realizado al interior de una organización. (Ej: Emisión de facturas, preparar pedidos, mantención de equip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u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uso de recursos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 de re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cantidad de recursos utilizados (consumidos) por un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200" y="304704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 o actividad para la cual se miden en forma separada los costos. Ej: productos, departamentos, territor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ligen en función de las decisiones que se desean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actividad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s de activ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intensidad y frecuencia de la demanda de actividades por parte de los objetos de costos. Es utilizada para asignar los costos de las actividades a los objetos de costos. Identifican una relación de causa-efecto entre am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240" y="426600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Planificación de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ses y Etapas del Proceso de Asignación ABC - C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05520"/>
            <a:ext cx="175248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as actividades de cada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6480"/>
            <a:ext cx="17524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Asignación de los costos indirectos a los cen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Identificación de las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Reclasificación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órdenes cur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e de materia pr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stas a punto de las máqui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Unitario = Costo actividad / número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gen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la actividad * N° de generadores de ca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tecedentes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fabrica dos productos, X e Y, para los cuales se tien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la producción la empresa cuenta con cuatro departamento, para los que se conoc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umulación de costos y sistemas de cos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ulación de costos es la recopilación de información de costos en una forma organizada mediante un sistema de co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significa “regular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de las Activida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tividades de maquina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ped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Client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os tot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ora entonces corresponde elegir para cada actividad el generador (driver) de actividades, para luego asignar el costo de las actividades a los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resumen, los costos de cada producto son los sigu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cuerdo a su identificación con el objetivo de 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se pueden identificar específicamente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no pueden ser identificados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su variabilidad con el nivel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on independientes, en un cierto rango, del nivel de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varían en proporción directa con el nivel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Crecen a saltos según se alcanzan ciertos volúmen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Fijos hasta un cierto nivel y luego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Michael Jorrat De Luis</cp:lastModifiedBy>
  <cp:lastPrinted>2000-06-08T22:31:45Z</cp:lastPrinted>
  <dcterms:modified xsi:type="dcterms:W3CDTF">2004-10-22T01:04:35Z</dcterms:modified>
  <cp:revision>28</cp:revision>
  <dc:subject/>
  <dc:title>Contabilidad Administrativa</dc:title>
</cp:coreProperties>
</file>