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209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55C35-8929-4571-95F5-BE46587EC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2A851-F32F-4D29-BF57-CB198E2C7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177CA-A7B6-4596-9BF6-A7DA63A2C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08150-9657-4509-898A-C7C443B12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62937-0FEA-44E0-8903-CA164C08D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E2DD2-0AB1-4B9D-BCD9-F99D3DAD1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065EC-9222-4C3C-83DF-6F64CC6DF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65FED-D991-47EA-8965-7F2E123CE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3F04F-F5CA-4A67-8D38-666E5D19B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8003D-4688-4433-B269-560269E1C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2A1E1-DD95-4682-BF5D-EBA0ED9C7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6D0F7-23B0-4FAB-B91F-5FA1D5F1B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52BD9-9E84-4776-9A03-AA7AD40C6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D77D8-D8AA-4312-867B-3832866AD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DC896-7A9F-48A1-9E15-CF32399C2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3CBB3-598C-42A5-A8E7-A89D1BFFC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8D543-469E-4B0E-8EDD-CA5A37B28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1DBEB-B487-4170-8A2C-D06AE3EC0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28738-F091-4D63-8FC2-E0EFFF3E4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A0125-0779-4534-BE86-7B31D8520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62036-1C5D-4B17-A870-421CED737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ED6A7-DA85-4A96-A987-211C504F9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B544D-690A-48F7-8A04-736F8E2D0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33972-20CC-47D8-9145-48604CC7E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43A7C-79A7-430D-BACB-01A314BCDA27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B7C0E-264B-4F92-8CF6-ABEA749E07D6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71240" y="106668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imera Parte: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ntabilidad Financiera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55840"/>
            <a:ext cx="8229600" cy="377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pítulo 8: Corrección Monetar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52280" y="1268280"/>
            <a:ext cx="8839440" cy="528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Utilidad Nominal  =  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trimonio Inicial Actualizado = 1.000 * 1.1 = 1.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trimonio Final Actualizado (Act. - Pas.)    =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0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Balance Final Corregid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j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01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Patrim. Inicial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1.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érdida del Ej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(9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95280" y="352440"/>
            <a:ext cx="316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Ejemplo 1 (cont.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39636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2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75960" y="1413000"/>
            <a:ext cx="8839080" cy="468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i 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hora el activo es un terreno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 (no pierde valor con la inflació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B.I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Activo Fij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0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Patrim. Inicial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B.F.  Caj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1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Patrim. Inicial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tivo Fijo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0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Utilidad del ej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trimonio Inicial Actualizado = 1.000 * 1.1         = 1.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trimonio Final Actualizado  = 1.000 * 1.1 + 10 = 1.1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Utilidad real (PFA - PIA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228600" y="1676520"/>
            <a:ext cx="8610480" cy="213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lance Final Corregido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j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1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trimonio Inici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 Fij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1.1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da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13080" y="352440"/>
            <a:ext cx="297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Ejemplo 2 (cont.)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140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3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76320" y="1413000"/>
            <a:ext cx="8991360" cy="518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i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hora hay una deuda reajustable (en UF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B.I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j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5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ud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      5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trim. Inicial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B.F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j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51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ud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      5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trim. Inicial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Utilidad del ej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trimonio Inicial Actualizado = 1.000 * 1,1            =  1.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trimonio Final Actualizado   = 1.510 – 500 * 1,1 =     96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Utilidad real (PFA - PIA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  =    (14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672400" cy="100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8.3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Mecanismo de la Corrección Monetar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Revalorizar el Patrimonio Inici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Revalorizar el Patrimonio Final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tivos Revalorizables (No Monetario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sivos Revalorizables (No Monetario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tivos no monetario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76168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stán auto protegidos de la Inflación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u valor real permanece constante en el tiemp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jemplo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tivos Fij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pósitos a Plazo Reajustabl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xistenci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tivos Intangibles, Accio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tas. por Cobrar Reajustab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95280" y="456840"/>
            <a:ext cx="7453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sivos no monetario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stán auto protegidos de la Inflación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u valor real permanece constante en el tiemp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jemplos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udas en U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udas pactadas en moneda extranjer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ualquier deuda pactada con cláusula de reajustabilida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e amortiza en pesos y luego se hace C.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24000" y="380520"/>
            <a:ext cx="7448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tivos y Pasivos monetari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51920" y="1676520"/>
            <a:ext cx="8610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on aquellos pasivos y activos cuyo valor nominal permanece constante, pero no el re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jemplo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ispon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uentas por cobr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udas no reajustab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591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ses de la Corrección Monetar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28600" y="1773000"/>
            <a:ext cx="8763120" cy="477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gir el Capital Inicial (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P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gir Aportes y Retiros de Capi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gir Activos No Monetari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gir Pasivos No Monetari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ctores de correcció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IPC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Variación del Índice de Precios al Consumidor, se usa para corregir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i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s Fij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s Intangib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Costo de Reposició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usa para corregir el valor de las existenci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define como el valor de la última unidad comprad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a fines tributarios se considera el precio más alto pagado en el ejercici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rrección Monetar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078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finición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canismo para reflejar en los estados financieros la pérdida de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oder adquisitiv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de la moned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207280" cy="97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ctores de correcció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52280" y="1676520"/>
            <a:ext cx="87631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Variación Tipo de Cambi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e usa para corregir las deudas o depósitos pactados en moneda extranjer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Cláusulas de Reajustabilidad</a:t>
            </a:r>
            <a:r>
              <a:rPr b="1" i="1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: Según como se haya establecido o pacta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e usa para corregir deudas o depósitos pactados con las respectivas cláusula (la más usual es la Unidad de Fomento (UF)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50560" y="75960"/>
            <a:ext cx="8816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610480" cy="37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Una empresa tiene los siguientes estados financieros a fi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l ejercicio de 2005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TIVO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SIVO Y PATRIMON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j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Oblig. en M.Extranj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6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udores por Vta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9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tas. por Pagar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4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xistencia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8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pital y Reserva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tivo Fij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5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Utilidad del Ejercici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300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Total Activo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2.3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Total Pasivo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2.3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78920" y="188640"/>
            <a:ext cx="7750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4 (cont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tado de Resultado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s por Vent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2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o Vent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500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rge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7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tos de Adm. y Vent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300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ultado Operacion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4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tos Financiero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dad de Ejercici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300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50920" y="75960"/>
            <a:ext cx="8740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4 (cont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emás, se tiene la siguiente informació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PC a Noviembre de 2004 = 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PC a Noviembre de 2005 = 12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riación tipo de cambio   =   3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s existencias, valoradas según el método FIFO,  se componen de 80 unidades a $8 cada una y 16 unidades a $10 cada una. En la última compra se pagó este último preci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50560" y="75960"/>
            <a:ext cx="7978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4 (cont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cción Capital Inicial (como el IPC de diciembre 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oce en Enero, se usa el de noviembre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PC =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25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-  1= 25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ital Inicial Revalorizad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1.000*1.25 = 1.2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ital Inici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.000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cción Monetar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2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050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4 (cont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87631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valorización Activos No Monetari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 Fijo Revalorizado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500*1.25 =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2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 Fij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5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cción Monetar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cias Revalorizad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96*10      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6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ci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8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cción Monetar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6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670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4 (cont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valorización Pasivos No Monetari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ligaciones en M.E. Revalorizad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600* 1.3 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8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ligaciones en M.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6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cción Monetar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8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trimonio Final Revalorizado : (Activo- Pasivo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0 + 900 + 960 + 625- 780 - 400 = 1.40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o el Patrimonio Inicial Revalorizado es 1250, se tie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dad Re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155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78920" y="18864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4 (cont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23640" y="1143000"/>
            <a:ext cx="86677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sientos de Corrección Monetari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cción monetar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ital Inici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 Fij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cción monetar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ci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6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cción monetar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6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cción monetar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8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uda M.E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8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23640" y="75960"/>
            <a:ext cx="5771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4 (cont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228600" y="1752120"/>
            <a:ext cx="45720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68360" y="981000"/>
            <a:ext cx="6186600" cy="50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Nuevo Estado de Resultad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Ingresos por Vt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1.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osto Vta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Margen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7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Gastos Adm.y Vta.        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R.O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Gastos Financiero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orrección Monetaria  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(145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Utilidad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15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4 (cont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Nuevo Bal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TIVO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SIVO Y PATRIMON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j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Oblig. en M.E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78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udores por Vtas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9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tas. por Pagar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4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xistencia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96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pital y Reserva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1.2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tivo Fij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625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Utilidad del Ejercici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155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2.585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2.58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94920" y="475920"/>
            <a:ext cx="859644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8.1 Concepto de Poder Adquisitiv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5960" y="1981080"/>
            <a:ext cx="8915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upongamos una economía donde existe un solo bien (manzanas)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recio periodo 0 : Po = 10 $/unid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recio periodo 1 : P1 = 11 $/unid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ntonces la inflación = 1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8920" y="188640"/>
            <a:ext cx="8596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8.1 Concepto de Poder Adquisitiv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52280" y="1628640"/>
            <a:ext cx="8839440" cy="484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 un individuo dispone de $ 1.000, y tiene la alternativa d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ositar al 20%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Manzan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 = 0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ital inici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0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0,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 = 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ital fin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.2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09,0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da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2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9,0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dad nominal = 1.200 – 1.000 = 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en $ de cada año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dad re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=  9,09*11 = 100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en $ del año 1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324000" y="1125000"/>
            <a:ext cx="842472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Para calcular la utilidad real obtenida en un depósito, lo que hacemos es comparar el dinero obtenido a la fecha del vencimiento con el capital depositado originalmente, pero actualizado según la variación del IPC (inflación), es decir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Utilidad real 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= 1200 – 1000 * (1+ </a:t>
            </a: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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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1200 – 1000 * 1,1       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 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94920" y="333000"/>
            <a:ext cx="8312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8.2 Inflación y Estados Financier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blemas de la Inflación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torsiona el valor de Activos y Pasiv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torsiona la relación entre Ingresos y Gast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cción Monetar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mite pagar impuestos sobre utilidades rea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mite comparar estados financieros de distintos períod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324000" y="98100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Para determinar la utilidad real en una empresa, es decir, con corrección monetaria, se aplica un procedimiento conceptualmente similar a cuando se obtiene la utilidad real de un depósito bancario (como en ejemplo anterior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La diferencia es que el patrimonio final no es necesariamente una cantidad de dinero, como ocurre en un depósito, sino un conjunto de activos y pasivos, monetarios y no monetari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Entonces, se debe comparar el patrimonio inicial actualizado con el patrimonio final, también actualiza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94920" y="188640"/>
            <a:ext cx="8596440" cy="115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s expresiones important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95280" y="1773360"/>
            <a:ext cx="7875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Resultado = Patrimonio Final - Patrimonio Inicial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trimonio = Activo - Pasiv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Ejemplo 1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B.I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j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0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Patrim. Inicial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B.F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  Caj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01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Patrim. Inicial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Utilidad del Ej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upuestos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b46d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Inflación 1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b46d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La Utilidad es producto de una prestación de servicios que se paga al contad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11T23:09:14Z</dcterms:created>
  <dc:creator>Michael Jorratt</dc:creator>
  <dc:description/>
  <dc:language>en-US</dc:language>
  <cp:lastModifiedBy>IVAN ALVAREZ VALDES</cp:lastModifiedBy>
  <cp:lastPrinted>1999-03-18T21:02:27Z</cp:lastPrinted>
  <dcterms:modified xsi:type="dcterms:W3CDTF">2006-04-17T03:14:02Z</dcterms:modified>
  <cp:revision>29</cp:revision>
  <dc:subject/>
  <dc:title>Primera Parte: Contabilidad Financiera</dc:title>
</cp:coreProperties>
</file>