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0C748-D23E-4509-B678-516059121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E68F-4E41-4FED-8F72-BE59C7C0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DBF1E-E2C9-4506-926C-8C24183DD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6BBC5-2B1B-4420-A59E-750251F2D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7381A-40B9-4D92-861A-C3E33DC32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0BE7C-D907-4D5B-AE42-C42AA0FA0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A63E0-7176-41D8-973A-23E11E26F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2DFE7-E258-4472-B81D-78D2CF53D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F1C6C-5866-4212-A618-28F9056C4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02B44-376A-4F75-BE52-130566AF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304BF-71BD-4584-A0FA-0DA2F85C8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F5C75-1C5B-4F38-A6BB-8CD253C0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5A017-BB19-44B8-AB24-64A4AD3F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12527-19E3-4DE2-B00D-BDF976AAF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E8C24-616A-44A3-A8E9-232BDBD39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A16D5-3C32-44D2-8D43-7F9158382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AF44C-0FA1-4FAB-B49A-9D671F6FE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65B0-6B02-4AA6-9814-27F42C8AB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05D2F-08A3-4DAB-AE1B-B53FCF39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C6E7-995B-449D-A6A1-DB5D77B3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B26F-8309-406F-A2C3-38F677FF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FEC1C-C0FA-4A44-AD72-43397B7EC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BCA5-5C8D-4534-9C03-6590D3E0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B964-5B69-4EA3-A969-F61A7B2A9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5AA5-ADFD-4F58-88D1-04F66515669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A0DE-DF22-49C9-B96C-80C9E089F9D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700360" y="2133720"/>
            <a:ext cx="352908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uxiliar 2</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46A</a:t>
            </a:r>
            <a:endParaRPr b="0" lang="en-US" sz="4400" spc="-1" strike="noStrike">
              <a:solidFill>
                <a:srgbClr val="000000"/>
              </a:solidFill>
              <a:latin typeface="Arial"/>
            </a:endParaRPr>
          </a:p>
        </p:txBody>
      </p:sp>
      <p:sp>
        <p:nvSpPr>
          <p:cNvPr id="87" name=""/>
          <p:cNvSpPr/>
          <p:nvPr/>
        </p:nvSpPr>
        <p:spPr>
          <a:xfrm>
            <a:off x="250920" y="189000"/>
            <a:ext cx="1979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60280"/>
            <a:ext cx="223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partamento de Ingeniería Industria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acultad de Ciencias Físicas y Matemátic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Universidad de Chile</a:t>
            </a:r>
            <a:endParaRPr b="0" lang="en-US" sz="800" spc="-1" strike="noStrike">
              <a:solidFill>
                <a:srgbClr val="000000"/>
              </a:solidFill>
              <a:latin typeface="Arial"/>
            </a:endParaRPr>
          </a:p>
        </p:txBody>
      </p:sp>
      <p:sp>
        <p:nvSpPr>
          <p:cNvPr id="89" name=""/>
          <p:cNvSpPr/>
          <p:nvPr/>
        </p:nvSpPr>
        <p:spPr>
          <a:xfrm>
            <a:off x="6012000" y="5661000"/>
            <a:ext cx="2987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ofesor: Vicente Astorg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uxiliar: Héctor Álvarez</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68360" y="1197000"/>
            <a:ext cx="8280360" cy="206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 </a:t>
            </a:r>
            <a:r>
              <a:rPr b="0" lang="en-US" sz="1800" spc="-1" strike="noStrike">
                <a:solidFill>
                  <a:srgbClr val="000000"/>
                </a:solidFill>
                <a:latin typeface="Trebuchet MS"/>
              </a:rPr>
              <a:t>Al momento de vender, las existencias que son vendidas son las primeras que fueron compradas, quedando en inventario las existencias mas nuevas</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 </a:t>
            </a:r>
            <a:r>
              <a:rPr b="0" lang="en-US" sz="1800" spc="-1" strike="noStrike">
                <a:solidFill>
                  <a:srgbClr val="000000"/>
                </a:solidFill>
                <a:latin typeface="Trebuchet MS"/>
              </a:rPr>
              <a:t>Las existencias que quedan después de una venta son las mas antiguas.</a:t>
            </a:r>
            <a:endParaRPr b="0" lang="en-US" sz="1800" spc="-1" strike="noStrike">
              <a:solidFill>
                <a:srgbClr val="000000"/>
              </a:solidFill>
              <a:latin typeface="Arial"/>
            </a:endParaRPr>
          </a:p>
        </p:txBody>
      </p:sp>
      <p:sp>
        <p:nvSpPr>
          <p:cNvPr id="120" name=""/>
          <p:cNvSpPr/>
          <p:nvPr/>
        </p:nvSpPr>
        <p:spPr>
          <a:xfrm>
            <a:off x="46836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a tienda tenía en inventario 10 unidades de un producto a $10.000 c/u. Hace dos días, recibió 5 unidades a $40.000 c/u y ayer 3 unidades más a $5.000. Hoy se vendieron 15 unidades. Calcule las existencias al final del día.</a:t>
            </a:r>
            <a:endParaRPr b="0" lang="en-US" sz="1800" spc="-1" strike="noStrike">
              <a:solidFill>
                <a:srgbClr val="000000"/>
              </a:solidFill>
              <a:latin typeface="Arial"/>
            </a:endParaRPr>
          </a:p>
        </p:txBody>
      </p:sp>
      <p:sp>
        <p:nvSpPr>
          <p:cNvPr id="121" name=""/>
          <p:cNvSpPr/>
          <p:nvPr/>
        </p:nvSpPr>
        <p:spPr>
          <a:xfrm>
            <a:off x="468360" y="4581360"/>
            <a:ext cx="8136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CPP = $262.5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PEPS= $300.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UEPS= $315.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Activo Fijo (depreciación)</a:t>
            </a:r>
            <a:endParaRPr b="0" lang="en-US" sz="3200" spc="-1" strike="noStrike">
              <a:solidFill>
                <a:srgbClr val="000000"/>
              </a:solidFill>
              <a:latin typeface="Arial"/>
            </a:endParaRPr>
          </a:p>
        </p:txBody>
      </p:sp>
      <p:sp>
        <p:nvSpPr>
          <p:cNvPr id="12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68360" y="1268280"/>
            <a:ext cx="7848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a:t>
            </a:r>
            <a:r>
              <a:rPr b="0" lang="es-ES_tradnl" sz="1800" spc="-1" strike="noStrike">
                <a:solidFill>
                  <a:srgbClr val="000000"/>
                </a:solidFill>
                <a:latin typeface="Trebuchet MS"/>
              </a:rPr>
              <a:t>Distribución del costo del activo como gasto en los períodos en que presta sus servici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Depreciación Lineal: Al final de su vida útil (n años), el mercado le asigna al Activo un Valor Residual. Luego, el activo se deprecia año a año a la tasa siguiente</a:t>
            </a:r>
            <a:endParaRPr b="0" lang="en-US" sz="1800" spc="-1" strike="noStrike">
              <a:solidFill>
                <a:srgbClr val="000000"/>
              </a:solidFill>
              <a:latin typeface="Arial"/>
            </a:endParaRPr>
          </a:p>
        </p:txBody>
      </p:sp>
      <p:sp>
        <p:nvSpPr>
          <p:cNvPr id="126" name=""/>
          <p:cNvSpPr/>
          <p:nvPr/>
        </p:nvSpPr>
        <p:spPr>
          <a:xfrm>
            <a:off x="2411280" y="3429000"/>
            <a:ext cx="3276720" cy="94932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Depreciación = </a:t>
            </a:r>
            <a:r>
              <a:rPr b="0" lang="es-ES_tradnl" sz="2400" spc="-1" strike="noStrike" u="sng">
                <a:solidFill>
                  <a:srgbClr val="000000"/>
                </a:solidFill>
                <a:uFillTx/>
                <a:latin typeface="Trebuchet MS"/>
              </a:rPr>
              <a:t>P-V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	</a:t>
            </a:r>
            <a:r>
              <a:rPr b="0" lang="es-ES_tradnl" sz="2400" spc="-1" strike="noStrike">
                <a:solidFill>
                  <a:srgbClr val="000000"/>
                </a:solidFill>
                <a:latin typeface="Trebuchet MS"/>
              </a:rPr>
              <a:t>            </a:t>
            </a:r>
            <a:r>
              <a:rPr b="0" lang="es-ES_tradnl" sz="2400" spc="-1" strike="noStrike">
                <a:solidFill>
                  <a:srgbClr val="000000"/>
                </a:solidFill>
                <a:latin typeface="Trebuchet MS"/>
              </a:rPr>
              <a:t>n</a:t>
            </a:r>
            <a:endParaRPr b="0" lang="en-US" sz="2400" spc="-1" strike="noStrike">
              <a:solidFill>
                <a:srgbClr val="000000"/>
              </a:solidFill>
              <a:latin typeface="Arial"/>
            </a:endParaRPr>
          </a:p>
        </p:txBody>
      </p:sp>
      <p:sp>
        <p:nvSpPr>
          <p:cNvPr id="127" name=""/>
          <p:cNvSpPr/>
          <p:nvPr/>
        </p:nvSpPr>
        <p:spPr>
          <a:xfrm>
            <a:off x="468360" y="472428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68360" y="465300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epreciación Lineal Acelerada: Existen productos a los cuales se les asigna una vida útil efectiva de un tercio de su vida útil real. Un ejemplo son los computadores, que se deprecian aceleradamente producto del continuo mejoramiento de su tecnolo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8360" y="3333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emas de hoy:</a:t>
            </a:r>
            <a:endParaRPr b="0" lang="en-US" sz="3600" spc="-1" strike="noStrike">
              <a:solidFill>
                <a:srgbClr val="000000"/>
              </a:solidFill>
              <a:latin typeface="Arial"/>
            </a:endParaRPr>
          </a:p>
        </p:txBody>
      </p:sp>
      <p:sp>
        <p:nvSpPr>
          <p:cNvPr id="91" name=""/>
          <p:cNvSpPr/>
          <p:nvPr/>
        </p:nvSpPr>
        <p:spPr>
          <a:xfrm>
            <a:off x="611280" y="1341360"/>
            <a:ext cx="82818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1</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2</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rabajo en Grupo</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uentas por cobrar</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Valoración de Existencia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étodos de Contabilización de Inventar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 Fijo (depreciación)</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jercic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55640" y="1341360"/>
            <a:ext cx="792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rebuchet MS"/>
              </a:rPr>
              <a:t>“</a:t>
            </a:r>
            <a:r>
              <a:rPr b="0" lang="es-CL" sz="2400" spc="-1" strike="noStrike">
                <a:solidFill>
                  <a:srgbClr val="000000"/>
                </a:solidFill>
                <a:latin typeface="Trebuchet MS"/>
              </a:rPr>
              <a:t>Tienen</a:t>
            </a:r>
            <a:r>
              <a:rPr b="0" lang="es-ES" sz="2400" spc="-1" strike="noStrike">
                <a:solidFill>
                  <a:srgbClr val="000000"/>
                </a:solidFill>
                <a:latin typeface="Trebuchet MS"/>
              </a:rPr>
              <a:t> su origen en la venta de bienes o prestación de servicios a crédito, o en la cesión de un bien del activo a un tercero bajo compromiso de pago a futuro.”</a:t>
            </a:r>
            <a:endParaRPr b="0" lang="en-US" sz="2400" spc="-1" strike="noStrike">
              <a:solidFill>
                <a:srgbClr val="000000"/>
              </a:solidFill>
              <a:latin typeface="Arial"/>
            </a:endParaRPr>
          </a:p>
        </p:txBody>
      </p:sp>
      <p:sp>
        <p:nvSpPr>
          <p:cNvPr id="95" name=""/>
          <p:cNvSpPr/>
          <p:nvPr/>
        </p:nvSpPr>
        <p:spPr>
          <a:xfrm>
            <a:off x="468360" y="2781360"/>
            <a:ext cx="8316720" cy="256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por ventas: Provenientes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por cobrar: Provenientes de las operaciones comerciales y documentadas a través de letras, pagares u otr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varios: Las que no provienen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y cuentas por cobrar a empresas relacionada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a largo plazo: Vencimiento superior a un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24000" y="1341360"/>
            <a:ext cx="8496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jemplo: La empresa ha vendido un terreno que no usaba, pagándose M$5 en efectivo y $M3 el próximo 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Deb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isponibl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uentas por Cobrar</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erreno</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0"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68360" y="1125360"/>
            <a:ext cx="8207280" cy="53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uando no se puede recuperar el dinero, el castigo de no recuperarlo se toma como un gasto (Castigo Incobrab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 después de asumido este castigo, se paga parte o la totalidad de la deuda, se considera un INGRESO FUERA DE EXPLOTACION, quedando reflejada la ganancia en el EER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amigo suyo le debía $5.000 hace un año, pero jamás lo volvió a ver. Sorprendentemente, se encontró con usted ayer y le devolvió solo $3.000.</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stigo Incobrabl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entas por Cobrar</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ponibl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greso Fuera de Explotación</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981000"/>
            <a:ext cx="813600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 realizar una transacción, existen empresas que tienen como política fijar un cierto monto del total como PROVISION, es decir, asumir que ese monto no se lo van a pag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día en la terraza, un amigo le pide $1.000 para ir a comprar cerveza. Después de habérsela tomado (y tomado además de la suya), le pide plata prestada nuevamente para comprar otra botella. Usted no confía que se acuerde de este último présta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udores vario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sion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o se aprecia, la deuda neta es de $1.000, sin embargo, la provisión asume una pérdida de disponible. Si efectivamente devuelve el dinero, se procede de igual forma que con la cuenta anterior. La diferencia es que la provisión no es un gasto y el castigo incobrables 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Valoración de Existencias</a:t>
            </a:r>
            <a:endParaRPr b="0" lang="en-US" sz="3200" spc="-1" strike="noStrike">
              <a:solidFill>
                <a:srgbClr val="000000"/>
              </a:solidFill>
              <a:latin typeface="Arial"/>
            </a:endParaRPr>
          </a:p>
        </p:txBody>
      </p:sp>
      <p:sp>
        <p:nvSpPr>
          <p:cNvPr id="106"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68360" y="1773360"/>
            <a:ext cx="8207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iódico: </a:t>
            </a:r>
            <a:r>
              <a:rPr b="0" lang="es-ES_tradnl" sz="2400" spc="-1" strike="noStrike">
                <a:solidFill>
                  <a:srgbClr val="000000"/>
                </a:solidFill>
                <a:latin typeface="Trebuchet MS"/>
              </a:rPr>
              <a:t>Se observan las compras de mercadería cada cierto tiempo y en contraste con el inventario final, se calcula el costo de ven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petuo: Se ve “día a día” el flujo de mercad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09"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119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tos métodos son utilizados para determinar el costo de ventas de la mercancía, para así obtener el valor de existencia que queda para vender.</a:t>
            </a:r>
            <a:endParaRPr b="0" lang="en-US" sz="2400" spc="-1" strike="noStrike">
              <a:solidFill>
                <a:srgbClr val="000000"/>
              </a:solidFill>
              <a:latin typeface="Arial"/>
            </a:endParaRPr>
          </a:p>
        </p:txBody>
      </p:sp>
      <p:sp>
        <p:nvSpPr>
          <p:cNvPr id="112" name=""/>
          <p:cNvSpPr/>
          <p:nvPr/>
        </p:nvSpPr>
        <p:spPr>
          <a:xfrm>
            <a:off x="468360" y="2708280"/>
            <a:ext cx="8280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4"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95280" y="1844640"/>
            <a:ext cx="874872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l precio de las existencias está dado por el promedio ponderado de est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cio Existencias =    </a:t>
            </a:r>
            <a:r>
              <a:rPr b="0" lang="en-US" sz="2400" spc="-1" strike="noStrike" u="sng">
                <a:solidFill>
                  <a:srgbClr val="000000"/>
                </a:solidFill>
                <a:uFillTx/>
                <a:latin typeface="Trebuchet MS"/>
              </a:rPr>
              <a:t>SUMA(Cantidad de Producto i * Precio 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Total de Existen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0:55:39Z</dcterms:created>
  <dc:creator>Breaker</dc:creator>
  <dc:description/>
  <dc:language>en-US</dc:language>
  <cp:lastModifiedBy>Breaker</cp:lastModifiedBy>
  <dcterms:modified xsi:type="dcterms:W3CDTF">2007-04-04T00:30:14Z</dcterms:modified>
  <cp:revision>3</cp:revision>
  <dc:subject/>
  <dc:title>Diapositiva 1</dc:title>
</cp:coreProperties>
</file>