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30BD-AC27-4D12-84D8-BCC8952EA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20AE-6719-4D0A-B654-1639D504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B853-6B91-4CCF-86F4-58354B66E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A8F4-21D1-44D7-93B8-B3EFB1EF9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4B151-B943-4B4E-9947-56B62419E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62CA-0895-4F82-AA4D-FEEAD556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B31F-EFE8-478E-B9BB-40304D05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F077E-3697-4864-A879-9A0912BC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0EC73-DC0F-44B8-A629-641D3824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6F2F-EDFC-43DC-A6BC-6FEED36E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C3A1D-B40A-4F80-9D13-97517A3C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4E6A-22A8-402A-92A4-B85AB564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B725-B077-4DF4-A4D0-BAE420C5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AE5E-225E-4F0D-B713-4309B935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9C33-DFC6-4B10-8951-2DE5EE5F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3BEB-93FF-4749-A386-8005186CC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A20C-1C51-4DB4-8686-5B08BD61F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7BE2-CC8A-4C5A-9222-EE43D36F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5BFE-4F2C-4106-9600-7B5324B2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1310-9ED9-4389-9673-BB39F40D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198D-41C9-4471-8B19-0A08484C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7E3C-C757-4ED9-8483-35752443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BC20-F948-4F8D-AA92-65B4C32C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3AB0-19DC-4970-9754-8484B006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D40C-8358-4CBB-9CD2-7903738AFCB6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B14C-3604-4368-83D0-4B5424693A44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344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ítulo 5: Pas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compra una camioneta vía leasing. El contrato establece 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6 cuotas iguales de m$ 1.000, las que incluyen 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mensual del 1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.01)  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= 5.79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= 6.000 - 5.795,5 = 204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gistr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en leasing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9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4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por Leasing 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 primer m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por leas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7,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7,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676520"/>
            <a:ext cx="86421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Qué parte de la cuota mensual corresponde a interés 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nto a capit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e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 por amortizar   Interé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95,4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7,9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2,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853,4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48,5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1,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901,9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39,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,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940,9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29,4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70,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970,4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9,7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0,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990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9,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9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0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7627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bilización Tribu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cuota del leasing es un gasto. Sólo se registra como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última cuota (opción), la cual se depre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ota contrato de leas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gast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5589720"/>
            <a:ext cx="7920000" cy="45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ventaja fundamental del leasing es tributar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ipales rubros del pas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cipales Rubros del Pas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e instituc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, Documentos por pagar y Acreedores 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en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 a la re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ercibidos por adela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s dife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5993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ligaciones con el Público (Bon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de emi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Monto que se pagará al tenedor del bo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asa de emi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asa de interés que se devengar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P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ital no amortizado más intereses devengados y no pa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de merc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ecio al que se transa el bono (en función de la tasa de interés de mercad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up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ago parcial del bono, que puede incluir amortización del capital y/o intere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 una serie de bonos a 5 años plazo con valor de emisión de MM$ 700 y tasa de emisión de 6,5%. Anualmente se amortizará la quinta parte del valor de emisión y se pagarán los intereses devengados.  Como la tasa de interés de mercado es de 7,2%, el bono se transó en MM$ 687,46. Los gastos de colocación alcanzaron a MM$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82,4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5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12,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1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er cupón (pago de capital e interese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5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2,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5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2,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9135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 una serie de bonos a 5 años plazo con valor de emisión de MM$ 700 y tasa de emisión de 7,5%. Anualmente se amortizará la quinta parte del valor de emisión y se pagarán los intereses devengados. Como la tasa de interés de mercado era de 6,8%, el bono se transó en MM$ 712,65. Los gastos de colocación alcanzaron a MM$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7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5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2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7627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contrato de arrendamiento con opción de comp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solicita a otra (la empresa de leasing) que adquiera un determinado bien para dárselo simultáneamente en arrenda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contrato establece el pago de una cuota de arrendamiento por un cierto lap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final de ese lapso el arrendatario tiene 3 opcio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olver el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guir arrendánd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ar la opción y quedarse con el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980720"/>
            <a:ext cx="8915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bilización Financie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en leasing (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Leasing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Diferid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de las cuotas de arrend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atoria de las cuo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que generará el contrato durante su vigencia, 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r (2) -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1:18:56Z</dcterms:created>
  <dc:creator>Michael Jorratt</dc:creator>
  <dc:description/>
  <dc:language>en-US</dc:language>
  <cp:lastModifiedBy>IVAN ALVAREZ VALDES</cp:lastModifiedBy>
  <cp:lastPrinted>1999-03-18T20:56:04Z</cp:lastPrinted>
  <dcterms:modified xsi:type="dcterms:W3CDTF">2006-04-10T04:49:51Z</dcterms:modified>
  <cp:revision>12</cp:revision>
  <dc:subject/>
  <dc:title>Primera Parte: Contabilidad Financiera</dc:title>
</cp:coreProperties>
</file>