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5E2-65E5-42B6-8281-F04544F1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8DCC-C3DF-4607-A878-C7570B15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9815-2C24-4B09-A12B-9FAECDC7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D7A-19A5-4FA3-8061-2C5B2C8B7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B2F-F0CE-47C4-87BF-B340CC343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FE56-7B73-49F6-83E3-DCB8FA09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F925-4D3E-494C-B164-378E69E4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4CD1-02F6-473E-BF6D-2DDFB7A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9E35-389B-4ED8-B988-B4A325E8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849B2-E0E8-4D73-8136-3D0128B9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374C-286C-4B05-9B75-7943205A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8154-4E3F-423C-9846-DBD2F800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6B2C-C44C-4229-B076-8E7F3F60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8251C-DCAF-49EB-8D3E-8126B7AD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B71A-927A-4E60-B982-474398825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98B-F457-49BB-B6CC-392BCEAD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0985-F590-4377-BB51-3F01AF05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E0F6-F2D8-4865-A9F7-97894516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CAA-76FC-46A8-AF07-78D8026A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9D36-FDE8-49C5-B46F-85AA54EE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1C23-1FAB-470B-906D-6E545ABC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B594-5E5B-4797-BF50-95275BE4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E6B8-8F2F-4E3F-99DA-0A41B842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1B0-335A-4667-A12B-E37D0302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FAF2-59C7-4988-A4CF-9CF6EC781EF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CE2-50EB-4485-B519-2D65AD8E427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Vicente Astorga Pizarro</cp:lastModifiedBy>
  <cp:lastPrinted>1999-03-18T20:54:39Z</cp:lastPrinted>
  <dcterms:modified xsi:type="dcterms:W3CDTF">2007-03-26T02:34:28Z</dcterms:modified>
  <cp:revision>23</cp:revision>
  <dc:subject/>
  <dc:title>Primera Parte: Contabilidad Financiera</dc:title>
</cp:coreProperties>
</file>