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6908-E8E8-4ADF-A698-A6D298049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B92E-D00A-4AC3-BD1E-68A42C0A6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093D-3522-4F9D-9B76-B35200366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A7BA-D18D-4E07-BC2B-AE507F59A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023C-7CD3-4AC9-A128-1B8FED840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F11F-72D2-47ED-A366-A843ED51E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4A43-6649-42D5-B677-627B3932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1967-4563-40D5-BCA7-78BB12677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A649-1233-480F-88A8-67D503A24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8E1B-89A0-43D1-9530-8287BF58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2835-5541-484E-8EA6-8D532E9A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D33C-E276-4B02-A38C-17039151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0E676-AFB4-464C-91B7-AEDE5879114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Ejemplo de Estados Financier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080" y="1092240"/>
            <a:ext cx="855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ierta empresa muestra el siguiente balance al comenzar el ejercicio (en M$)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22200" y="2205000"/>
          <a:ext cx="8659800" cy="356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2200" y="2205000"/>
                    <a:ext cx="8659800" cy="35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57200" y="2608200"/>
          <a:ext cx="8283600" cy="285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08200"/>
                    <a:ext cx="8283600" cy="28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384840" y="43020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sientos de Cier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1066680"/>
            <a:ext cx="816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spaso de las cuentas de gastos de administración y ventas a una cuenta resumen, denominada gastos de administración y ven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57200" y="1708200"/>
          <a:ext cx="8217000" cy="4705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8200"/>
                    <a:ext cx="8217000" cy="47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523440" y="928800"/>
            <a:ext cx="343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BALANCE GENERAL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5200" y="430200"/>
            <a:ext cx="38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ados Financi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914400" y="1116000"/>
          <a:ext cx="7435800" cy="391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16000"/>
                    <a:ext cx="7435800" cy="39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4582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urante los dos meses siguientes realiza las siguientes transacci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02/01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de mercadería por un monto de M$ 1.200, pagándose 50% a plazo y el resto al contado. El costo de la mercadería fue de M$ 9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04/01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lientes pagan M$ 500 que adeudaban a la empre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15/01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su vez la empresa paga M$ 400 que adeudaba a sus provee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28/01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trega el 50% de los bienes pagados por anticipado, obteniendo un margen de ganancia, sobre ingresos, del 40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06/02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ga M$ 200 por concepto de remuner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28/02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compran muebles por M$ 100, pagando al con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T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deuda se contrajo a un tasa del 2% mensual (lineal) y se debe pagar al cabo de 1 año junto con los intere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l activo fijo le resta una vida útil de 20 años y su valor residual es c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seguro tiene una duración de 1 año y fue contratado hace 2 me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Se pide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gistr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 las transaccione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en el libro di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ibro may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alance de comprobación y sal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sientos de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jus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sientos de cier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ados financi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47600" y="1130400"/>
          <a:ext cx="8834400" cy="430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00" y="1130400"/>
                    <a:ext cx="8834400" cy="43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296640" y="353880"/>
            <a:ext cx="732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gistr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 las transaccione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en el libro di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228600" y="1251000"/>
          <a:ext cx="8647200" cy="3952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51000"/>
                    <a:ext cx="8647200" cy="39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290880" y="303120"/>
            <a:ext cx="838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gistr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de las transaccione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en el libro di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76200" y="1425600"/>
          <a:ext cx="8472600" cy="3495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6200" y="1425600"/>
                    <a:ext cx="8472600" cy="34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291960" y="303120"/>
            <a:ext cx="25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se al May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468360" y="620640"/>
          <a:ext cx="8242200" cy="495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620640"/>
                    <a:ext cx="8242200" cy="495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469800" y="1130400"/>
          <a:ext cx="8310600" cy="45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1130400"/>
                    <a:ext cx="8310600" cy="45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469080" y="353880"/>
            <a:ext cx="59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alance de Comprobación y Sal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143000" y="1600200"/>
          <a:ext cx="7140600" cy="246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00200"/>
                    <a:ext cx="7140600" cy="24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808200" y="304920"/>
            <a:ext cx="376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sientos de Ajus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42920" y="4508640"/>
            <a:ext cx="748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paso siguiente sería traspasar estos asientos al libro may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1T01:00:00Z</dcterms:created>
  <dc:creator>Mjorrat</dc:creator>
  <dc:description/>
  <dc:language>en-US</dc:language>
  <cp:lastModifiedBy>Vicente Astorga Pizarro</cp:lastModifiedBy>
  <dcterms:modified xsi:type="dcterms:W3CDTF">2007-03-26T02:23:13Z</dcterms:modified>
  <cp:revision>11</cp:revision>
  <dc:subject/>
  <dc:title>Ejemplo de Estados Financieros</dc:title>
</cp:coreProperties>
</file>