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6AEF-3F33-44F6-B653-756B34CB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9B7E-446C-41C3-AABD-69896CCE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4F2-F6FE-4ED9-8B06-E99B2E5B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8C4D-24EC-410A-ACE0-360783AC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444-D481-45E5-87E3-82209BD5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BE6-A00D-4BFB-BBE8-89355982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9FF0-C3C4-4A8A-AE10-EF68728D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643A-464B-4BD2-80B8-86A11FE5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6FED-0747-4659-B7DD-D572AC12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DF92-D5B4-4A20-B010-924B3EF4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CEA5-24F4-42D5-B84E-0CE80F12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A99D-0A41-497E-87B0-53444FD1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AD05-FDD8-473C-86DB-9B9095E498C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080" y="1092240"/>
            <a:ext cx="85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erta empresa muestra el siguiente balance al comenzar el ejercicio (en M$)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2200" y="2205000"/>
          <a:ext cx="8659800" cy="35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865980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608200"/>
          <a:ext cx="8283600" cy="28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08200"/>
                    <a:ext cx="828360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4840" y="4302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06668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paso de las cuentas de gastos de administración y ventas a una cuenta resumen, denominada gastos de administración y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1708200"/>
          <a:ext cx="8217000" cy="47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8200"/>
                    <a:ext cx="821700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3440" y="928800"/>
            <a:ext cx="34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ALANCE GENER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5200" y="4302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4400" y="1116000"/>
          <a:ext cx="7435800" cy="39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16000"/>
                    <a:ext cx="74358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nte los dos meses siguientes realiza las siguientes trans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2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de mercadería por un monto de M$ 1.200, pagándose 50% a plazo y el resto al contado. El costo de la mercadería fue de M$ 9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4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s pagan M$ 500 que adeudaban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5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su vez la empresa paga M$ 400 que adeudaba a su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ga el 50% de los bienes pagados por anticipado, obteniendo un margen de ganancia, sobre ingresos, del 4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6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ga M$ 200 por concepto de remun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mpran muebles por M$ 100, pagando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uda se contrajo a un tasa del 2% mensual (lineal) y se debe pagar al cabo de 1 año junto con los inter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activo fijo le resta una vida útil de 20 años y su valor residual es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eguro tiene una duración de 1 año y fue contratado hace 2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 pid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7600" y="1130400"/>
          <a:ext cx="8834400" cy="43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1130400"/>
                    <a:ext cx="883440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96640" y="3538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1251000"/>
          <a:ext cx="864720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51000"/>
                    <a:ext cx="86472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90880" y="303120"/>
            <a:ext cx="83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76200" y="1425600"/>
          <a:ext cx="8472600" cy="34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425600"/>
                    <a:ext cx="84726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91960" y="30312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e al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68360" y="620640"/>
          <a:ext cx="8242200" cy="495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24220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69800" y="1130400"/>
          <a:ext cx="831060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130400"/>
                    <a:ext cx="831060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69080" y="3538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1600200"/>
          <a:ext cx="7140600" cy="24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406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08200" y="30492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50864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aso siguiente sería traspasar estos asientos al libro may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01:00:00Z</dcterms:created>
  <dc:creator>Mjorrat</dc:creator>
  <dc:description/>
  <dc:language>en-US</dc:language>
  <cp:lastModifiedBy>Vicente Astorga Pizarro</cp:lastModifiedBy>
  <dcterms:modified xsi:type="dcterms:W3CDTF">2007-03-26T02:23:13Z</dcterms:modified>
  <cp:revision>11</cp:revision>
  <dc:subject/>
  <dc:title>Ejemplo de Estados Financieros</dc:title>
</cp:coreProperties>
</file>