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3C1-A46F-493F-BF3D-7003F1AB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528-AD6B-41A6-8DA5-D413903C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272-EAEA-4564-A39D-594CC34E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48C-5140-47DE-B83D-F20C5107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7D1-596B-4E35-80C2-D0197DF1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E59-25FB-4EFF-B1A4-060336B0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D2B-E4B1-4C67-9044-BBC0F018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5FA-1E81-4BAA-8A41-E1DAF699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90F3-87A7-4D22-995A-8DA3A64F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B06-672B-4EED-9750-73A85499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765-E604-47DE-832F-2E003420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AE3-1501-4644-84EA-9847A6F0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62A8-4982-410F-931F-F37D176379C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080" y="1092240"/>
            <a:ext cx="85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ta empresa muestra el siguiente balance al comenzar el ejercicio (en M$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2200" y="2205000"/>
          <a:ext cx="8659800" cy="35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865980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608200"/>
          <a:ext cx="8283600" cy="28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8200"/>
                    <a:ext cx="82836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4840" y="4302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so de las cuentas de gastos de administración y ventas a una cuenta resumen, denominada gastos de administración y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708200"/>
          <a:ext cx="821700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8200"/>
                    <a:ext cx="82170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3440" y="928800"/>
            <a:ext cx="34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LANCE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200" y="4302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1116000"/>
          <a:ext cx="743580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16000"/>
                    <a:ext cx="74358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los dos meses siguientes realiza las siguientes trans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2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de mercadería por un monto de M$ 1.200, pagándose 50% a plazo y el resto al contado. El costo de la mercadería fue de M$ 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4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s pagan M$ 500 que adeudaban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su vez la empresa paga M$ 400 que adeudaba a su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el 50% de los bienes pagados por anticipado, obteniendo un margen de ganancia, sobre ingresos, del 4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6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ga M$ 200 por concepto de remun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ran muebles por M$ 100, pagando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uda se contrajo a un tasa del 2% mensual (lineal) y se debe pagar al cabo de 1 año junto con los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activo fijo le resta una vida útil de 20 años y su valor residual es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ro tiene una duración de 1 año y fue contratado hace 2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pid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7600" y="1130400"/>
          <a:ext cx="883440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130400"/>
                    <a:ext cx="88344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6640" y="3538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251000"/>
          <a:ext cx="86472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1000"/>
                    <a:ext cx="86472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90880" y="303120"/>
            <a:ext cx="83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6200" y="1425600"/>
          <a:ext cx="847260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425600"/>
                    <a:ext cx="84726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91960" y="30312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e al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360" y="620640"/>
          <a:ext cx="8242200" cy="495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422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9800" y="1130400"/>
          <a:ext cx="831060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130400"/>
                    <a:ext cx="831060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9080" y="35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00200"/>
          <a:ext cx="714060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406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08200" y="30492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50864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aso siguiente sería traspasar estos asientos al libro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1:00:00Z</dcterms:created>
  <dc:creator>Mjorrat</dc:creator>
  <dc:description/>
  <dc:language>en-US</dc:language>
  <cp:lastModifiedBy>Vicente Astorga Pizarro</cp:lastModifiedBy>
  <dcterms:modified xsi:type="dcterms:W3CDTF">2007-03-26T02:23:13Z</dcterms:modified>
  <cp:revision>11</cp:revision>
  <dc:subject/>
  <dc:title>Ejemplo de Estados Financieros</dc:title>
</cp:coreProperties>
</file>