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8AFE-1A7D-43A0-8BD2-603A9EF3C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63D7-349D-4613-BA53-886977EA2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E2F4-641A-4995-AE16-E0CCA6841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D6E2-34D5-4161-8A96-D36181EA5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CAF95-8C1D-432A-AF13-85E7E2CFE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1F4F3-5CA9-4DCD-807E-8D210C37B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388D6-157B-46D6-98CC-A46114396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D74AE-B6F7-42B6-8133-64B193789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153AF-1958-4931-B929-D685DF0EF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86057-6C95-45C6-BE0B-A2671231E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F4E0E-A91B-42D7-A0B6-05EEBEC0D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AD0E-3E88-447B-8444-6A2F6C8EC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06F2D-0783-474B-8269-39F79201D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A86C8-0B67-4597-A707-13A946941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92C60-5B4F-48A4-8F82-E112F1C29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7F5E9-DEDE-414D-8477-C21047C97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FE910-9D17-4E50-B430-9356EB2EC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3E8D-8A5C-439F-A1F2-333821C6D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7EF4-4F1E-4C09-8530-5513C6BFC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076B-829E-4009-B1EE-2B2B59FE1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EAF1-A000-4CF7-8A3B-A8152C20C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EDD1-468C-4133-8D9B-898A179A0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A5D0-3EA4-4377-B4BF-B1539777D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B1DD-6846-493E-AC35-E4BE4C7A9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F96CA-6E03-4DCA-9E00-CCC98ABF01E1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30C2E-3086-4911-BB72-C59065B46225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240" y="990360"/>
            <a:ext cx="708660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imera Parte: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ntabilidad Financiera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773440"/>
            <a:ext cx="8229600" cy="335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pítulo 5: Pasiv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3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compra una camioneta vía leasing. El contrato establece 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o de 6 cuotas iguales de m$ 1.000, las que incluyen u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mensual del 1%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P =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.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.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.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.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.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.000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1.01)    (1.01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1.01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(1.01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(1.01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(1.01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P = 5.795,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Diferido = 6.000 - 5.795,5 = 204,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3 (cont.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1532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Registro Inici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be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Fijo en leasing (A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.795,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Diferido (CP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204,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por Leasing (P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l primer m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por leas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Financiero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57,9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Diferid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57,9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3 (cont.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50920" y="1676520"/>
            <a:ext cx="864216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¿Qué parte de la cuota mensual corresponde a interés 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ánto a capital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Mes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apital por amortizar   Interés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api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.795,48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57,9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42,0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.853,4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48,5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51,4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901,97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39,0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60,9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940,99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29,4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70,5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970,4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19,7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80,3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990,1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9,9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90,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0,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s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7627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abilización Tributari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cuota del leasing es un gasto. Sólo se registra como acti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última cuota (opción), la cual se depreci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be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ota contrato de leas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gasto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39640" y="5589720"/>
            <a:ext cx="7920000" cy="4582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ventaja fundamental del leasing es tributari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siv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incipales rubros del pasi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con el públ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a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ncipales Rubros del Pasiv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5345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con bancos e instituciones financier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con el públ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videndos por pag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entas por pagar, Documentos por pagar y Acreedores var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sion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tenc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uesto a la ren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percibidos por adelant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uestos diferi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59932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ligaciones con el Público (Bono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Valor de emis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Monto que se pagará al tenedor del bo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Tasa de emis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tasa de interés que se devengar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Valor Pa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capital no amortizado más intereses devengados y no pag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Valor de mercad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precio al que se transa el bono (en función de la tasa de interés de mercad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Cup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pago parcial del bono, que puede incluir amortización del capital y/o interes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3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1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emite una serie de bonos a 5 años plazo con valor de emisión de MM$ 700 y tasa de emisión de 6,5%. Anualmente se amortizará la quinta parte del valor de emisión y se pagarán los intereses devengados.  Como la tasa de interés de mercado es de 7,2%, el bono se transó en MM$ 687,46. Los gastos de colocación alcanzaron a MM$ 5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isponible (A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682,4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Gastos financieros (G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5,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terés diferido (CP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   12,5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Obligación con el público (P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7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3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1 (cont.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imer cupón (pago de capital e intereses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ón con el público (P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40,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financieros (G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45,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financieros (G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2,5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 (A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85,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diferido (CP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2,5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79135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2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52280" y="1371240"/>
            <a:ext cx="883944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emite una serie de bonos a 5 años plazo con valor de emisión de MM$ 700 y tasa de emisión de 7,5%. Anualmente se amortizará la quinta parte del valor de emisión y se pagarán los intereses devengados. Como la tasa de interés de mercado era de 6,8%, el bono se transó en MM$ 712,65. Los gastos de colocación alcanzaron a MM$ 5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isponible (A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707,6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Gastos financieros (G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5,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greso Financiero (I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12,6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Obligación con el público (P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700,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s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76276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 un contrato de arrendamiento con opción de comp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a empresa solicita a otra (la empresa de leasing) que adquiera un determinado bien para dárselo simultáneamente en arrendamien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contrato establece el pago de una cuota de arrendamiento por un cierto laps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 final de ese lapso el arrendatario tiene 3 opcion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volver el bi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guir arrendándol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ar la opción y quedarse con el bi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s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51920" y="1980720"/>
            <a:ext cx="8915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abilización Financier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ctivo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asiv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Fijo en leasing (1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en Leasing 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eses Diferido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 Presente de las cuotas de arrenda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2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matoria de las cuot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3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que generará el contrato durante su vigencia, e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cir (2) - 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11T21:18:56Z</dcterms:created>
  <dc:creator>Michael Jorratt</dc:creator>
  <dc:description/>
  <dc:language>en-US</dc:language>
  <cp:lastModifiedBy>IVAN ALVAREZ VALDES</cp:lastModifiedBy>
  <cp:lastPrinted>1999-03-18T20:56:04Z</cp:lastPrinted>
  <dcterms:modified xsi:type="dcterms:W3CDTF">2006-04-10T04:49:51Z</dcterms:modified>
  <cp:revision>12</cp:revision>
  <dc:subject/>
  <dc:title>Primera Parte: Contabilidad Financiera</dc:title>
</cp:coreProperties>
</file>